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4C1-78F3-4327-8AC8-51234CAF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9DF-AA76-46E2-B49D-7D4B8C7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A08-E4EE-43E4-886C-B6A17A91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3E7-D022-4B6D-B9D2-400ADD5D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AC4-283B-4F5B-AE82-B642BF7C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798-EAAC-4180-A6A7-8810AB0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C44-8884-4BA5-9803-26504BF9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E23-0D18-42C8-9670-7287BFA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68A-50DA-41AA-8201-0FEC52C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6B3-5553-4BFB-B403-F6F49E8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EC5-2C0C-4D55-BB71-0FAA313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D6A-8C4D-4FA6-B794-1BF26C4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442-90F4-48D7-A59C-948F2E5D36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5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3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3.jpeg"/><Relationship Id="rId10" Type="http://schemas.openxmlformats.org/officeDocument/2006/relationships/slide" Target="slide1.xm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08000" y="1508040"/>
            <a:ext cx="9036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إذا سـرت فـى الـظـلام وتـهـت عـنـه فـالــرب دومــا مـعـ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42920" y="3573360"/>
            <a:ext cx="9468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800" spc="-1" strike="noStrike">
                <a:solidFill>
                  <a:srgbClr val="ffff66"/>
                </a:solidFill>
                <a:latin typeface="Arial"/>
              </a:rPr>
              <a:t>إذا جائتني الضـيقات وانـزعـج قـلـبي فــالــرب دومــا مـعـي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6364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08000" y="177480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08000" y="306864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0" y="1508040"/>
            <a:ext cx="8856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حين أصلى فى المخدع والباب مغلق فالرب دوما مع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3716280"/>
            <a:ext cx="864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حيـن أصـنع صـدقة لايـراها الـناس فالرب دوما مع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08000" y="191772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8000" y="321300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920" y="1568520"/>
            <a:ext cx="8928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800" spc="-1" strike="noStrike">
                <a:solidFill>
                  <a:srgbClr val="ffff66"/>
                </a:solidFill>
                <a:latin typeface="Arial"/>
              </a:rPr>
              <a:t>الضعفاء والمحتاجون وعديمو القوة الرب دوما معهم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52360" y="3429000"/>
            <a:ext cx="9432720" cy="265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كل الآخوة والآخوات فى جسد المسيح الرب دوما معهم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34920" y="227808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08000" y="350028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4572000" y="1413000"/>
            <a:ext cx="453708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حين أصلي 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4572000" y="2433600"/>
            <a:ext cx="453708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ضعفاء و المحتاجو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أهتف ل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4643280" y="417600"/>
            <a:ext cx="446580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ذا سرت 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59:08Z</dcterms:created>
  <dc:creator>www.taranimarabia.org</dc:creator>
  <dc:description/>
  <dc:language>en-US</dc:language>
  <cp:lastModifiedBy>Sp2</cp:lastModifiedBy>
  <dcterms:modified xsi:type="dcterms:W3CDTF">2008-09-08T23:14:19Z</dcterms:modified>
  <cp:revision>20</cp:revision>
  <dc:subject/>
  <dc:title>إذا سرت في الظلام</dc:title>
</cp:coreProperties>
</file>