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0CB-AD1B-4ACD-A28E-8136E30F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C42-8FF2-4705-8B77-9B71D5DF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C75-5CE2-4E79-8193-39D5EA7E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543-030C-4AFE-AED8-5C0DE65B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3BE-F1EC-4E65-9742-78A92F10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D43-2AE4-4402-98AD-F6EC744E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5C9-81A2-41C1-ABF3-1FC74BB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A2A-AA42-482E-8AFA-3FAEF6D3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053-E6D9-402C-91CF-83727F7F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59D-3387-4473-AB5E-A3D24E1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35D-A118-495A-B52F-1E55B4E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59B-A830-42C7-8172-4C1DB5F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51A-319E-4606-B0DB-32A6EB56AB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5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3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3.jpeg"/><Relationship Id="rId10" Type="http://schemas.openxmlformats.org/officeDocument/2006/relationships/slide" Target="slide1.xm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08000" y="1508040"/>
            <a:ext cx="9036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إذا سـرت فـى الـظـلام وتـهـت عـنـه فـالــرب دومــا مـعـ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42920" y="3573360"/>
            <a:ext cx="9468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800" spc="-1" strike="noStrike">
                <a:solidFill>
                  <a:srgbClr val="ffff66"/>
                </a:solidFill>
                <a:latin typeface="Arial"/>
              </a:rPr>
              <a:t>إذا جائتني الضـيقات وانـزعـج قـلـبي فــالــرب دومــا مـعـي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6364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08000" y="177480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أهتف لك هللو هللويا هللو هللو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08000" y="3068640"/>
            <a:ext cx="900108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نهتف لك هللو هللويا الرب يسير معنا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60" y="1508040"/>
            <a:ext cx="8856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حين أصلى فى المخدع والباب مغلق فالرب دوما مع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3716280"/>
            <a:ext cx="864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حيـن أصـنع صـدقة لايـراها الـناس فالرب دوما مع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08000" y="191772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أهتف لك هللو هللويا هللو هللو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8000" y="3213000"/>
            <a:ext cx="900108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نهتف لك هللو هللويا الرب يسير معنا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920" y="1568520"/>
            <a:ext cx="8928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800" spc="-1" strike="noStrike">
                <a:solidFill>
                  <a:srgbClr val="ffff66"/>
                </a:solidFill>
                <a:latin typeface="Arial"/>
              </a:rPr>
              <a:t>الضعفاء والمحتاجون وعديمو القوة الرب دوما معهم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52360" y="3429000"/>
            <a:ext cx="9432720" cy="265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كل الآخوة والآخوات فى جسد المسيح الرب دوما معهم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34920" y="2278080"/>
            <a:ext cx="91440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>
                <a:solidFill>
                  <a:srgbClr val="ffff66"/>
                </a:solidFill>
                <a:latin typeface="Arial"/>
              </a:rPr>
              <a:t>أهتف لك هللو هللويا هللو هللو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08000" y="3500280"/>
            <a:ext cx="900108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5600" spc="-1" strike="noStrike">
                <a:solidFill>
                  <a:srgbClr val="ffff66"/>
                </a:solidFill>
                <a:latin typeface="Arial"/>
              </a:rPr>
              <a:t>نهتف لك هللو هللويا الرب يسير معنا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4572000" y="1413000"/>
            <a:ext cx="453708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حين أصلي 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4572000" y="2433600"/>
            <a:ext cx="453708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لضعفاء و المحتاجو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أهتف لك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4643280" y="417600"/>
            <a:ext cx="446580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اذا سرت 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59:08Z</dcterms:created>
  <dc:creator>www.taranimarabia.org</dc:creator>
  <dc:description/>
  <dc:language>en-US</dc:language>
  <cp:lastModifiedBy>Sp2</cp:lastModifiedBy>
  <dcterms:modified xsi:type="dcterms:W3CDTF">2008-09-08T23:14:19Z</dcterms:modified>
  <cp:revision>20</cp:revision>
  <dc:subject/>
  <dc:title>إذا سرت في الظلام</dc:title>
</cp:coreProperties>
</file>