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13C2-56FB-474D-8E28-5776B4DB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33F8-4F93-442E-9FA5-9FF7A907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1F6A-1E5B-48FA-A4F6-C87B7E72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569E-DA39-43BD-9801-2E47A37B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B68E-221C-4868-ABAC-CA0F60C9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D8D4-3F40-4056-B8EF-8423D60A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3A70-8BFE-471A-B2A8-D115AAED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09E0-FE67-42F0-B54F-39B0D7B3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D0F3-B112-436D-95A0-EDBBA375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F910-4DE3-4E6E-AC9B-76D5084D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81E3-69DB-46BF-AC39-DAC7FF76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7360-CB23-4017-81F1-E7CC9147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CB81A-48BA-4FA4-8CCF-18B7DB773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24980A-E3D2-4A97-99DF-94FC2CCF6C49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2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2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2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2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2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2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2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2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2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2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2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5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59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3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215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218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21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24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27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9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30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23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23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4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43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4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49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3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253" name="Picture 6" descr=""/>
            <p:cNvPicPr/>
            <p:nvPr/>
          </p:nvPicPr>
          <p:blipFill>
            <a:blip r:embed="rId2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7"/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256" name="Picture 9" descr=""/>
            <p:cNvPicPr/>
            <p:nvPr/>
          </p:nvPicPr>
          <p:blipFill>
            <a:blip r:embed="rId3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10"/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59" name="Picture 12" descr=""/>
            <p:cNvPicPr/>
            <p:nvPr/>
          </p:nvPicPr>
          <p:blipFill>
            <a:blip r:embed="rId4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13"/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62" name="Picture 15" descr=""/>
            <p:cNvPicPr/>
            <p:nvPr/>
          </p:nvPicPr>
          <p:blipFill>
            <a:blip r:embed="rId5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16"/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65" name="Picture 18" descr=""/>
            <p:cNvPicPr/>
            <p:nvPr/>
          </p:nvPicPr>
          <p:blipFill>
            <a:blip r:embed="rId6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19"/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68" name="Picture 21" descr=""/>
            <p:cNvPicPr/>
            <p:nvPr/>
          </p:nvPicPr>
          <p:blipFill>
            <a:blip r:embed="rId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22"/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3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6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6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6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72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75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78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8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8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8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91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94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97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3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0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04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07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10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13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16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2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2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2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29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3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35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3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3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4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4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48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51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54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5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6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6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67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70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73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3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7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8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8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86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89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92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05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0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11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4:53:16Z</dcterms:created>
  <dc:creator>최봉수</dc:creator>
  <dc:description/>
  <dc:language>en-US</dc:language>
  <cp:lastModifiedBy>군만두 맛있다</cp:lastModifiedBy>
  <dcterms:modified xsi:type="dcterms:W3CDTF">2023-07-12T05:42:36Z</dcterms:modified>
  <cp:revision>3</cp:revision>
  <dc:subject/>
  <dc:title>슬라이드 1</dc:title>
</cp:coreProperties>
</file>