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FAE-0530-4777-BAC5-48D0A7D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B20-CC17-44F6-A20A-4F8796E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ED1-D55F-4B4D-B8FF-DD11368D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243-A821-4107-8D0E-EB4FC0C6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1A6-4853-479E-8E87-7F9C959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D8A-BBA0-4D52-B3EA-33668C2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35A-9CFD-4189-8145-1D2F9981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270-B6E4-4587-AE4D-E564F2A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C8D-B616-4EF2-8A6E-A259D14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F67-234E-4F1E-9502-D8552D0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494-AD3C-4831-AFEF-D428EBB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213-EA66-49B1-8D8B-DCF19DD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320B7-592F-476E-A2A6-B6E735333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375F6-9946-4A2D-B5B1-D4D1DB3FA77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2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53:16Z</dcterms:created>
  <dc:creator>최봉수</dc:creator>
  <dc:description/>
  <dc:language>en-US</dc:language>
  <cp:lastModifiedBy>군만두 맛있다</cp:lastModifiedBy>
  <dcterms:modified xsi:type="dcterms:W3CDTF">2023-07-12T05:42:36Z</dcterms:modified>
  <cp:revision>3</cp:revision>
  <dc:subject/>
  <dc:title>슬라이드 1</dc:title>
</cp:coreProperties>
</file>