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Jim%20reeves%20-%20Roses%20are%20red%20my%20love.wav" ContentType="audio/x-wav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gif" ContentType="image/gif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0.gif" ContentType="image/gif"/>
  <Override PartName="/ppt/media/image13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AEE7-55F6-489A-90DD-CDDE5E19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4273-8F8E-451B-8C54-E08910F0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FDA0-B58B-4434-9C4E-086217E1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C84F-F48F-41C0-9EE6-DEF2A5F5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7FA7-BBE5-42F5-89C7-1D1C477D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76CA-0AAB-40F3-B182-6C5F2352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C88E-CDE7-48BB-891D-E42D7DDC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3798-F840-47A0-8D1E-7F15E885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49B8-6EA0-4805-832C-3E5C2E05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AE0B-26E8-4EC5-A054-AA71494C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5F44-1F75-4E22-9808-D5392E55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712C-31E8-492B-B688-CF15DFA1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BEEB-AA6D-40BB-8FBC-EFA7E4627CAD}" type="slidenum">
              <a:rPr b="0" lang="nl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im%20reeves%20-%20Roses%20are%20red%20my%20lov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81080" y="-307800"/>
            <a:ext cx="10080720" cy="7472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-31608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189000"/>
            <a:ext cx="59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6237360"/>
            <a:ext cx="19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04000" y="6021360"/>
            <a:ext cx="180036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04000" y="609300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cc0099"/>
                </a:solidFill>
                <a:latin typeface="Poor Richard"/>
              </a:rPr>
              <a:t>Vrij naar Prediker 3: 1-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22200" y="115920"/>
            <a:ext cx="6697800" cy="865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6cc"/>
              </a:gs>
              <a:gs pos="50000">
                <a:srgbClr val="000000"/>
              </a:gs>
              <a:gs pos="100000">
                <a:srgbClr val="ff66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11280" y="0"/>
            <a:ext cx="6120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008080"/>
                </a:solidFill>
                <a:latin typeface="Poor Richard"/>
              </a:rPr>
              <a:t>Op gepaste tij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809880" cy="5715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124000" y="2276640"/>
            <a:ext cx="2849760" cy="4273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851280" y="3429000"/>
            <a:ext cx="2033640" cy="3049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975280" y="1628640"/>
            <a:ext cx="3168720" cy="4105440"/>
          </a:xfrm>
          <a:prstGeom prst="foldedCorner">
            <a:avLst>
              <a:gd name="adj" fmla="val 35421"/>
            </a:avLst>
          </a:prstGeom>
          <a:gradFill rotWithShape="0">
            <a:gsLst>
              <a:gs pos="0">
                <a:srgbClr val="2f5340"/>
              </a:gs>
              <a:gs pos="50000">
                <a:srgbClr val="000000"/>
              </a:gs>
              <a:gs pos="100000">
                <a:srgbClr val="2f534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43640" y="2205000"/>
            <a:ext cx="24494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oor Richard"/>
              </a:rPr>
              <a:t>Een tij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Poor Richard"/>
              </a:rPr>
              <a:t>voo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Poor Richard"/>
              </a:rPr>
              <a:t>het alleen 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oor Richard"/>
              </a:rPr>
              <a:t>en een tij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Poor Richard"/>
              </a:rPr>
              <a:t>van samenzij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859280" y="404640"/>
            <a:ext cx="3954600" cy="5950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68360" y="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48360" y="623736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8e81cd"/>
                </a:solidFill>
                <a:latin typeface="Poor Richard"/>
              </a:rPr>
              <a:t>Sylvi@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413000"/>
            <a:ext cx="331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2360" y="836640"/>
            <a:ext cx="4319640" cy="4896000"/>
          </a:xfrm>
          <a:prstGeom prst="verticalScroll">
            <a:avLst>
              <a:gd name="adj" fmla="val 21342"/>
            </a:avLst>
          </a:prstGeom>
          <a:gradFill rotWithShape="0">
            <a:gsLst>
              <a:gs pos="0">
                <a:srgbClr val="000000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206064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47640" y="2104920"/>
            <a:ext cx="1873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Poor Richard"/>
              </a:rPr>
              <a:t>Leer mij aanvaarden</a:t>
            </a:r>
            <a:br>
              <a:rPr sz="2400"/>
            </a:br>
            <a:r>
              <a:rPr b="0" lang="nl-BE" sz="2400" spc="-1" strike="noStrike">
                <a:solidFill>
                  <a:srgbClr val="ffffcc"/>
                </a:solidFill>
                <a:latin typeface="Poor Richard"/>
              </a:rPr>
              <a:t>dat er </a:t>
            </a:r>
            <a:br>
              <a:rPr sz="2400"/>
            </a:br>
            <a:r>
              <a:rPr b="0" lang="nl-BE" sz="2400" spc="-1" strike="noStrike">
                <a:solidFill>
                  <a:srgbClr val="ffffcc"/>
                </a:solidFill>
                <a:latin typeface="Poor Richard"/>
              </a:rPr>
              <a:t>een tijd is </a:t>
            </a:r>
            <a:br>
              <a:rPr sz="2400"/>
            </a:br>
            <a:r>
              <a:rPr b="0" lang="nl-BE" sz="2400" spc="-1" strike="noStrike">
                <a:solidFill>
                  <a:srgbClr val="ffffcc"/>
                </a:solidFill>
                <a:latin typeface="Poor Richard"/>
              </a:rPr>
              <a:t>om</a:t>
            </a:r>
            <a:br>
              <a:rPr sz="2400"/>
            </a:br>
            <a:r>
              <a:rPr b="0" lang="nl-BE" sz="2400" spc="-1" strike="noStrike">
                <a:solidFill>
                  <a:srgbClr val="ffffcc"/>
                </a:solidFill>
                <a:latin typeface="Poor Richard"/>
              </a:rPr>
              <a:t>te wachten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68360" y="333360"/>
            <a:ext cx="23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765000"/>
            <a:ext cx="2520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43640" y="486900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83664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9900"/>
                </a:solidFill>
                <a:latin typeface="Poor Richard"/>
              </a:rPr>
              <a:t>en een tijd </a:t>
            </a:r>
            <a:br>
              <a:rPr sz="2400"/>
            </a:br>
            <a:r>
              <a:rPr b="0" lang="nl-BE" sz="2400" spc="-1" strike="noStrike">
                <a:solidFill>
                  <a:srgbClr val="009900"/>
                </a:solidFill>
                <a:latin typeface="Poor Richard"/>
              </a:rPr>
              <a:t>om zich te haas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3889440" cy="5185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003640" y="981000"/>
            <a:ext cx="3889440" cy="4176720"/>
          </a:xfrm>
          <a:prstGeom prst="verticalScroll">
            <a:avLst>
              <a:gd name="adj" fmla="val 22083"/>
            </a:avLst>
          </a:prstGeom>
          <a:gradFill rotWithShape="0">
            <a:gsLst>
              <a:gs pos="0">
                <a:srgbClr val="000000"/>
              </a:gs>
              <a:gs pos="100000">
                <a:srgbClr val="3366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84720" y="2060640"/>
            <a:ext cx="244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cc3300"/>
                </a:solidFill>
                <a:latin typeface="Poor Richard"/>
              </a:rPr>
              <a:t>Een tijd </a:t>
            </a:r>
            <a:br>
              <a:rPr sz="2400"/>
            </a:br>
            <a:r>
              <a:rPr b="0" lang="nl-BE" sz="2400" spc="-1" strike="noStrike">
                <a:solidFill>
                  <a:srgbClr val="cc3300"/>
                </a:solidFill>
                <a:latin typeface="Poor Richard"/>
              </a:rPr>
              <a:t>om te vergaren</a:t>
            </a:r>
            <a:br>
              <a:rPr sz="2400"/>
            </a:br>
            <a:r>
              <a:rPr b="0" lang="nl-BE" sz="2400" spc="-1" strike="noStrike">
                <a:solidFill>
                  <a:srgbClr val="cc3300"/>
                </a:solidFill>
                <a:latin typeface="Poor Richard"/>
              </a:rPr>
              <a:t>en </a:t>
            </a:r>
            <a:br>
              <a:rPr sz="2400"/>
            </a:br>
            <a:r>
              <a:rPr b="0" lang="nl-BE" sz="2400" spc="-1" strike="noStrike">
                <a:solidFill>
                  <a:srgbClr val="cc3300"/>
                </a:solidFill>
                <a:latin typeface="Poor Richard"/>
              </a:rPr>
              <a:t>een tijd </a:t>
            </a:r>
            <a:br>
              <a:rPr sz="2400"/>
            </a:br>
            <a:r>
              <a:rPr b="0" lang="nl-BE" sz="2400" spc="-1" strike="noStrike">
                <a:solidFill>
                  <a:srgbClr val="cc3300"/>
                </a:solidFill>
                <a:latin typeface="Poor Richard"/>
              </a:rPr>
              <a:t>om weg </a:t>
            </a:r>
            <a:br>
              <a:rPr sz="2400"/>
            </a:br>
            <a:r>
              <a:rPr b="0" lang="nl-BE" sz="2400" spc="-1" strike="noStrike">
                <a:solidFill>
                  <a:srgbClr val="cc3300"/>
                </a:solidFill>
                <a:latin typeface="Poor Richard"/>
              </a:rPr>
              <a:t>te schen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76720" y="836640"/>
            <a:ext cx="4067280" cy="5661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9280" y="26028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148428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052640"/>
            <a:ext cx="2735280" cy="367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2347920"/>
            <a:ext cx="2305080" cy="216072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b5e3c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0" y="283536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Poor Richard"/>
              </a:rPr>
              <a:t>Een tijd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Poor Richard"/>
              </a:rPr>
              <a:t>om zichzelf 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Poor Richard"/>
              </a:rPr>
              <a:t>te v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7308" t="8462" r="19231" b="8462"/>
          <a:stretch/>
        </p:blipFill>
        <p:spPr>
          <a:xfrm>
            <a:off x="4305240" y="0"/>
            <a:ext cx="4838760" cy="5472000"/>
          </a:xfrm>
          <a:prstGeom prst="rect">
            <a:avLst/>
          </a:prstGeom>
          <a:ln w="0">
            <a:noFill/>
          </a:ln>
        </p:spPr>
      </p:pic>
      <p:sp>
        <p:nvSpPr>
          <p:cNvPr id="104" name="plant"/>
          <p:cNvSpPr/>
          <p:nvPr/>
        </p:nvSpPr>
        <p:spPr>
          <a:xfrm>
            <a:off x="684360" y="189000"/>
            <a:ext cx="2735280" cy="2160360"/>
          </a:xfrm>
          <a:prstGeom prst="pie">
            <a:avLst/>
          </a:prstGeom>
          <a:noFill/>
          <a:ln w="57240">
            <a:solidFill>
              <a:srgbClr val="ebe67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400536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00"/>
                </a:solidFill>
                <a:latin typeface="Poor Richard"/>
              </a:rPr>
              <a:t>En een tijd </a:t>
            </a:r>
            <a:br>
              <a:rPr sz="2400"/>
            </a:br>
            <a:r>
              <a:rPr b="0" lang="nl-BE" sz="2400" spc="-1" strike="noStrike">
                <a:solidFill>
                  <a:srgbClr val="ffff00"/>
                </a:solidFill>
                <a:latin typeface="Poor Richard"/>
              </a:rPr>
              <a:t>om</a:t>
            </a:r>
            <a:br>
              <a:rPr sz="2400"/>
            </a:br>
            <a:r>
              <a:rPr b="0" lang="nl-BE" sz="2400" spc="-1" strike="noStrike">
                <a:solidFill>
                  <a:srgbClr val="ffff00"/>
                </a:solidFill>
                <a:latin typeface="Poor Richard"/>
              </a:rPr>
              <a:t>anderen te hel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4665600" cy="5832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012000" y="1339920"/>
            <a:ext cx="2519280" cy="4176720"/>
          </a:xfrm>
          <a:custGeom>
            <a:avLst/>
            <a:gdLst>
              <a:gd name="textAreaLeft" fmla="*/ 122760 w 2519280"/>
              <a:gd name="textAreaRight" fmla="*/ 2396520 w 2519280"/>
              <a:gd name="textAreaTop" fmla="*/ 122760 h 4176720"/>
              <a:gd name="textAreaBottom" fmla="*/ 4053960 h 4176720"/>
            </a:gdLst>
            <a:ahLst/>
            <a:rect l="textAreaLeft" t="textAreaTop" r="textAreaRight" b="textAreaBottom"/>
            <a:pathLst>
              <a:path w="21600" h="35809">
                <a:moveTo>
                  <a:pt x="3600" y="0"/>
                </a:moveTo>
                <a:arcTo wR="3600" hR="3600" stAng="16200000" swAng="-5400000"/>
                <a:lnTo>
                  <a:pt x="0" y="32209"/>
                </a:lnTo>
                <a:arcTo wR="3600" hR="3600" stAng="10800000" swAng="-5400000"/>
                <a:lnTo>
                  <a:pt x="18000" y="358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50000">
                <a:srgbClr val="ff66ff"/>
              </a:gs>
              <a:gs pos="100000">
                <a:srgbClr val="cc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27640" y="1773360"/>
            <a:ext cx="223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Poor Richard"/>
              </a:rPr>
              <a:t>Verleen, 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Poor Richard"/>
              </a:rPr>
              <a:t>mij, Heer,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Poor Richard"/>
              </a:rPr>
              <a:t>dit rechte gebruik 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Poor Richard"/>
              </a:rPr>
              <a:t>van de tijd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Poor Richard"/>
              </a:rPr>
              <a:t>totdat 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Poor Richard"/>
              </a:rPr>
              <a:t>Gij komt 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Poor Richard"/>
              </a:rPr>
              <a:t>en zeg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5651640" cy="4397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724360" y="1773360"/>
            <a:ext cx="259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96000" y="4292640"/>
            <a:ext cx="3168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84720" y="450864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00"/>
                </a:solidFill>
                <a:latin typeface="Poor Richard"/>
              </a:rPr>
              <a:t>“</a:t>
            </a:r>
            <a:r>
              <a:rPr b="0" lang="nl-BE" sz="2400" spc="-1" strike="noStrike">
                <a:solidFill>
                  <a:srgbClr val="ffff00"/>
                </a:solidFill>
                <a:latin typeface="Poor Richard"/>
              </a:rPr>
              <a:t>Dit is de tijd</a:t>
            </a:r>
            <a:br>
              <a:rPr sz="2400"/>
            </a:br>
            <a:r>
              <a:rPr b="0" lang="nl-BE" sz="2400" spc="-1" strike="noStrike">
                <a:solidFill>
                  <a:srgbClr val="ffff00"/>
                </a:solidFill>
                <a:latin typeface="Poor Richard"/>
              </a:rPr>
              <a:t>die elke tijd vervul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-819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547640" y="981000"/>
            <a:ext cx="60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36000" y="5516640"/>
            <a:ext cx="1655640" cy="2872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Poor Richard"/>
              </a:rPr>
              <a:t>a.leenders@skynet.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3933720"/>
            <a:ext cx="273528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4005360"/>
            <a:ext cx="21603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9900"/>
                </a:solidFill>
                <a:latin typeface="Poor Richard"/>
              </a:rPr>
              <a:t>“</a:t>
            </a:r>
            <a:r>
              <a:rPr b="0" lang="nl-BE" sz="2400" spc="-1" strike="noStrike">
                <a:solidFill>
                  <a:srgbClr val="ff9900"/>
                </a:solidFill>
                <a:latin typeface="Poor Richard"/>
              </a:rPr>
              <a:t>Kom nu tot Mij </a:t>
            </a:r>
            <a:br>
              <a:rPr sz="2400"/>
            </a:br>
            <a:r>
              <a:rPr b="0" lang="nl-BE" sz="2400" spc="-1" strike="noStrike">
                <a:solidFill>
                  <a:srgbClr val="ff9900"/>
                </a:solidFill>
                <a:latin typeface="Poor Richard"/>
              </a:rPr>
              <a:t>om gelukkig te zijn voor altijd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2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1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5906"/>
          <a:stretch/>
        </p:blipFill>
        <p:spPr>
          <a:xfrm>
            <a:off x="297000" y="333360"/>
            <a:ext cx="4935240" cy="6191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508720" y="1628640"/>
            <a:ext cx="3240000" cy="252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50000">
                <a:srgbClr val="ffff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2133720"/>
            <a:ext cx="27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1700280"/>
            <a:ext cx="316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0" lang="en-US" sz="2400" spc="-1" strike="noStrike">
                <a:solidFill>
                  <a:srgbClr val="cc3300"/>
                </a:solidFill>
                <a:latin typeface="Poor Richard"/>
              </a:rPr>
              <a:t>Uw wijsheid, Heer,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Poor Richard"/>
              </a:rPr>
              <a:t>laat alles geschieden op tijd en stond: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Poor Richard"/>
              </a:rPr>
              <a:t>de opgang van de zon en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Poor Richard"/>
              </a:rPr>
              <a:t>haar onderg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076720" y="393372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Poor Richard"/>
              </a:rPr>
              <a:t>Het kiemen van het zaad</a:t>
            </a:r>
            <a:br>
              <a:rPr sz="2400"/>
            </a:br>
            <a:r>
              <a:rPr b="0" lang="en-US" sz="2400" spc="-1" strike="noStrike">
                <a:solidFill>
                  <a:srgbClr val="339933"/>
                </a:solidFill>
                <a:latin typeface="Poor Richard"/>
              </a:rPr>
              <a:t>en het trekken van de vogels</a:t>
            </a:r>
            <a:r>
              <a:rPr b="0" lang="en-US" sz="2000" spc="-1" strike="noStrike">
                <a:solidFill>
                  <a:srgbClr val="339933"/>
                </a:solidFill>
                <a:latin typeface="Poor Richar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13801"/>
          <a:stretch/>
        </p:blipFill>
        <p:spPr>
          <a:xfrm>
            <a:off x="4427640" y="512640"/>
            <a:ext cx="4716360" cy="5832720"/>
          </a:xfrm>
          <a:prstGeom prst="rect">
            <a:avLst/>
          </a:prstGeom>
          <a:ln w="0">
            <a:noFill/>
          </a:ln>
        </p:spPr>
      </p:pic>
      <p:sp>
        <p:nvSpPr>
          <p:cNvPr id="57" name="Document"/>
          <p:cNvSpPr/>
          <p:nvPr/>
        </p:nvSpPr>
        <p:spPr>
          <a:xfrm>
            <a:off x="1258920" y="1413000"/>
            <a:ext cx="2160720" cy="3384360"/>
          </a:xfrm>
          <a:prstGeom prst="pie">
            <a:avLst/>
          </a:prstGeom>
          <a:gradFill rotWithShape="0">
            <a:gsLst>
              <a:gs pos="0">
                <a:srgbClr val="ebe679"/>
              </a:gs>
              <a:gs pos="100000">
                <a:srgbClr val="336600"/>
              </a:gs>
            </a:gsLst>
            <a:lin ang="8100000"/>
          </a:gradFill>
          <a:ln w="1260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03280" y="1628640"/>
            <a:ext cx="194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oor Richard"/>
              </a:rPr>
              <a:t>Laat mij zi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Poor Richard"/>
              </a:rPr>
              <a:t>hoe oo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Poor Richard"/>
              </a:rPr>
              <a:t>in mijn lev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Poor Richard"/>
              </a:rPr>
              <a:t>voor all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Poor Richard"/>
              </a:rPr>
              <a:t>een tij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Poor Richard"/>
              </a:rPr>
              <a:t>gegeven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0" y="476280"/>
            <a:ext cx="4375080" cy="5832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42920" y="1052640"/>
            <a:ext cx="2951280" cy="4392360"/>
          </a:xfrm>
          <a:prstGeom prst="foldedCorner">
            <a:avLst>
              <a:gd name="adj" fmla="val 43384"/>
            </a:avLst>
          </a:prstGeom>
          <a:gradFill rotWithShape="0">
            <a:gsLst>
              <a:gs pos="0">
                <a:srgbClr val="613964"/>
              </a:gs>
              <a:gs pos="50000">
                <a:srgbClr val="d37cda"/>
              </a:gs>
              <a:gs pos="100000">
                <a:srgbClr val="613964"/>
              </a:gs>
            </a:gsLst>
            <a:lin ang="10800000"/>
          </a:gradFill>
          <a:ln w="1584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558972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2000" y="1341360"/>
            <a:ext cx="2087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ccff"/>
                </a:solidFill>
                <a:latin typeface="Poor Richard"/>
              </a:rPr>
              <a:t>Een tijd </a:t>
            </a:r>
            <a:br>
              <a:rPr sz="2400"/>
            </a:br>
            <a:r>
              <a:rPr b="0" lang="nl-BE" sz="2400" spc="-1" strike="noStrike">
                <a:solidFill>
                  <a:srgbClr val="00ccff"/>
                </a:solidFill>
                <a:latin typeface="Poor Richard"/>
              </a:rPr>
              <a:t>om te werken,</a:t>
            </a:r>
            <a:br>
              <a:rPr sz="2400"/>
            </a:br>
            <a:r>
              <a:rPr b="0" lang="nl-BE" sz="2400" spc="-1" strike="noStrike">
                <a:solidFill>
                  <a:srgbClr val="00ccff"/>
                </a:solidFill>
                <a:latin typeface="Poor Richard"/>
              </a:rPr>
              <a:t>en een tijd </a:t>
            </a:r>
            <a:br>
              <a:rPr sz="2400"/>
            </a:br>
            <a:r>
              <a:rPr b="0" lang="nl-BE" sz="2400" spc="-1" strike="noStrike">
                <a:solidFill>
                  <a:srgbClr val="00ccff"/>
                </a:solidFill>
                <a:latin typeface="Poor Richard"/>
              </a:rPr>
              <a:t>om te geniet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ccff"/>
                </a:solidFill>
                <a:latin typeface="Poor Richard"/>
              </a:rPr>
              <a:t>een tijd </a:t>
            </a:r>
            <a:br>
              <a:rPr sz="2400"/>
            </a:br>
            <a:r>
              <a:rPr b="0" lang="nl-BE" sz="2400" spc="-1" strike="noStrike">
                <a:solidFill>
                  <a:srgbClr val="00ccff"/>
                </a:solidFill>
                <a:latin typeface="Poor Richard"/>
              </a:rPr>
              <a:t>om te overleggen</a:t>
            </a:r>
            <a:br>
              <a:rPr sz="2400"/>
            </a:br>
            <a:r>
              <a:rPr b="0" lang="nl-BE" sz="2400" spc="-1" strike="noStrike">
                <a:solidFill>
                  <a:srgbClr val="00ccff"/>
                </a:solidFill>
                <a:latin typeface="Poor Richard"/>
              </a:rPr>
              <a:t>en een tijd </a:t>
            </a:r>
            <a:br>
              <a:rPr sz="2400"/>
            </a:br>
            <a:r>
              <a:rPr b="0" lang="nl-BE" sz="2400" spc="-1" strike="noStrike">
                <a:solidFill>
                  <a:srgbClr val="00ccff"/>
                </a:solidFill>
                <a:latin typeface="Poor Richard"/>
              </a:rPr>
              <a:t>om </a:t>
            </a:r>
            <a:br>
              <a:rPr sz="2400"/>
            </a:br>
            <a:r>
              <a:rPr b="0" lang="nl-BE" sz="2400" spc="-1" strike="noStrike">
                <a:solidFill>
                  <a:srgbClr val="00ccff"/>
                </a:solidFill>
                <a:latin typeface="Poor Richard"/>
              </a:rPr>
              <a:t>te beslui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5402160" cy="583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508720" y="1125360"/>
            <a:ext cx="3024000" cy="4535640"/>
          </a:xfrm>
          <a:prstGeom prst="foldedCorner">
            <a:avLst>
              <a:gd name="adj" fmla="val 24513"/>
            </a:avLst>
          </a:prstGeom>
          <a:gradFill rotWithShape="0">
            <a:gsLst>
              <a:gs pos="0">
                <a:srgbClr val="000000"/>
              </a:gs>
              <a:gs pos="50000">
                <a:srgbClr val="969696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96000" y="1341360"/>
            <a:ext cx="259236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Poor Richard"/>
              </a:rPr>
              <a:t>Een tijd </a:t>
            </a:r>
            <a:br>
              <a:rPr sz="2400"/>
            </a:br>
            <a:r>
              <a:rPr b="0" lang="nl-BE" sz="2400" spc="-1" strike="noStrike">
                <a:solidFill>
                  <a:srgbClr val="ffffff"/>
                </a:solidFill>
                <a:latin typeface="Poor Richard"/>
              </a:rPr>
              <a:t>om </a:t>
            </a:r>
            <a:br>
              <a:rPr sz="2400"/>
            </a:br>
            <a:r>
              <a:rPr b="0" lang="nl-BE" sz="2400" spc="-1" strike="noStrike">
                <a:solidFill>
                  <a:srgbClr val="ffffff"/>
                </a:solidFill>
                <a:latin typeface="Poor Richard"/>
              </a:rPr>
              <a:t>op te staan,</a:t>
            </a:r>
            <a:br>
              <a:rPr sz="2400"/>
            </a:br>
            <a:r>
              <a:rPr b="0" lang="nl-BE" sz="2400" spc="-1" strike="noStrike">
                <a:solidFill>
                  <a:srgbClr val="ffffff"/>
                </a:solidFill>
                <a:latin typeface="Poor Richard"/>
              </a:rPr>
              <a:t>een tijd </a:t>
            </a:r>
            <a:br>
              <a:rPr sz="2400"/>
            </a:br>
            <a:r>
              <a:rPr b="0" lang="nl-BE" sz="2400" spc="-1" strike="noStrike">
                <a:solidFill>
                  <a:srgbClr val="ffffff"/>
                </a:solidFill>
                <a:latin typeface="Poor Richard"/>
              </a:rPr>
              <a:t>om slapen te ga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Poor Richard"/>
              </a:rPr>
              <a:t>Een tijd </a:t>
            </a:r>
            <a:br>
              <a:rPr sz="2400"/>
            </a:br>
            <a:r>
              <a:rPr b="0" lang="nl-BE" sz="2400" spc="-1" strike="noStrike">
                <a:solidFill>
                  <a:srgbClr val="ffffff"/>
                </a:solidFill>
                <a:latin typeface="Poor Richard"/>
              </a:rPr>
              <a:t>om te beginnen,</a:t>
            </a:r>
            <a:br>
              <a:rPr sz="2400"/>
            </a:br>
            <a:r>
              <a:rPr b="0" lang="nl-BE" sz="2400" spc="-1" strike="noStrike">
                <a:solidFill>
                  <a:srgbClr val="ffffff"/>
                </a:solidFill>
                <a:latin typeface="Poor Richard"/>
              </a:rPr>
              <a:t>een tijd </a:t>
            </a:r>
            <a:br>
              <a:rPr sz="2400"/>
            </a:br>
            <a:r>
              <a:rPr b="0" lang="nl-BE" sz="2400" spc="-1" strike="noStrike">
                <a:solidFill>
                  <a:srgbClr val="ffffff"/>
                </a:solidFill>
                <a:latin typeface="Poor Richard"/>
              </a:rPr>
              <a:t>om te eindi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9083" t="6812" r="9083" b="7191"/>
          <a:stretch/>
        </p:blipFill>
        <p:spPr>
          <a:xfrm>
            <a:off x="755640" y="1197000"/>
            <a:ext cx="4044960" cy="424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189000"/>
            <a:ext cx="5113080" cy="64800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ebe6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08720" y="223920"/>
            <a:ext cx="3635280" cy="64087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50000">
                <a:srgbClr val="000000"/>
              </a:gs>
              <a:gs pos="100000">
                <a:srgbClr val="c0c0c0"/>
              </a:gs>
            </a:gsLst>
            <a:lin ang="10800000"/>
          </a:gradFill>
          <a:ln w="31680">
            <a:solidFill>
              <a:srgbClr val="ebe6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43640" y="1197000"/>
            <a:ext cx="237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679"/>
                </a:solidFill>
                <a:latin typeface="Poor Richard"/>
              </a:rPr>
              <a:t>Laat me zien, </a:t>
            </a:r>
            <a:br>
              <a:rPr sz="2400"/>
            </a:br>
            <a:r>
              <a:rPr b="0" lang="en-US" sz="2400" spc="-1" strike="noStrike">
                <a:solidFill>
                  <a:srgbClr val="ebe679"/>
                </a:solidFill>
                <a:latin typeface="Poor Richard"/>
              </a:rPr>
              <a:t>Heer,</a:t>
            </a:r>
            <a:br>
              <a:rPr sz="2400"/>
            </a:br>
            <a:r>
              <a:rPr b="0" lang="en-US" sz="2400" spc="-1" strike="noStrike">
                <a:solidFill>
                  <a:srgbClr val="ebe679"/>
                </a:solidFill>
                <a:latin typeface="Poor Richard"/>
              </a:rPr>
              <a:t>hoe er </a:t>
            </a:r>
            <a:br>
              <a:rPr sz="2400"/>
            </a:br>
            <a:r>
              <a:rPr b="0" lang="en-US" sz="2400" spc="-1" strike="noStrike">
                <a:solidFill>
                  <a:srgbClr val="ebe679"/>
                </a:solidFill>
                <a:latin typeface="Poor Richard"/>
              </a:rPr>
              <a:t>een tijd is</a:t>
            </a:r>
            <a:br>
              <a:rPr sz="2400"/>
            </a:br>
            <a:r>
              <a:rPr b="0" lang="en-US" sz="2400" spc="-1" strike="noStrike">
                <a:solidFill>
                  <a:srgbClr val="ebe679"/>
                </a:solidFill>
                <a:latin typeface="Poor Richard"/>
              </a:rPr>
              <a:t>voor </a:t>
            </a:r>
            <a:br>
              <a:rPr sz="2400"/>
            </a:br>
            <a:r>
              <a:rPr b="0" lang="en-US" sz="2400" spc="-1" strike="noStrike">
                <a:solidFill>
                  <a:srgbClr val="ebe679"/>
                </a:solidFill>
                <a:latin typeface="Poor Richard"/>
              </a:rPr>
              <a:t>de ernst</a:t>
            </a:r>
            <a:br>
              <a:rPr sz="2400"/>
            </a:br>
            <a:r>
              <a:rPr b="0" lang="en-US" sz="2400" spc="-1" strike="noStrike">
                <a:solidFill>
                  <a:srgbClr val="ebe679"/>
                </a:solidFill>
                <a:latin typeface="Poor Richard"/>
              </a:rPr>
              <a:t>en </a:t>
            </a:r>
            <a:br>
              <a:rPr sz="2400"/>
            </a:br>
            <a:r>
              <a:rPr b="0" lang="en-US" sz="2400" spc="-1" strike="noStrike">
                <a:solidFill>
                  <a:srgbClr val="ebe679"/>
                </a:solidFill>
                <a:latin typeface="Poor Richard"/>
              </a:rPr>
              <a:t>een tijd </a:t>
            </a:r>
            <a:br>
              <a:rPr sz="2400"/>
            </a:br>
            <a:r>
              <a:rPr b="0" lang="en-US" sz="2400" spc="-1" strike="noStrike">
                <a:solidFill>
                  <a:srgbClr val="ebe679"/>
                </a:solidFill>
                <a:latin typeface="Poor Richard"/>
              </a:rPr>
              <a:t>voor </a:t>
            </a:r>
            <a:br>
              <a:rPr sz="2400"/>
            </a:br>
            <a:r>
              <a:rPr b="0" lang="en-US" sz="2400" spc="-1" strike="noStrike">
                <a:solidFill>
                  <a:srgbClr val="ebe679"/>
                </a:solidFill>
                <a:latin typeface="Poor Richard"/>
              </a:rPr>
              <a:t>de vreug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7382" t="0" r="0" b="0"/>
          <a:stretch/>
        </p:blipFill>
        <p:spPr>
          <a:xfrm>
            <a:off x="150840" y="404640"/>
            <a:ext cx="4249800" cy="6120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292720" y="1557360"/>
            <a:ext cx="295272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00cc00"/>
              </a:gs>
              <a:gs pos="100000">
                <a:srgbClr val="ffff99"/>
              </a:gs>
            </a:gsLst>
            <a:lin ang="54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9640" y="393372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08720" y="1700280"/>
            <a:ext cx="251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Poor Richard"/>
              </a:rPr>
              <a:t>Een tijd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Poor Richard"/>
              </a:rPr>
              <a:t>voor het zwijgen,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Poor Richard"/>
              </a:rPr>
              <a:t>en een tijd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Poor Richard"/>
              </a:rPr>
              <a:t>voor het spreken.</a:t>
            </a:r>
            <a:r>
              <a:rPr b="0" lang="en-US" sz="18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716360" y="333360"/>
            <a:ext cx="4113360" cy="5877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55640" y="3789360"/>
            <a:ext cx="3025800" cy="22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99"/>
              </a:gs>
              <a:gs pos="50000">
                <a:srgbClr val="ff99ff"/>
              </a:gs>
              <a:gs pos="100000">
                <a:srgbClr val="cc0099"/>
              </a:gs>
            </a:gsLst>
            <a:lin ang="5400000"/>
          </a:gradFill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16000" y="3860640"/>
            <a:ext cx="2736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Poor Richard"/>
              </a:rPr>
              <a:t>Een tijd 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Poor Richard"/>
              </a:rPr>
              <a:t>voor gebed bij U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Poor Richard"/>
              </a:rPr>
              <a:t>en een tijd 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Poor Richard"/>
              </a:rPr>
              <a:t>voor gesprek met 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Poor Richard"/>
              </a:rPr>
              <a:t>de men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23:14:59Z</dcterms:created>
  <dc:creator>sylvi@</dc:creator>
  <dc:description/>
  <dc:language>en-US</dc:language>
  <cp:lastModifiedBy>Smets</cp:lastModifiedBy>
  <dcterms:modified xsi:type="dcterms:W3CDTF">2010-03-04T19:04:09Z</dcterms:modified>
  <cp:revision>11</cp:revision>
  <dc:subject/>
  <dc:title>Dia 1</dc:title>
</cp:coreProperties>
</file>