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Jim%20reeves%20-%20Roses%20are%20red%20my%20love.wav" ContentType="audio/x-wav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202-73D9-4637-9746-A181AAE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104-F678-4F1A-B7AE-E0F631D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2F6-1E61-4AE3-B894-7FE918F8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E2B-F9D8-40F5-BBE1-04CE8CDC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512-6E14-4C7B-8688-735C1CD7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645-8EB7-4E28-8C07-EC4C374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433-DDFD-4FE7-8F05-55E9E38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9F8-CC75-4E2D-A50D-9B83F22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E21-0423-47D1-97B5-2641C01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DE5-A125-4D55-A2AA-0ECA9AD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A90-BCC6-4C56-8DD3-8A9D0040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CE2-542D-4D36-AA3F-D6CC87E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DF2-A583-48EE-8756-1E7FCBA85FB4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reeves%20-%20Roses%20are%20red%20my%20lo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307800"/>
            <a:ext cx="10080720" cy="74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89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6021360"/>
            <a:ext cx="18003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6093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cc0099"/>
                </a:solidFill>
                <a:latin typeface="Poor Richard"/>
              </a:rPr>
              <a:t>Vrij naar Prediker 3: 1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115920"/>
            <a:ext cx="6697800" cy="86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cc"/>
              </a:gs>
              <a:gs pos="50000">
                <a:srgbClr val="000000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11280" y="0"/>
            <a:ext cx="61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8080"/>
                </a:solidFill>
                <a:latin typeface="Poor Richard"/>
              </a:rPr>
              <a:t>Op gepaste tij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2849760" cy="4273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975280" y="1628640"/>
            <a:ext cx="3168720" cy="4105440"/>
          </a:xfrm>
          <a:prstGeom prst="foldedCorner">
            <a:avLst>
              <a:gd name="adj" fmla="val 35421"/>
            </a:avLst>
          </a:prstGeom>
          <a:gradFill rotWithShape="0">
            <a:gsLst>
              <a:gs pos="0">
                <a:srgbClr val="2f5340"/>
              </a:gs>
              <a:gs pos="50000">
                <a:srgbClr val="000000"/>
              </a:gs>
              <a:gs pos="100000">
                <a:srgbClr val="2f534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2205000"/>
            <a:ext cx="244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Een tij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het alleen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en een tij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oor Richard"/>
              </a:rPr>
              <a:t>van samen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95460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6237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81cd"/>
                </a:solidFill>
                <a:latin typeface="Poor Richard"/>
              </a:rPr>
              <a:t>Sylvi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836640"/>
            <a:ext cx="4319640" cy="4896000"/>
          </a:xfrm>
          <a:prstGeom prst="verticalScroll">
            <a:avLst>
              <a:gd name="adj" fmla="val 21342"/>
            </a:avLst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2104920"/>
            <a:ext cx="18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Leer mij aanvaarden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dat er 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een tijd is 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om</a:t>
            </a:r>
            <a:br>
              <a:rPr sz="2400"/>
            </a:br>
            <a:r>
              <a:rPr b="0" lang="nl-BE" sz="2400" spc="-1" strike="noStrike">
                <a:solidFill>
                  <a:srgbClr val="ffffcc"/>
                </a:solidFill>
                <a:latin typeface="Poor Richard"/>
              </a:rPr>
              <a:t>te wachten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76500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836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99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9900"/>
                </a:solidFill>
                <a:latin typeface="Poor Richard"/>
              </a:rPr>
              <a:t>om zich te haa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3640" y="981000"/>
            <a:ext cx="3889440" cy="4176720"/>
          </a:xfrm>
          <a:prstGeom prst="verticalScroll">
            <a:avLst>
              <a:gd name="adj" fmla="val 22083"/>
            </a:avLst>
          </a:prstGeom>
          <a:gradFill rotWithShape="0">
            <a:gsLst>
              <a:gs pos="0">
                <a:srgbClr val="000000"/>
              </a:gs>
              <a:gs pos="100000">
                <a:srgbClr val="336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060640"/>
            <a:ext cx="24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om te vergaren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n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om weg </a:t>
            </a:r>
            <a:br>
              <a:rPr sz="2400"/>
            </a:br>
            <a:r>
              <a:rPr b="0" lang="nl-BE" sz="2400" spc="-1" strike="noStrike">
                <a:solidFill>
                  <a:srgbClr val="cc3300"/>
                </a:solidFill>
                <a:latin typeface="Poor Richard"/>
              </a:rPr>
              <a:t>te sche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4067280" cy="566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347920"/>
            <a:ext cx="2305080" cy="21607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b5e3c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835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en tij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om zichzelf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te v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104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005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om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anderen te hel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65600" cy="58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12000" y="1339920"/>
            <a:ext cx="2519280" cy="417672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4176720"/>
              <a:gd name="textAreaBottom" fmla="*/ 4053960 h 4176720"/>
            </a:gdLst>
            <a:ahLst/>
            <a:rect l="textAreaLeft" t="textAreaTop" r="textAreaRight" b="textAreaBottom"/>
            <a:pathLst>
              <a:path w="21600" h="35809">
                <a:moveTo>
                  <a:pt x="3600" y="0"/>
                </a:moveTo>
                <a:arcTo wR="3600" hR="3600" stAng="16200000" swAng="-5400000"/>
                <a:lnTo>
                  <a:pt x="0" y="32209"/>
                </a:lnTo>
                <a:arcTo wR="3600" hR="3600" stAng="10800000" swAng="-5400000"/>
                <a:lnTo>
                  <a:pt x="18000" y="358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ff66ff"/>
              </a:gs>
              <a:gs pos="100000">
                <a:srgbClr val="cc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773360"/>
            <a:ext cx="22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erleen,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mij, Heer,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dit rechte gebruik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an de tij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totda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Gij kom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n ze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651640" cy="439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292640"/>
            <a:ext cx="316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4508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“</a:t>
            </a: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Dit is de tijd</a:t>
            </a:r>
            <a:br>
              <a:rPr sz="2400"/>
            </a:br>
            <a:r>
              <a:rPr b="0" lang="nl-BE" sz="2400" spc="-1" strike="noStrike">
                <a:solidFill>
                  <a:srgbClr val="ffff00"/>
                </a:solidFill>
                <a:latin typeface="Poor Richard"/>
              </a:rPr>
              <a:t>die elke tijd vervu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5516640"/>
            <a:ext cx="1655640" cy="287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Poor Richard"/>
              </a:rPr>
              <a:t>a.leenders@skynet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933720"/>
            <a:ext cx="27352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005360"/>
            <a:ext cx="216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“</a:t>
            </a: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Kom nu tot Mij </a:t>
            </a:r>
            <a:br>
              <a:rPr sz="2400"/>
            </a:br>
            <a:r>
              <a:rPr b="0" lang="nl-BE" sz="2400" spc="-1" strike="noStrike">
                <a:solidFill>
                  <a:srgbClr val="ff9900"/>
                </a:solidFill>
                <a:latin typeface="Poor Richard"/>
              </a:rPr>
              <a:t>om gelukkig te zijn voor altij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297000" y="333360"/>
            <a:ext cx="4935240" cy="619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8720" y="1628640"/>
            <a:ext cx="324000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170028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Uw wijsheid, Heer,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laat alles geschieden op tijd en stond: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de opgang van de zon en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haar onderg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76720" y="39337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Poor Richard"/>
              </a:rPr>
              <a:t>Het kiemen van het zaad</a:t>
            </a:r>
            <a:br>
              <a:rPr sz="2400"/>
            </a:br>
            <a:r>
              <a:rPr b="0" lang="en-US" sz="2400" spc="-1" strike="noStrike">
                <a:solidFill>
                  <a:srgbClr val="339933"/>
                </a:solidFill>
                <a:latin typeface="Poor Richard"/>
              </a:rPr>
              <a:t>en het trekken van de vogels</a:t>
            </a:r>
            <a:r>
              <a:rPr b="0" lang="en-US" sz="2000" spc="-1" strike="noStrike">
                <a:solidFill>
                  <a:srgbClr val="339933"/>
                </a:solidFill>
                <a:latin typeface="Poor Richar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4427640" y="512640"/>
            <a:ext cx="4716360" cy="5832720"/>
          </a:xfrm>
          <a:prstGeom prst="rect">
            <a:avLst/>
          </a:prstGeom>
          <a:ln w="0">
            <a:noFill/>
          </a:ln>
        </p:spPr>
      </p:pic>
      <p:sp>
        <p:nvSpPr>
          <p:cNvPr id="57" name="Document"/>
          <p:cNvSpPr/>
          <p:nvPr/>
        </p:nvSpPr>
        <p:spPr>
          <a:xfrm>
            <a:off x="1258920" y="1413000"/>
            <a:ext cx="2160720" cy="3384360"/>
          </a:xfrm>
          <a:prstGeom prst="pie">
            <a:avLst/>
          </a:prstGeom>
          <a:gradFill rotWithShape="0">
            <a:gsLst>
              <a:gs pos="0">
                <a:srgbClr val="ebe679"/>
              </a:gs>
              <a:gs pos="100000">
                <a:srgbClr val="336600"/>
              </a:gs>
            </a:gsLst>
            <a:lin ang="8100000"/>
          </a:gra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1628640"/>
            <a:ext cx="194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Laat mij zi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hoe o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in mijn le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voor al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gegev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2920" y="1052640"/>
            <a:ext cx="2951280" cy="4392360"/>
          </a:xfrm>
          <a:prstGeom prst="foldedCorner">
            <a:avLst>
              <a:gd name="adj" fmla="val 43384"/>
            </a:avLst>
          </a:prstGeom>
          <a:gradFill rotWithShape="0">
            <a:gsLst>
              <a:gs pos="0">
                <a:srgbClr val="613964"/>
              </a:gs>
              <a:gs pos="50000">
                <a:srgbClr val="d37cda"/>
              </a:gs>
              <a:gs pos="100000">
                <a:srgbClr val="613964"/>
              </a:gs>
            </a:gsLst>
            <a:lin ang="10800000"/>
          </a:gra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341360"/>
            <a:ext cx="20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werken,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genie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te overleggen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om </a:t>
            </a:r>
            <a:br>
              <a:rPr sz="2400"/>
            </a:br>
            <a:r>
              <a:rPr b="0" lang="nl-BE" sz="2400" spc="-1" strike="noStrike">
                <a:solidFill>
                  <a:srgbClr val="00ccff"/>
                </a:solidFill>
                <a:latin typeface="Poor Richard"/>
              </a:rPr>
              <a:t>te beslui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40216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08720" y="1125360"/>
            <a:ext cx="3024000" cy="4535640"/>
          </a:xfrm>
          <a:prstGeom prst="foldedCorner">
            <a:avLst>
              <a:gd name="adj" fmla="val 24513"/>
            </a:avLst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1341360"/>
            <a:ext cx="2592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p te staan,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slapen te g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te beginnen,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om te ei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755640" y="1197000"/>
            <a:ext cx="4044960" cy="42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89000"/>
            <a:ext cx="5113080" cy="64800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223920"/>
            <a:ext cx="3635280" cy="6408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10800000"/>
          </a:gradFill>
          <a:ln w="3168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3640" y="1197000"/>
            <a:ext cx="23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Laat me zien,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Heer,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hoe e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en tijd is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de ernst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n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voor </a:t>
            </a:r>
            <a:br>
              <a:rPr sz="2400"/>
            </a:br>
            <a:r>
              <a:rPr b="0" lang="en-US" sz="2400" spc="-1" strike="noStrike">
                <a:solidFill>
                  <a:srgbClr val="ebe679"/>
                </a:solidFill>
                <a:latin typeface="Poor Richard"/>
              </a:rPr>
              <a:t>de vreug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404640"/>
            <a:ext cx="4249800" cy="61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295272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00cc00"/>
              </a:gs>
              <a:gs pos="100000">
                <a:srgbClr val="ffff99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39337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7002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voor het zwijgen,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en een tijd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Poor Richard"/>
              </a:rPr>
              <a:t>voor het spreken.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13360" cy="5877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789360"/>
            <a:ext cx="302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99"/>
              </a:gs>
              <a:gs pos="50000">
                <a:srgbClr val="ff99ff"/>
              </a:gs>
              <a:gs pos="100000">
                <a:srgbClr val="cc0099"/>
              </a:gs>
            </a:gsLst>
            <a:lin ang="5400000"/>
          </a:gradFill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3860640"/>
            <a:ext cx="2736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en tijd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oor gebed bij U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en een tijd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voor gesprek met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Poor Richard"/>
              </a:rPr>
              <a:t>de me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10-03-04T19:04:09Z</dcterms:modified>
  <cp:revision>11</cp:revision>
  <dc:subject/>
  <dc:title>Dia 1</dc:title>
</cp:coreProperties>
</file>