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74A-DDB7-4B6D-8BD7-4BACDE26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464-7E00-4CBB-91DE-1E7FFAA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260-EA50-48F7-AEE3-01D16A85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66C-9586-4CD4-8C27-CB295871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18D-56C0-4879-8798-490E3F4D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EC2-9A95-453E-8276-C53523F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50A-39AF-48C0-BD2E-621A980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2AE-ED42-4D75-978B-6EADEC4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606-8B57-48E6-A393-0584B43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02A-35F6-4250-8828-376D1A2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22A-9743-4F2F-A125-C12385C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7A4-A020-4B92-879D-B776BD1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E9759-5B79-44FD-AE0A-3A828E600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5311C-A54A-443C-9337-385E1031528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17:09Z</dcterms:created>
  <dc:creator>최봉수</dc:creator>
  <dc:description/>
  <dc:language>en-US</dc:language>
  <cp:lastModifiedBy>군만두 맛있다</cp:lastModifiedBy>
  <dcterms:modified xsi:type="dcterms:W3CDTF">2023-07-12T06:01:55Z</dcterms:modified>
  <cp:revision>2</cp:revision>
  <dc:subject/>
  <dc:title>슬라이드 1</dc:title>
</cp:coreProperties>
</file>