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BD0-67F1-4908-9548-0FBD0F30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A83-BD4F-48A5-806D-EF0289E5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AD9-6A7A-43E3-94BC-06CA056F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458-53BA-4C31-A7D8-15CFFAB7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755-BC78-4CF2-9A58-9FBB931E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89A5-83E6-4661-BB7D-40F48494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C13-C034-4574-90B3-1055C036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318-6470-427B-B88B-2C19C169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A2E-7605-493E-80D7-3DD01D91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BCD-5E5E-41C3-B7BF-AF905F53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2A3-5F9E-4092-AE53-5025D60E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635-BBD6-48C1-A957-6864C4E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E67E5-4DAE-4A5E-9760-A76DB2293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045BF-665D-425D-8707-DEE8EC7FDC3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17:09Z</dcterms:created>
  <dc:creator>최봉수</dc:creator>
  <dc:description/>
  <dc:language>en-US</dc:language>
  <cp:lastModifiedBy>군만두 맛있다</cp:lastModifiedBy>
  <dcterms:modified xsi:type="dcterms:W3CDTF">2023-07-12T06:01:55Z</dcterms:modified>
  <cp:revision>2</cp:revision>
  <dc:subject/>
  <dc:title>슬라이드 1</dc:title>
</cp:coreProperties>
</file>