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0.gif" ContentType="image/gif"/>
  <Override PartName="/ppt/media/image29.gif" ContentType="image/gif"/>
  <Override PartName="/ppt/media/image31.gif" ContentType="image/gif"/>
  <Override PartName="/ppt/media/image11.gif" ContentType="image/gif"/>
  <Override PartName="/ppt/media/I'm%20alone%20-%20I'm%20alone.wav" ContentType="audio/x-wav"/>
  <Override PartName="/ppt/media/image7.gif" ContentType="image/gif"/>
  <Override PartName="/ppt/media/image35.png" ContentType="image/png"/>
  <Override PartName="/ppt/media/image6.gif" ContentType="image/gif"/>
  <Override PartName="/ppt/media/image36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30.gif" ContentType="image/gif"/>
  <Override PartName="/ppt/media/image5.gif" ContentType="image/gif"/>
  <Override PartName="/ppt/media/image28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34.gif" ContentType="image/gif"/>
  <Override PartName="/ppt/media/image4.gif" ContentType="image/gif"/>
  <Override PartName="/ppt/media/image1.jpeg" ContentType="image/jpeg"/>
  <Override PartName="/ppt/media/image27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13.gif" ContentType="image/gif"/>
  <Override PartName="/ppt/media/image14.gif" ContentType="image/gif"/>
  <Override PartName="/ppt/media/image15.gif" ContentType="image/gif"/>
  <Override PartName="/ppt/media/image1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E2B-5A54-4C97-A910-AAC6ACA1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B13E-7B28-437D-9D05-5D841138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5E6-2114-484C-92C4-673301D3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F99-9C3B-4553-B113-A2D7F5F7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AE8-0121-400A-A985-6D8EF69C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AD3-C571-4523-B4B8-222DAF53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8BB-0946-470D-BDFA-BF02D7C4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F0F-B98C-4300-905D-1320EDE1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1A0-6270-4518-92C3-391EB105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AB4-E12C-4224-ADD2-1E698A1E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6930-C419-4C47-A339-BD58B65F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E98-ABD3-4284-BC01-F6CCB5FD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2CD8-D064-408E-882B-13FB4F5D0D4D}" type="datetime">
              <a:rPr b="0" lang="nl-BE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67E8-01E0-48EC-9AC9-A8A944EAC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I&apos;m%20alone%20-%20I&apos;m%20alone.wav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hyperlink" Target="http://www.animationlibrary.com/a-l/?n=image.php3&amp;image_id=12760" TargetMode="External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http://www.animationlibrary.com/a-l/?n=image.php3&amp;image_id=4314" TargetMode="External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nimationlibrary.com/a-l/?n=image.php3&amp;image_id=8185" TargetMode="External"/><Relationship Id="rId3" Type="http://schemas.openxmlformats.org/officeDocument/2006/relationships/image" Target="../media/image6.gif"/><Relationship Id="rId4" Type="http://schemas.openxmlformats.org/officeDocument/2006/relationships/hyperlink" Target="http://www.animationlibrary.com/a-l/?n=image.php3&amp;image_id=8204" TargetMode="External"/><Relationship Id="rId5" Type="http://schemas.openxmlformats.org/officeDocument/2006/relationships/image" Target="../media/image7.gif"/><Relationship Id="rId6" Type="http://schemas.openxmlformats.org/officeDocument/2006/relationships/hyperlink" Target="http://www.animationlibrary.com/a-l/?n=image.php3&amp;image_id=4314" TargetMode="External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hyperlink" Target="http://www.animationlibrary.com/a-l/?n=image.php3&amp;image_id=12752" TargetMode="Externa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hyperlink" Target="http://www.animationlibrary.com/a-l/?n=image.php3&amp;image_id=4314" TargetMode="External"/><Relationship Id="rId4" Type="http://schemas.openxmlformats.org/officeDocument/2006/relationships/image" Target="../media/image4.gif"/><Relationship Id="rId5" Type="http://schemas.openxmlformats.org/officeDocument/2006/relationships/hyperlink" Target="http://www.animationlibrary.com/a-l/?n=image.php3&amp;image_id=8191" TargetMode="External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18.gif"/><Relationship Id="rId7" Type="http://schemas.openxmlformats.org/officeDocument/2006/relationships/image" Target="../media/image20.gif"/><Relationship Id="rId8" Type="http://schemas.openxmlformats.org/officeDocument/2006/relationships/image" Target="../media/image21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2133720" cy="189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a4a729"/>
                </a:solidFill>
                <a:latin typeface="Elephant"/>
              </a:rPr>
              <a:t>Er is              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a4a729"/>
                </a:solidFill>
                <a:latin typeface="Elephant"/>
              </a:rPr>
              <a:t>man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038480" y="2133720"/>
            <a:ext cx="14860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gi"/>
              </a:rPr>
              <a:t>altijd 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gi"/>
              <a:ea typeface="Gig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828800" y="2971800"/>
            <a:ext cx="14860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gi"/>
              </a:rPr>
              <a:t>betere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gi"/>
              <a:ea typeface="Gig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       klikken om verder te gaan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5C60D-5168-47A4-BAC7-ED0D9446A1BD}" type="datetime1">
              <a:rPr lang="en-US"/>
              <a:t>07/30/26</a:t>
            </a:fld>
          </a:p>
        </p:txBody>
      </p:sp>
    </p:spTree>
  </p:cSld>
  <p:transition spd="slow" advTm="10000">
    <p:split dir="out" orient="horz"/>
    <p:sndAc>
      <p:stSnd>
        <p:snd r:embed="rId3" name="I'm%20alone%20-%20I'm%20alon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20120" y="5351400"/>
            <a:ext cx="1523880" cy="13543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4a729"/>
                </a:solidFill>
                <a:latin typeface="Elephant"/>
              </a:rPr>
              <a:t>Maar het eerste bord vertelde de mensen eenvoudig weg om te helpen door wat geld in de hoed te gooien.</a:t>
            </a:r>
            <a:br>
              <a:rPr sz="3200"/>
            </a:b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a4a729"/>
                </a:solidFill>
                <a:latin typeface="Elephant"/>
              </a:rPr>
              <a:t>Het tweede bord vertelde de mensen dat zij van de schoonheid van de dag konden genieten,</a:t>
            </a:r>
            <a:br>
              <a:rPr sz="3200"/>
            </a:br>
            <a:r>
              <a:rPr b="0" lang="nl-NL" sz="3200" spc="-1" strike="noStrike">
                <a:solidFill>
                  <a:srgbClr val="a4a729"/>
                </a:solidFill>
                <a:latin typeface="Elephant"/>
              </a:rPr>
              <a:t>en de jongen niet,  omdat hij blind w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52280" y="1905120"/>
            <a:ext cx="98424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F508D-C771-481A-9FF2-14C49446D165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111400" cy="2362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Dollar - Click image to download."/>
          <p:cNvPicPr/>
          <p:nvPr/>
        </p:nvPicPr>
        <p:blipFill>
          <a:blip r:embed="rId3"/>
          <a:stretch/>
        </p:blipFill>
        <p:spPr>
          <a:xfrm>
            <a:off x="7315200" y="5257800"/>
            <a:ext cx="1371600" cy="1181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05120" y="38862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a4a729"/>
                </a:solidFill>
                <a:latin typeface="Elephant"/>
              </a:rPr>
              <a:t>Zouden wij verrast moeten zijn omdat het tweede bord effectiever w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2553B-769B-4818-9080-1C4F1BE52AEC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84582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2667240" cy="1641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Hand moves - Click image to download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38480" y="1295280"/>
            <a:ext cx="76212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Hand moves - Click image to download."/>
          <p:cNvPicPr/>
          <p:nvPr/>
        </p:nvPicPr>
        <p:blipFill>
          <a:blip r:embed="rId5"/>
          <a:stretch/>
        </p:blipFill>
        <p:spPr>
          <a:xfrm>
            <a:off x="3581280" y="3124080"/>
            <a:ext cx="762120" cy="914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0880" y="3581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a4a729"/>
                </a:solidFill>
                <a:latin typeface="Elephant"/>
              </a:rPr>
              <a:t>Er zijn minstens               twee lessen die we kunnen leren uit dit simpele verhaalt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531F0-4617-43EE-B2E4-77D8E6EC85D7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3505320"/>
            <a:ext cx="91440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a4a729"/>
                </a:solidFill>
                <a:latin typeface="Elephant"/>
              </a:rPr>
              <a:t>De eerste le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a4a729"/>
                </a:solidFill>
                <a:latin typeface="Elephant"/>
              </a:rPr>
              <a:t>“</a:t>
            </a:r>
            <a:r>
              <a:rPr b="0" i="1" lang="nl-BE" sz="2800" spc="-1" strike="noStrike">
                <a:solidFill>
                  <a:srgbClr val="a4a729"/>
                </a:solidFill>
                <a:latin typeface="Elephant"/>
              </a:rPr>
              <a:t>Wees dankbaar met met wat je zelf heb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a4a729"/>
                </a:solidFill>
                <a:latin typeface="Elephant"/>
              </a:rPr>
              <a:t>Iemand anders heeft min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333399"/>
                </a:solidFill>
                <a:latin typeface="Arial"/>
              </a:rPr>
              <a:t>Help</a:t>
            </a:r>
            <a:r>
              <a:rPr b="0" i="1" lang="nl-BE" sz="2800" spc="-1" strike="noStrike">
                <a:solidFill>
                  <a:srgbClr val="a4a729"/>
                </a:solidFill>
                <a:latin typeface="Elephant"/>
              </a:rPr>
              <a:t> waar je ka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66885-CE5B-432A-901B-F664DBC4AB06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is,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Be                 .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                             .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                         .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LWAYS A                       WAY!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00400" y="2819520"/>
            <a:ext cx="323856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038480" y="1828800"/>
            <a:ext cx="1552680" cy="466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581280" y="3809880"/>
            <a:ext cx="2828880" cy="352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952880" y="4648320"/>
            <a:ext cx="2210040" cy="685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838080" y="5335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             op volgende dia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46D6A-9CC8-441D-A557-F97474C279E1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a4a729"/>
                </a:solidFill>
                <a:latin typeface="Elephant"/>
              </a:rPr>
              <a:t>De tweede le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a4a729"/>
                </a:solidFill>
                <a:latin typeface="Elephant"/>
              </a:rPr>
              <a:t>We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a4a729"/>
                </a:solidFill>
                <a:latin typeface="Elephant"/>
              </a:rPr>
              <a:t>W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a4a729"/>
                </a:solidFill>
                <a:latin typeface="Elephant"/>
              </a:rPr>
              <a:t>De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a4a729"/>
                </a:solidFill>
                <a:latin typeface="Elephant"/>
              </a:rPr>
              <a:t>Er is altijd een                                 mann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181480" y="914400"/>
            <a:ext cx="2562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arrington"/>
              </a:rPr>
              <a:t>CREATIEF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arrington"/>
              <a:ea typeface="Harringto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257800" y="2057400"/>
            <a:ext cx="2543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Raavi"/>
              </a:rPr>
              <a:t>VERNIEUWEND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Raavi"/>
              <a:ea typeface="Raav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257800" y="3733920"/>
            <a:ext cx="252396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gneto"/>
              </a:rPr>
              <a:t>ANDE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gneto"/>
              <a:ea typeface="Magneto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9880" y="457200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TER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979640" y="6093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8B865-7DB9-4896-B1A9-69ED2DCEE98C}" type="datetime1">
              <a:rPr lang="en-US"/>
              <a:t>07/30/26</a:t>
            </a:fld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Een blinde jongen zat op de trappen voor een gebouw,met een hoed voor zich.</a:t>
            </a:r>
            <a:br>
              <a:rPr sz="1800"/>
            </a:b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Voor hem stond een bord 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43800" y="2286000"/>
            <a:ext cx="1371600" cy="198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Hat 3 - Click image to download.">
            <a:hlinkClick r:id="rId3"/>
          </p:cNvPr>
          <p:cNvPicPr/>
          <p:nvPr/>
        </p:nvPicPr>
        <p:blipFill>
          <a:blip r:embed="rId4"/>
          <a:stretch/>
        </p:blipFill>
        <p:spPr>
          <a:xfrm rot="19606800">
            <a:off x="6933960" y="2437920"/>
            <a:ext cx="895320" cy="833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740160" y="3399840"/>
            <a:ext cx="6825960" cy="1353600"/>
            <a:chOff x="740160" y="3399840"/>
            <a:chExt cx="6825960" cy="1353600"/>
          </a:xfrm>
        </p:grpSpPr>
        <p:sp>
          <p:nvSpPr>
            <p:cNvPr id="50" name=""/>
            <p:cNvSpPr/>
            <p:nvPr/>
          </p:nvSpPr>
          <p:spPr>
            <a:xfrm rot="21337200">
              <a:off x="762120" y="3657600"/>
              <a:ext cx="6781680" cy="83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 rot="21337200">
              <a:off x="915120" y="3884760"/>
              <a:ext cx="6553080" cy="44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 txBox="1"/>
          <p:nvPr/>
        </p:nvSpPr>
        <p:spPr>
          <a:xfrm rot="21182400">
            <a:off x="914400" y="4724280"/>
            <a:ext cx="6781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elp me aub, ik ben blind Help me aub, ik ben blind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34106-055F-4A9B-BACB-0146B8465919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2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Er kwam een man voorbij. Hij nam een paar muntstukken uit z’n zak en gooide ze in de ho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Er lagen maar een paar muntstukken in de ho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Coins drop - Click image to download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380880"/>
            <a:ext cx="1447920" cy="1049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Flipping coin - Click image to download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4114800"/>
            <a:ext cx="243828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Hat 3 - Click image to download.">
            <a:hlinkClick r:id="rId6"/>
          </p:cNvPr>
          <p:cNvPicPr/>
          <p:nvPr/>
        </p:nvPicPr>
        <p:blipFill>
          <a:blip r:embed="rId7"/>
          <a:stretch/>
        </p:blipFill>
        <p:spPr>
          <a:xfrm rot="10534800">
            <a:off x="4571640" y="5257080"/>
            <a:ext cx="3054240" cy="71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16FAB-3014-4439-A0E1-600513E74733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Vervolgens nam hij het bord, draaide het om, en schreef er enkele woorden op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Hij zette het bord terug zodat iedereen die voorbij kwam de nieuwe tekst goed kon z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086600" y="1676520"/>
            <a:ext cx="1523880" cy="888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Footsteps - Click image to download.">
            <a:hlinkClick r:id="rId3"/>
          </p:cNvPr>
          <p:cNvPicPr/>
          <p:nvPr/>
        </p:nvPicPr>
        <p:blipFill>
          <a:blip r:embed="rId4"/>
          <a:stretch/>
        </p:blipFill>
        <p:spPr>
          <a:xfrm rot="16200000">
            <a:off x="4000320" y="1942920"/>
            <a:ext cx="914400" cy="678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B981C-33F5-4681-8E0B-0A8C36D079C8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914400"/>
            <a:ext cx="8001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En de hoed begon al snel vol te ra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Er waren veel meer mensen die geld gaven aan de blinde jon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705720" y="3657600"/>
            <a:ext cx="1414440" cy="1523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Hat 3 - Click image to download.">
            <a:hlinkClick r:id="rId3"/>
          </p:cNvPr>
          <p:cNvPicPr/>
          <p:nvPr/>
        </p:nvPicPr>
        <p:blipFill>
          <a:blip r:embed="rId4"/>
          <a:stretch/>
        </p:blipFill>
        <p:spPr>
          <a:xfrm rot="10402800">
            <a:off x="6629400" y="5486040"/>
            <a:ext cx="1905120" cy="84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Dollar 4 - Click image to download.">
            <a:hlinkClick r:id="rId5"/>
          </p:cNvPr>
          <p:cNvPicPr/>
          <p:nvPr/>
        </p:nvPicPr>
        <p:blipFill>
          <a:blip r:embed="rId6"/>
          <a:stretch/>
        </p:blipFill>
        <p:spPr>
          <a:xfrm rot="18830400">
            <a:off x="6286320" y="4914720"/>
            <a:ext cx="542880" cy="618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Dollar slips - Click image to download."/>
          <p:cNvPicPr/>
          <p:nvPr/>
        </p:nvPicPr>
        <p:blipFill>
          <a:blip r:embed="rId7"/>
          <a:stretch/>
        </p:blipFill>
        <p:spPr>
          <a:xfrm>
            <a:off x="6934320" y="1143000"/>
            <a:ext cx="62856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Dollar slips - Click image to download."/>
          <p:cNvPicPr/>
          <p:nvPr/>
        </p:nvPicPr>
        <p:blipFill>
          <a:blip r:embed="rId8"/>
          <a:stretch/>
        </p:blipFill>
        <p:spPr>
          <a:xfrm>
            <a:off x="7543800" y="533520"/>
            <a:ext cx="628560" cy="457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Smiley coin - Click image to download."/>
          <p:cNvPicPr/>
          <p:nvPr/>
        </p:nvPicPr>
        <p:blipFill>
          <a:blip r:embed="rId9"/>
          <a:stretch/>
        </p:blipFill>
        <p:spPr>
          <a:xfrm>
            <a:off x="8077320" y="3886200"/>
            <a:ext cx="485640" cy="428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Smiley coin - Click image to download."/>
          <p:cNvPicPr/>
          <p:nvPr/>
        </p:nvPicPr>
        <p:blipFill>
          <a:blip r:embed="rId10"/>
          <a:stretch/>
        </p:blipFill>
        <p:spPr>
          <a:xfrm>
            <a:off x="7924680" y="5029200"/>
            <a:ext cx="486000" cy="428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Stack of coins - Click image to download."/>
          <p:cNvPicPr/>
          <p:nvPr/>
        </p:nvPicPr>
        <p:blipFill>
          <a:blip r:embed="rId11"/>
          <a:stretch/>
        </p:blipFill>
        <p:spPr>
          <a:xfrm>
            <a:off x="6400800" y="83808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908B2-9168-4A99-BD4F-DD46EEAD37C0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De jongen herkende z’n voetstappen en vroeg,</a:t>
            </a:r>
            <a:br>
              <a:rPr sz="2800"/>
            </a:br>
            <a:r>
              <a:rPr b="0" i="1" lang="en-US" sz="2800" spc="-1" strike="noStrike">
                <a:solidFill>
                  <a:srgbClr val="a4a729"/>
                </a:solidFill>
                <a:latin typeface="Elephant"/>
              </a:rPr>
              <a:t>“Ben jij diegene die m’n bord heeft veranderd deze ochtend? Wat heb je geschreven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14600" y="4191120"/>
            <a:ext cx="1752480" cy="1904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419720" y="4114800"/>
            <a:ext cx="1676160" cy="1905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5228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In de nammidag kwam de man die het bordje had veranderd even een kijkje neme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105520" y="2666880"/>
            <a:ext cx="114300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9FE3C-9D66-4065-B874-75DBDD8A013C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1305000" cy="1238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 rot="20542800">
            <a:off x="5791320" y="1904760"/>
            <a:ext cx="183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FFER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3733920"/>
            <a:ext cx="8991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a4a729"/>
                </a:solidFill>
                <a:latin typeface="Elephant"/>
              </a:rPr>
              <a:t>De man ze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a4a729"/>
                </a:solidFill>
                <a:latin typeface="Elephant"/>
              </a:rPr>
              <a:t>“</a:t>
            </a:r>
            <a:r>
              <a:rPr b="0" i="1" lang="nl-BE" sz="2800" spc="-1" strike="noStrike">
                <a:solidFill>
                  <a:srgbClr val="a4a729"/>
                </a:solidFill>
                <a:latin typeface="Elephant"/>
              </a:rPr>
              <a:t>Ik heb enkel maar de waarheid geschr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a4a729"/>
                </a:solidFill>
                <a:latin typeface="Elephant"/>
              </a:rPr>
              <a:t>Ik heb hetzelfde geschreven maar op maar op een  manie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 rot="20542800">
            <a:off x="1828440" y="5714640"/>
            <a:ext cx="1838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DE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30CB0-44A1-4E0D-8C05-AA67B0DC4F04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190512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 rot="15842400">
            <a:off x="885600" y="180360"/>
            <a:ext cx="990360" cy="1238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295280" y="43434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2590920" y="434340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3886200" y="43434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5257800" y="43434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477120" y="434340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7696080" y="434340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251460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a4a729"/>
                </a:solidFill>
                <a:latin typeface="Elephant"/>
              </a:rPr>
              <a:t>De man had het volgende geschrev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a4a729"/>
                </a:solidFill>
                <a:latin typeface="Elephant"/>
              </a:rPr>
              <a:t>“</a:t>
            </a:r>
            <a:r>
              <a:rPr b="0" i="1" lang="nl-BE" sz="2800" spc="-1" strike="noStrike">
                <a:solidFill>
                  <a:srgbClr val="a4a729"/>
                </a:solidFill>
                <a:latin typeface="Elephant"/>
              </a:rPr>
              <a:t>Vandaag is een                             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a4a729"/>
                </a:solidFill>
                <a:latin typeface="Elephant"/>
              </a:rPr>
              <a:t>En ik kan hem niet zie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10160" y="3124080"/>
            <a:ext cx="23241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Elephant"/>
              </a:rPr>
              <a:t>PRACHTIGE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Elephant"/>
              <a:ea typeface="Elepha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0F54D-38DF-4373-B96E-D1DE897111FF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Vind jij dat de twee teksten hetzelfde zegge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429000" y="4267080"/>
            <a:ext cx="1114560" cy="1486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25909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Dollar twisted - Click image to download."/>
          <p:cNvPicPr/>
          <p:nvPr/>
        </p:nvPicPr>
        <p:blipFill>
          <a:blip r:embed="rId3"/>
          <a:stretch/>
        </p:blipFill>
        <p:spPr>
          <a:xfrm>
            <a:off x="7800840" y="533520"/>
            <a:ext cx="1343160" cy="1676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320" y="329076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a729"/>
                </a:solidFill>
                <a:latin typeface="Elephant"/>
              </a:rPr>
              <a:t>Natuurlijk vertelde beide borden dat de jongen blind w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taling door: BIG BAD JOH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74566-A1BF-447A-B635-32950F0DEE00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4:14:49Z</dcterms:created>
  <dc:creator>Etienne Smeets</dc:creator>
  <dc:description/>
  <dc:language>en-US</dc:language>
  <cp:lastModifiedBy>Smets</cp:lastModifiedBy>
  <dcterms:modified xsi:type="dcterms:W3CDTF">2008-09-18T19:21:43Z</dcterms:modified>
  <cp:revision>3</cp:revision>
  <dc:subject/>
  <dc:title>Dia 1</dc:title>
</cp:coreProperties>
</file>