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gif" ContentType="image/gif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0.gif" ContentType="image/gif"/>
  <Override PartName="/ppt/media/image29.gif" ContentType="image/gif"/>
  <Override PartName="/ppt/media/image31.gif" ContentType="image/gif"/>
  <Override PartName="/ppt/media/image11.gif" ContentType="image/gif"/>
  <Override PartName="/ppt/media/I'm%20alone%20-%20I'm%20alone.wav" ContentType="audio/x-wav"/>
  <Override PartName="/ppt/media/image7.gif" ContentType="image/gif"/>
  <Override PartName="/ppt/media/image35.png" ContentType="image/png"/>
  <Override PartName="/ppt/media/image6.gif" ContentType="image/gif"/>
  <Override PartName="/ppt/media/image36.gif" ContentType="image/gif"/>
  <Override PartName="/ppt/media/image12.gif" ContentType="image/gif"/>
  <Override PartName="/ppt/media/image8.gif" ContentType="image/gif"/>
  <Override PartName="/ppt/media/image9.gif" ContentType="image/gif"/>
  <Override PartName="/ppt/media/image30.gif" ContentType="image/gif"/>
  <Override PartName="/ppt/media/image5.gif" ContentType="image/gif"/>
  <Override PartName="/ppt/media/image28.gif" ContentType="image/gif"/>
  <Override PartName="/ppt/media/image33.gif" ContentType="image/gif"/>
  <Override PartName="/ppt/media/image3.gif" ContentType="image/gif"/>
  <Override PartName="/ppt/media/image26.gif" ContentType="image/gif"/>
  <Override PartName="/ppt/media/image34.gif" ContentType="image/gif"/>
  <Override PartName="/ppt/media/image4.gif" ContentType="image/gif"/>
  <Override PartName="/ppt/media/image1.jpeg" ContentType="image/jpeg"/>
  <Override PartName="/ppt/media/image27.gif" ContentType="image/gif"/>
  <Override PartName="/ppt/media/image32.gif" ContentType="image/gif"/>
  <Override PartName="/ppt/media/image2.gif" ContentType="image/gif"/>
  <Override PartName="/ppt/media/image25.gif" ContentType="image/gif"/>
  <Override PartName="/ppt/media/image13.gif" ContentType="image/gif"/>
  <Override PartName="/ppt/media/image14.gif" ContentType="image/gif"/>
  <Override PartName="/ppt/media/image15.gif" ContentType="image/gif"/>
  <Override PartName="/ppt/media/image1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35C0-5116-4D40-855E-88125F3D5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1411-6F66-4A91-B11E-72111EF5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E50A-ECAE-4765-A16D-913AF1C11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A1FB-BCCC-4262-98DC-7E6117685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D721-1479-4FE1-97A4-AC680055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A4D5-7AAD-4F52-89B4-0ABA21A9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0348-87C7-45F1-93F5-9DC23522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D3CE-42EB-444F-8C7E-41EFF00B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E6E1-6EF8-4585-803F-FB9E76BE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614E-5813-4BA7-8037-56279FE9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A2BC-A122-4C35-9A73-30C7A9B2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64C4-77C7-414A-AAAB-C6C73CD6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5AD4-2C04-48D0-A6CE-66F0BBFD9AD1}" type="datetime">
              <a:rPr b="0" lang="nl-BE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EC1E-AC36-4404-821D-2D28C7874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I&apos;m%20alone%20-%20I&apos;m%20alone.wav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hyperlink" Target="http://www.animationlibrary.com/a-l/?n=image.php3&amp;image_id=12760" TargetMode="External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image" Target="../media/image32.gif"/><Relationship Id="rId5" Type="http://schemas.openxmlformats.org/officeDocument/2006/relationships/image" Target="../media/image33.gif"/><Relationship Id="rId6" Type="http://schemas.openxmlformats.org/officeDocument/2006/relationships/image" Target="../media/image34.gi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gif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6.gif"/><Relationship Id="rId6" Type="http://schemas.openxmlformats.org/officeDocument/2006/relationships/image" Target="../media/image36.gif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hyperlink" Target="http://www.animationlibrary.com/a-l/?n=image.php3&amp;image_id=4314" TargetMode="External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nimationlibrary.com/a-l/?n=image.php3&amp;image_id=8185" TargetMode="External"/><Relationship Id="rId3" Type="http://schemas.openxmlformats.org/officeDocument/2006/relationships/image" Target="../media/image6.gif"/><Relationship Id="rId4" Type="http://schemas.openxmlformats.org/officeDocument/2006/relationships/hyperlink" Target="http://www.animationlibrary.com/a-l/?n=image.php3&amp;image_id=8204" TargetMode="External"/><Relationship Id="rId5" Type="http://schemas.openxmlformats.org/officeDocument/2006/relationships/image" Target="../media/image7.gif"/><Relationship Id="rId6" Type="http://schemas.openxmlformats.org/officeDocument/2006/relationships/hyperlink" Target="http://www.animationlibrary.com/a-l/?n=image.php3&amp;image_id=4314" TargetMode="External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hyperlink" Target="http://www.animationlibrary.com/a-l/?n=image.php3&amp;image_id=12752" TargetMode="External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hyperlink" Target="http://www.animationlibrary.com/a-l/?n=image.php3&amp;image_id=4314" TargetMode="External"/><Relationship Id="rId4" Type="http://schemas.openxmlformats.org/officeDocument/2006/relationships/image" Target="../media/image4.gif"/><Relationship Id="rId5" Type="http://schemas.openxmlformats.org/officeDocument/2006/relationships/hyperlink" Target="http://www.animationlibrary.com/a-l/?n=image.php3&amp;image_id=8191" TargetMode="External"/><Relationship Id="rId6" Type="http://schemas.openxmlformats.org/officeDocument/2006/relationships/image" Target="../media/image11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image" Target="../media/image13.gif"/><Relationship Id="rId10" Type="http://schemas.openxmlformats.org/officeDocument/2006/relationships/image" Target="../media/image13.gif"/><Relationship Id="rId11" Type="http://schemas.openxmlformats.org/officeDocument/2006/relationships/image" Target="../media/image14.gif"/><Relationship Id="rId1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18.gif"/><Relationship Id="rId7" Type="http://schemas.openxmlformats.org/officeDocument/2006/relationships/image" Target="../media/image20.gif"/><Relationship Id="rId8" Type="http://schemas.openxmlformats.org/officeDocument/2006/relationships/image" Target="../media/image21.gif"/><Relationship Id="rId9" Type="http://schemas.openxmlformats.org/officeDocument/2006/relationships/image" Target="../media/image18.gif"/><Relationship Id="rId10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066680" y="457200"/>
            <a:ext cx="2133720" cy="189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a4a729"/>
                </a:solidFill>
                <a:latin typeface="Elephant"/>
              </a:rPr>
              <a:t>Er is              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a4a729"/>
                </a:solidFill>
                <a:latin typeface="Elephant"/>
              </a:rPr>
              <a:t>mani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038480" y="2133720"/>
            <a:ext cx="148608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igi"/>
              </a:rPr>
              <a:t>altijd 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igi"/>
              <a:ea typeface="Gig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828800" y="2971800"/>
            <a:ext cx="148608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igi"/>
              </a:rPr>
              <a:t>betere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igi"/>
              <a:ea typeface="Gig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taling door: BIG BAD JOHN       klikken om verder te gaan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F8297E-1FD0-4027-8799-1D7066B7462B}" type="datetime1">
              <a:rPr lang="en-US"/>
              <a:t>07/31/26</a:t>
            </a:fld>
          </a:p>
        </p:txBody>
      </p:sp>
    </p:spTree>
  </p:cSld>
  <p:transition spd="slow" advTm="10000">
    <p:split dir="out" orient="horz"/>
    <p:sndAc>
      <p:stSnd>
        <p:snd r:embed="rId3" name="I'm%20alone%20-%20I'm%20alon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620120" y="5351400"/>
            <a:ext cx="1523880" cy="13543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4a729"/>
                </a:solidFill>
                <a:latin typeface="Elephant"/>
              </a:rPr>
              <a:t>Maar het eerste bord vertelde de mensen eenvoudig weg om te helpen door wat geld in de hoed te gooien.</a:t>
            </a:r>
            <a:br>
              <a:rPr sz="3200"/>
            </a:br>
            <a:r>
              <a:rPr b="0" lang="nl-NL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nl-NL" sz="3200" spc="-1" strike="noStrike">
                <a:solidFill>
                  <a:srgbClr val="a4a729"/>
                </a:solidFill>
                <a:latin typeface="Elephant"/>
              </a:rPr>
              <a:t>Het tweede bord vertelde de mensen dat zij van de schoonheid van de dag konden genieten,</a:t>
            </a:r>
            <a:br>
              <a:rPr sz="3200"/>
            </a:br>
            <a:r>
              <a:rPr b="0" lang="nl-NL" sz="3200" spc="-1" strike="noStrike">
                <a:solidFill>
                  <a:srgbClr val="a4a729"/>
                </a:solidFill>
                <a:latin typeface="Elephant"/>
              </a:rPr>
              <a:t>en de jongen niet,  omdat hij blind w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52280" y="1905120"/>
            <a:ext cx="984240" cy="160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taling door: BIG BAD JOH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4A8896-44A8-4D79-A4A7-A7A8D3514B34}" type="datetime1">
              <a:rPr lang="en-US"/>
              <a:t>07/31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2111400" cy="2362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Dollar - Click image to download."/>
          <p:cNvPicPr/>
          <p:nvPr/>
        </p:nvPicPr>
        <p:blipFill>
          <a:blip r:embed="rId3"/>
          <a:stretch/>
        </p:blipFill>
        <p:spPr>
          <a:xfrm>
            <a:off x="7315200" y="5257800"/>
            <a:ext cx="1371600" cy="11811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905120" y="388620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a4a729"/>
                </a:solidFill>
                <a:latin typeface="Elephant"/>
              </a:rPr>
              <a:t>Zouden wij verrast moeten zijn omdat het tweede bord effectiever w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taling door: BIG BAD JOH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D2F057-2A42-4B8F-AF35-6ABD8B9D1E1A}" type="datetime1">
              <a:rPr lang="en-US"/>
              <a:t>07/31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84582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2667240" cy="1641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Hand moves - Click image to download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38480" y="1295280"/>
            <a:ext cx="762120" cy="914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Hand moves - Click image to download."/>
          <p:cNvPicPr/>
          <p:nvPr/>
        </p:nvPicPr>
        <p:blipFill>
          <a:blip r:embed="rId5"/>
          <a:stretch/>
        </p:blipFill>
        <p:spPr>
          <a:xfrm>
            <a:off x="3581280" y="3124080"/>
            <a:ext cx="762120" cy="914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80880" y="35812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a4a729"/>
                </a:solidFill>
                <a:latin typeface="Elephant"/>
              </a:rPr>
              <a:t>Er zijn minstens               twee lessen die we kunnen leren uit dit simpele verhaalt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taling door: BIG BAD JOH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42E95E-AA97-41EF-A79A-F799BA050B3D}" type="datetime1">
              <a:rPr lang="en-US"/>
              <a:t>07/31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143000" y="243828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3505320"/>
            <a:ext cx="914400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a4a729"/>
                </a:solidFill>
                <a:latin typeface="Elephant"/>
              </a:rPr>
              <a:t>De eerste les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a4a729"/>
                </a:solidFill>
                <a:latin typeface="Elephant"/>
              </a:rPr>
              <a:t>“</a:t>
            </a:r>
            <a:r>
              <a:rPr b="0" i="1" lang="nl-BE" sz="2800" spc="-1" strike="noStrike">
                <a:solidFill>
                  <a:srgbClr val="a4a729"/>
                </a:solidFill>
                <a:latin typeface="Elephant"/>
              </a:rPr>
              <a:t>Wees dankbaar met met wat je zelf heb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a4a729"/>
                </a:solidFill>
                <a:latin typeface="Elephant"/>
              </a:rPr>
              <a:t>Iemand anders heeft min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3600" spc="-1" strike="noStrike">
                <a:solidFill>
                  <a:srgbClr val="333399"/>
                </a:solidFill>
                <a:latin typeface="Arial"/>
              </a:rPr>
              <a:t>Help</a:t>
            </a:r>
            <a:r>
              <a:rPr b="0" i="1" lang="nl-BE" sz="2800" spc="-1" strike="noStrike">
                <a:solidFill>
                  <a:srgbClr val="a4a729"/>
                </a:solidFill>
                <a:latin typeface="Elephant"/>
              </a:rPr>
              <a:t> waar je kan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taling door: BIG BAD JOH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8DB05A-7D21-46A8-8A6A-0D37484D1327}" type="datetime1">
              <a:rPr lang="en-US"/>
              <a:t>07/31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cond is,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Be                 . 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                             . 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                         . 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ALWAYS A                       WAY!”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200400" y="2819520"/>
            <a:ext cx="3238560" cy="457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038480" y="1828800"/>
            <a:ext cx="1552680" cy="466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3581280" y="3809880"/>
            <a:ext cx="2828880" cy="352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4952880" y="4648320"/>
            <a:ext cx="2210040" cy="685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838080" y="5335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taling door: BIG BAD JOHN             op volgende dia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124ADA-D3A1-4627-893C-B455F6AAAB01}" type="datetime1">
              <a:rPr lang="en-US"/>
              <a:t>07/31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838080" y="5335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0"/>
            <a:ext cx="91440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a4a729"/>
                </a:solidFill>
                <a:latin typeface="Elephant"/>
              </a:rPr>
              <a:t>De tweede les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a4a729"/>
                </a:solidFill>
                <a:latin typeface="Elephant"/>
              </a:rPr>
              <a:t>Wee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a4a729"/>
                </a:solidFill>
                <a:latin typeface="Elephant"/>
              </a:rPr>
              <a:t>W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a4a729"/>
                </a:solidFill>
                <a:latin typeface="Elephant"/>
              </a:rPr>
              <a:t>De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a4a729"/>
                </a:solidFill>
                <a:latin typeface="Elephant"/>
              </a:rPr>
              <a:t>Er is altijd een                                 manni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181480" y="914400"/>
            <a:ext cx="25624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0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Harrington"/>
              </a:rPr>
              <a:t>CREATIEF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Harrington"/>
              <a:ea typeface="Harringto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257800" y="2057400"/>
            <a:ext cx="2543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Raavi"/>
              </a:rPr>
              <a:t>VERNIEUWEND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Raavi"/>
              <a:ea typeface="Raav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257800" y="3733920"/>
            <a:ext cx="252396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Magneto"/>
              </a:rPr>
              <a:t>ANDER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Magneto"/>
              <a:ea typeface="Magneto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809880" y="4572000"/>
            <a:ext cx="2362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ETER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979640" y="609300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latin typeface="Mangal"/>
              <a:ea typeface="Mang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taling door: BIG BAD JOH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AC8AB0-229E-41A1-AB91-A2246FE5A26D}" type="datetime1">
              <a:rPr lang="en-US"/>
              <a:t>07/31/26</a:t>
            </a:fld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5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a729"/>
                </a:solidFill>
                <a:latin typeface="Elephant"/>
              </a:rPr>
              <a:t>Een blinde jongen zat op de trappen voor een gebouw,met een hoed voor zich.</a:t>
            </a:r>
            <a:br>
              <a:rPr sz="1800"/>
            </a:br>
            <a:r>
              <a:rPr b="0" lang="en-US" sz="2800" spc="-1" strike="noStrike">
                <a:solidFill>
                  <a:srgbClr val="a4a729"/>
                </a:solidFill>
                <a:latin typeface="Elephant"/>
              </a:rPr>
              <a:t>Voor hem stond een bord m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543800" y="2286000"/>
            <a:ext cx="1371600" cy="1981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Hat 3 - Click image to download.">
            <a:hlinkClick r:id="rId3"/>
          </p:cNvPr>
          <p:cNvPicPr/>
          <p:nvPr/>
        </p:nvPicPr>
        <p:blipFill>
          <a:blip r:embed="rId4"/>
          <a:stretch/>
        </p:blipFill>
        <p:spPr>
          <a:xfrm rot="19606800">
            <a:off x="6933960" y="2437920"/>
            <a:ext cx="895320" cy="833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740160" y="3399840"/>
            <a:ext cx="6825960" cy="1353600"/>
            <a:chOff x="740160" y="3399840"/>
            <a:chExt cx="6825960" cy="1353600"/>
          </a:xfrm>
        </p:grpSpPr>
        <p:sp>
          <p:nvSpPr>
            <p:cNvPr id="50" name=""/>
            <p:cNvSpPr/>
            <p:nvPr/>
          </p:nvSpPr>
          <p:spPr>
            <a:xfrm rot="21337200">
              <a:off x="762120" y="3657600"/>
              <a:ext cx="6781680" cy="83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55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" descr=""/>
            <p:cNvPicPr/>
            <p:nvPr/>
          </p:nvPicPr>
          <p:blipFill>
            <a:blip r:embed="rId5"/>
            <a:stretch/>
          </p:blipFill>
          <p:spPr>
            <a:xfrm rot="21337200">
              <a:off x="915120" y="3884760"/>
              <a:ext cx="6553080" cy="44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"/>
          <p:cNvSpPr txBox="1"/>
          <p:nvPr/>
        </p:nvSpPr>
        <p:spPr>
          <a:xfrm rot="21182400">
            <a:off x="914400" y="4724280"/>
            <a:ext cx="67816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elp me aub, ik ben blind Help me aub, ik ben blind</a:t>
            </a:r>
            <a:endParaRPr b="0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taling door: BIG BAD JOH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87C6CF-E230-4A36-AC60-0E83E1C5D145}" type="datetime1">
              <a:rPr lang="en-US"/>
              <a:t>07/31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2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2800" spc="-1" strike="noStrike">
                <a:solidFill>
                  <a:srgbClr val="a4a729"/>
                </a:solidFill>
                <a:latin typeface="Elephant"/>
              </a:rPr>
              <a:t>Er kwam een man voorbij. Hij nam een paar muntstukken uit z’n zak en gooide ze in de ho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28600"/>
            <a:ext cx="9144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a729"/>
                </a:solidFill>
                <a:latin typeface="Elephant"/>
              </a:rPr>
              <a:t>Er lagen maar een paar muntstukken in de ho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Coins drop - Click image to download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38480" y="380880"/>
            <a:ext cx="1447920" cy="1049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Flipping coin - Click image to download.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257800" y="4114800"/>
            <a:ext cx="2438280" cy="1114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Hat 3 - Click image to download.">
            <a:hlinkClick r:id="rId6"/>
          </p:cNvPr>
          <p:cNvPicPr/>
          <p:nvPr/>
        </p:nvPicPr>
        <p:blipFill>
          <a:blip r:embed="rId7"/>
          <a:stretch/>
        </p:blipFill>
        <p:spPr>
          <a:xfrm rot="10534800">
            <a:off x="4571640" y="5257080"/>
            <a:ext cx="3054240" cy="71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taling door: BIG BAD JOH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AA90A8-6AEB-4A20-808E-43B3925E940F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99172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2800" spc="-1" strike="noStrike">
                <a:solidFill>
                  <a:srgbClr val="a4a729"/>
                </a:solidFill>
                <a:latin typeface="Elephant"/>
              </a:rPr>
              <a:t>Vervolgens nam hij het bord, draaide het om, en schreef er enkele woorden op.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2800" spc="-1" strike="noStrike">
                <a:solidFill>
                  <a:srgbClr val="a4a729"/>
                </a:solidFill>
                <a:latin typeface="Elephant"/>
              </a:rPr>
              <a:t>Hij zette het bord terug zodat iedereen die voorbij kwam de nieuwe tekst goed kon z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086600" y="1676520"/>
            <a:ext cx="1523880" cy="888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Footsteps - Click image to download.">
            <a:hlinkClick r:id="rId3"/>
          </p:cNvPr>
          <p:cNvPicPr/>
          <p:nvPr/>
        </p:nvPicPr>
        <p:blipFill>
          <a:blip r:embed="rId4"/>
          <a:stretch/>
        </p:blipFill>
        <p:spPr>
          <a:xfrm rot="16200000">
            <a:off x="4000320" y="1942920"/>
            <a:ext cx="914400" cy="678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taling door: BIG BAD JOH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AC96B5-091D-4583-8982-407091ED589B}" type="datetime1">
              <a:rPr lang="en-US"/>
              <a:t>07/31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914400"/>
            <a:ext cx="8001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a729"/>
                </a:solidFill>
                <a:latin typeface="Elephant"/>
              </a:rPr>
              <a:t>En de hoed begon al snel vol te ra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a729"/>
                </a:solidFill>
                <a:latin typeface="Elephant"/>
              </a:rPr>
              <a:t>Er waren veel meer mensen die geld gaven aan de blinde jon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705720" y="3657600"/>
            <a:ext cx="1414440" cy="1523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Hat 3 - Click image to download.">
            <a:hlinkClick r:id="rId3"/>
          </p:cNvPr>
          <p:cNvPicPr/>
          <p:nvPr/>
        </p:nvPicPr>
        <p:blipFill>
          <a:blip r:embed="rId4"/>
          <a:stretch/>
        </p:blipFill>
        <p:spPr>
          <a:xfrm rot="10402800">
            <a:off x="6629400" y="5486040"/>
            <a:ext cx="1905120" cy="846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Dollar 4 - Click image to download.">
            <a:hlinkClick r:id="rId5"/>
          </p:cNvPr>
          <p:cNvPicPr/>
          <p:nvPr/>
        </p:nvPicPr>
        <p:blipFill>
          <a:blip r:embed="rId6"/>
          <a:stretch/>
        </p:blipFill>
        <p:spPr>
          <a:xfrm rot="18830400">
            <a:off x="6286320" y="4914720"/>
            <a:ext cx="542880" cy="618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Dollar slips - Click image to download."/>
          <p:cNvPicPr/>
          <p:nvPr/>
        </p:nvPicPr>
        <p:blipFill>
          <a:blip r:embed="rId7"/>
          <a:stretch/>
        </p:blipFill>
        <p:spPr>
          <a:xfrm>
            <a:off x="6934320" y="1143000"/>
            <a:ext cx="628560" cy="457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Dollar slips - Click image to download."/>
          <p:cNvPicPr/>
          <p:nvPr/>
        </p:nvPicPr>
        <p:blipFill>
          <a:blip r:embed="rId8"/>
          <a:stretch/>
        </p:blipFill>
        <p:spPr>
          <a:xfrm>
            <a:off x="7543800" y="533520"/>
            <a:ext cx="628560" cy="457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Smiley coin - Click image to download."/>
          <p:cNvPicPr/>
          <p:nvPr/>
        </p:nvPicPr>
        <p:blipFill>
          <a:blip r:embed="rId9"/>
          <a:stretch/>
        </p:blipFill>
        <p:spPr>
          <a:xfrm>
            <a:off x="8077320" y="3886200"/>
            <a:ext cx="485640" cy="428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Smiley coin - Click image to download."/>
          <p:cNvPicPr/>
          <p:nvPr/>
        </p:nvPicPr>
        <p:blipFill>
          <a:blip r:embed="rId10"/>
          <a:stretch/>
        </p:blipFill>
        <p:spPr>
          <a:xfrm>
            <a:off x="7924680" y="5029200"/>
            <a:ext cx="486000" cy="428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Stack of coins - Click image to download."/>
          <p:cNvPicPr/>
          <p:nvPr/>
        </p:nvPicPr>
        <p:blipFill>
          <a:blip r:embed="rId11"/>
          <a:stretch/>
        </p:blipFill>
        <p:spPr>
          <a:xfrm>
            <a:off x="6400800" y="83808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taling door: BIG BAD JOH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64CA81-03BE-41C1-874E-C1BAAC9C6111}" type="datetime1">
              <a:rPr lang="en-US"/>
              <a:t>07/31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0574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a4a729"/>
                </a:solidFill>
                <a:latin typeface="Elephant"/>
              </a:rPr>
              <a:t>De jongen herkende z’n voetstappen en vroeg,</a:t>
            </a:r>
            <a:br>
              <a:rPr sz="2800"/>
            </a:br>
            <a:r>
              <a:rPr b="0" i="1" lang="en-US" sz="2800" spc="-1" strike="noStrike">
                <a:solidFill>
                  <a:srgbClr val="a4a729"/>
                </a:solidFill>
                <a:latin typeface="Elephant"/>
              </a:rPr>
              <a:t>“Ben jij diegene die m’n bord heeft veranderd deze ochtend? Wat heb je geschreven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514600" y="4191120"/>
            <a:ext cx="1752480" cy="19047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419720" y="4114800"/>
            <a:ext cx="1676160" cy="1905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152280"/>
            <a:ext cx="91440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a729"/>
                </a:solidFill>
                <a:latin typeface="Elephant"/>
              </a:rPr>
              <a:t>In de nammidag kwam de man die het bordje had veranderd even een kijkje neme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5105520" y="2666880"/>
            <a:ext cx="114300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taling door: BIG BAD JOH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EE7FCF-CACD-46B1-A320-4F0C55A96B71}" type="datetime1">
              <a:rPr lang="en-US"/>
              <a:t>07/31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85800" y="685800"/>
            <a:ext cx="1305000" cy="12384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 rot="20542800">
            <a:off x="5791320" y="1904760"/>
            <a:ext cx="1838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IFFER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3733920"/>
            <a:ext cx="89917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a4a729"/>
                </a:solidFill>
                <a:latin typeface="Elephant"/>
              </a:rPr>
              <a:t>De man ze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a4a729"/>
                </a:solidFill>
                <a:latin typeface="Elephant"/>
              </a:rPr>
              <a:t>“</a:t>
            </a:r>
            <a:r>
              <a:rPr b="0" i="1" lang="nl-BE" sz="2800" spc="-1" strike="noStrike">
                <a:solidFill>
                  <a:srgbClr val="a4a729"/>
                </a:solidFill>
                <a:latin typeface="Elephant"/>
              </a:rPr>
              <a:t>Ik heb enkel maar de waarheid geschre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a4a729"/>
                </a:solidFill>
                <a:latin typeface="Elephant"/>
              </a:rPr>
              <a:t>Ik heb hetzelfde geschreven maar op maar op een  manier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 rot="20542800">
            <a:off x="1828440" y="5714640"/>
            <a:ext cx="1838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DER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taling door: BIG BAD JOH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76F8F2-01C0-447E-924F-2EB18B653E1F}" type="datetime1">
              <a:rPr lang="en-US"/>
              <a:t>07/31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190512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4343400"/>
            <a:ext cx="1238400" cy="1238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 rot="15842400">
            <a:off x="885600" y="180360"/>
            <a:ext cx="990360" cy="1238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295280" y="4343400"/>
            <a:ext cx="1238400" cy="1238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2590920" y="4343400"/>
            <a:ext cx="1238040" cy="12384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3886200" y="4343400"/>
            <a:ext cx="1238400" cy="1238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5257800" y="4343400"/>
            <a:ext cx="1238400" cy="1238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8"/>
          <a:stretch/>
        </p:blipFill>
        <p:spPr>
          <a:xfrm>
            <a:off x="6477120" y="4343400"/>
            <a:ext cx="1238040" cy="12384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9"/>
          <a:stretch/>
        </p:blipFill>
        <p:spPr>
          <a:xfrm>
            <a:off x="7696080" y="4343400"/>
            <a:ext cx="1238400" cy="1238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2514600"/>
            <a:ext cx="9144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a4a729"/>
                </a:solidFill>
                <a:latin typeface="Elephant"/>
              </a:rPr>
              <a:t>De man had het volgende geschrev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a4a729"/>
                </a:solidFill>
                <a:latin typeface="Elephant"/>
              </a:rPr>
              <a:t>“</a:t>
            </a:r>
            <a:r>
              <a:rPr b="0" i="1" lang="nl-BE" sz="2800" spc="-1" strike="noStrike">
                <a:solidFill>
                  <a:srgbClr val="a4a729"/>
                </a:solidFill>
                <a:latin typeface="Elephant"/>
              </a:rPr>
              <a:t>Vandaag is een                              d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a4a729"/>
                </a:solidFill>
                <a:latin typeface="Elephant"/>
              </a:rPr>
              <a:t>En ik kan hem niet zien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10160" y="3124080"/>
            <a:ext cx="23241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Elephant"/>
              </a:rPr>
              <a:t>PRACHTIGE</a:t>
            </a:r>
            <a:endParaRPr b="1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Elephant"/>
              <a:ea typeface="Elepha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taling door: BIG BAD JOH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9C7918-1950-4E5F-83F8-BAB53647F419}" type="datetime1">
              <a:rPr lang="en-US"/>
              <a:t>07/31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a4a729"/>
                </a:solidFill>
                <a:latin typeface="Elephant"/>
              </a:rPr>
              <a:t>Vind jij dat de twee teksten hetzelfde zeggen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429000" y="4267080"/>
            <a:ext cx="1114560" cy="1486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25909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Dollar twisted - Click image to download."/>
          <p:cNvPicPr/>
          <p:nvPr/>
        </p:nvPicPr>
        <p:blipFill>
          <a:blip r:embed="rId3"/>
          <a:stretch/>
        </p:blipFill>
        <p:spPr>
          <a:xfrm>
            <a:off x="7800840" y="533520"/>
            <a:ext cx="1343160" cy="1676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6320" y="329076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a729"/>
                </a:solidFill>
                <a:latin typeface="Elephant"/>
              </a:rPr>
              <a:t>Natuurlijk vertelde beide borden dat de jongen blind w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taling door: BIG BAD JOH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819C49-436D-4777-81C9-034F1E86B2BB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14:14:49Z</dcterms:created>
  <dc:creator>Etienne Smeets</dc:creator>
  <dc:description/>
  <dc:language>en-US</dc:language>
  <cp:lastModifiedBy>Smets</cp:lastModifiedBy>
  <dcterms:modified xsi:type="dcterms:W3CDTF">2008-09-18T19:21:43Z</dcterms:modified>
  <cp:revision>3</cp:revision>
  <dc:subject/>
  <dc:title>Dia 1</dc:title>
</cp:coreProperties>
</file>