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ED3A-85AF-4D58-94AC-39148050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B60D-B8AC-4377-A564-53822727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6975-C9FF-4466-A6D3-CF4D9426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0384-0A07-440B-BFF8-983584F5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45CF-E081-4011-9260-23418F3B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FF0D-9EC3-4A4C-9A2C-3A7024FE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D359-C8DF-4187-831C-06296717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8096-263E-42A8-83E2-2F0C6C41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A923-09FC-4E85-815D-B4496169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A48D-D055-42A5-B764-40BA1C09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694C-9F6B-417C-AB2C-0AF66A12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DD6E-FC2D-488D-B561-1D2CF5B0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CF1B-2DA5-46D2-95B8-3FCF92E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197D-F6A2-49E0-821B-E177A0EA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8FE8-1910-4502-99F6-3AD26B63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DBF0-81F7-47D3-9ECC-7DE88D26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8623-E9D8-44B1-B299-A1E224B1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9D80-6B6E-4C89-8ED9-1E95E652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8F9D-BA88-4EA7-B49B-8AD1CAA8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B8D7-54DA-435E-98FC-923C9D7E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9F63-C3B2-4630-83E6-AC53D881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F846-E8EE-4E79-9A22-C914616A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A220-0812-4FBC-BE01-42D74999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BA58-B5AB-4C97-AE05-E6DEB139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6485-64FD-479E-B067-DAC5C0C55D6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240D-26A5-48DD-B887-36FD386D11C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50920" y="1157400"/>
            <a:ext cx="8713800" cy="51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Formação de Coordenadores Pedag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12 º Encontro de 2009 – 13 e 14/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Formadores: </a:t>
            </a:r>
            <a:r>
              <a:rPr b="1" i="1" lang="pt-BR" sz="1400" spc="-1" strike="noStrike">
                <a:solidFill>
                  <a:srgbClr val="000000"/>
                </a:solidFill>
                <a:latin typeface="Arial Rounded MT Bold"/>
              </a:rPr>
              <a:t>Flórita Medeiros,</a:t>
            </a: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pt-BR" sz="1400" spc="-1" strike="noStrike">
                <a:solidFill>
                  <a:srgbClr val="000000"/>
                </a:solidFill>
                <a:latin typeface="Arial Rounded MT Bold"/>
              </a:rPr>
              <a:t>Kátia Gomes, Katharine Moucherek e Ronald Corrê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Rounded MT Bold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 Rounded MT Bol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1 – Apresentação dos objetivos do encont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- Refletir sobre as concepções de aprendizagem que norteiam a prática de planejamento dos(as) professores(a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- Socializar os registros sobre planejamento produzidos na es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2 – Leitura em voz alta</a:t>
            </a: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:  Os namorados da filha, de Moacyr Scli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3 – Leitura do Caderno de Regi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4 – Reflexão sobre as concepções de aprendizagem que norteiam a prática de planejamento: retomada do encontro anteri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5 – Trabalho em duplas/tr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6 – Interval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7 – Socialização das produçõ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8 – Sistematização das discussõ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9 - Socialização das práticas sobre planej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 Rounded MT Bol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Referê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ZABALA, Antoni. </a:t>
            </a:r>
            <a:r>
              <a:rPr b="1" lang="pt-BR" sz="1400" spc="-1" strike="noStrike">
                <a:solidFill>
                  <a:srgbClr val="000000"/>
                </a:solidFill>
                <a:latin typeface="Arial Rounded MT Bold"/>
              </a:rPr>
              <a:t>Enfoque globalizador e pensamento complexo</a:t>
            </a: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. Porto Alegre: Artmed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logo cidade q educa e aprende + semed"/>
          <p:cNvPicPr/>
          <p:nvPr/>
        </p:nvPicPr>
        <p:blipFill>
          <a:blip r:embed="rId1"/>
          <a:stretch/>
        </p:blipFill>
        <p:spPr>
          <a:xfrm>
            <a:off x="3348000" y="496800"/>
            <a:ext cx="25923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Rounded MT Bold"/>
              </a:rPr>
              <a:t>Os </a:t>
            </a:r>
            <a:r>
              <a:rPr b="0" lang="pt-BR" sz="4000" spc="-1" strike="noStrike">
                <a:solidFill>
                  <a:srgbClr val="000000"/>
                </a:solidFill>
                <a:latin typeface="Arial Rounded MT Bold"/>
              </a:rPr>
              <a:t>namorados</a:t>
            </a:r>
            <a:r>
              <a:rPr b="0" lang="pt-BR" sz="4400" spc="-1" strike="noStrike">
                <a:solidFill>
                  <a:srgbClr val="000000"/>
                </a:solidFill>
                <a:latin typeface="Arial Rounded MT Bold"/>
              </a:rPr>
              <a:t> da fil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4200" y="149976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7225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Moacyr Sc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72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Quando a filha adolescente anunciou que ia dormir com o namorado, o pai não disse nada. Não a recriminou, não lembrou os rígidos padrões morais de sua juventude. Homem avançado, esperava que aquilo acontecesse um dia. Só não esperava que acontecesse tão ce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72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as tinha uma exigência, além das clássicas recomendações. A moça podia dormir com o namo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72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─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as aqui em 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72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la, por sua vez, não protestou. Até ficou contente. Aquilo resultava em inesperada comodidade. Vida amorosa em domicílio, o que mais podia desejar? Perfe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14200" y="114264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1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Rounded MT Bold"/>
              </a:rPr>
              <a:t>O namorado não se mostrou menos satisfeito. Entre outras razões, porque passaria a partilhar o abundante café-da-manhã da família. Aliás, seu apetite era espantoso: diante do olhar assombrado e melancólico do dono da casa, devorava toneladas do melhor requeijão, do mais fino presunto, tudo regado a litros de suco de laran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Rounded MT Bold"/>
              </a:rPr>
              <a:t>Um dia, o namorado sumiu. Brigamos, disse a filha, mas já estou saindo com outro. O pai pediu que ela trouxesse o rapaz. Veio, e era muito parecido com o anterior: magro, cabeludo, com apetite des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Rounded MT Bold"/>
              </a:rPr>
              <a:t>Breve, o homem descobriria que constância não era uma característica fundamental de sua filha. Os namorados começaram a se suceder em ritmo acelerado. Cada manhã de domingo, era uma nova surpresa: este é o Rodrigo, este é o James, este é o Tato, este é o Cabeç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85840" y="1714680"/>
            <a:ext cx="8501040" cy="428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Lá pelas tantas, ele desistiu de memorizar nomes ou mesmo fisionomias. Se estava na mesa do café-da-manhã, era namorado. Às vezes, também acontecia ─ ah, essa próstata, essa próstata ─ que ele levantava à noite para ir ao banheiro e cruzava com um dos galãs no corredor. Encontro insólito, mas os cumprimentos eram sempre gent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Uma noite, acordou, como de costume, e, no corredor, deu de cara com um rapaz que o olhou apavorado. Tranqüilizou-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─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u sou o pai da Melissa. Não se preocupe, fique à vontade. Faça de conta que a casa é s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 foi dei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00040" y="713880"/>
            <a:ext cx="8215200" cy="592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Na manhã seguinte, a filha desceu para tomar café. Sozi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─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 o rapaz? ─ perguntou o p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─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Que rapaz? ─ disse 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lgo lhe ocorreu, e ele, nervoso, pôs-se de imediato a checar a casa. Faltava o CD player, faltava a máquina fotográfica, faltava a impressora do computador. O namorado não era namorado. Paixão poderia nutrir, mas era pela propriedade alhe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Um único consolo restou ao perplexo pai: aquele, pelo menos, não fizera estrago no café-da-manhã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WERNECK, Humberto.(org). </a:t>
            </a:r>
            <a:r>
              <a:rPr b="1" lang="pt-BR" sz="1800" spc="-1" strike="noStrike">
                <a:solidFill>
                  <a:srgbClr val="000000"/>
                </a:solidFill>
                <a:latin typeface="Arial Rounded MT Bold"/>
              </a:rPr>
              <a:t>Boa Companhia: </a:t>
            </a: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crônicas.</a:t>
            </a: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 2.ed. São Paulo: Companhia das Letras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Arial Rounded MT Bold"/>
              </a:rPr>
              <a:t>REFLEXÃO SOBRE AS CONCEPÇÕES DE APRENDIZAGEM QUE NORTEIAM A PRÁTICA DE 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766600"/>
            <a:ext cx="822960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0c0"/>
                </a:solidFill>
                <a:latin typeface="Arial Rounded MT Bold"/>
              </a:rPr>
              <a:t>Sistematização das discussões realizadas no encontro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14200" y="571680"/>
          <a:ext cx="8715600" cy="6095880"/>
        </p:xfrm>
        <a:graphic>
          <a:graphicData uri="http://schemas.openxmlformats.org/drawingml/2006/table">
            <a:tbl>
              <a:tblPr/>
              <a:tblGrid>
                <a:gridCol w="1643040"/>
                <a:gridCol w="2000520"/>
                <a:gridCol w="2894040"/>
                <a:gridCol w="217800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. Qual modelo de aprendizagem está sendo priorizado na sua escola? Indique elementos que justifiquem sua respos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. Que elementos, no planejamento do professor, permitem a você identificar qual a concepção de aprendizagem por ele abordad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. O que caracteriza uma prática educativa voltada para o desenvolvimento da aprendizagem significativa dos conteúdos abordado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. Na análise dos planos de ensino, como você percebe que a proposta apresentada ajudará os alunos a estabelecer vínculos substanciais e não-arbitrários entre os novos conteúdos e os conhecimentos prévio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724280">
                <a:tc>
                  <a:txBody>
                    <a:bodyPr lIns="68760" rIns="68760" tIns="0" bIns="0" anchor="t">
                      <a:noAutofit/>
                    </a:bodyPr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maioria, uma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prendizagem mecânic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tabLst>
                          <a:tab algn="l" pos="0"/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tabLst>
                          <a:tab algn="l" pos="0"/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Elementos que justificam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Grande quantidade de conteúdos distribuídos em pouco tempo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Instrumentos avaliativos baseados na reprodução, na memorizaçã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forma como o conteúdo é apresentado e organizado: quando é priorizado o conteúdo factual e o conceitual, e o modo de organização é o mesmo para as diferentes naturezas do conhecimento, a aprendizagem é mecânica (memorização, reprodução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enunciado dos exercícios ou atividades: se levam a uma reflexão ou à memorizaçã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Se os conhecimentos prévios são ou não considerad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s situações didáticas: se promovem a reprodução ou a reflexã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relação entre a quantidade de conteúdos e sua temporalid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ensino deve servir de aprendizado para o manejo das diversidades da vid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s processos de aprendizagem devem centrar-se na observação prévia das necessidades educativas dos alun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aprendizagem deve ser intencional e se potencializar na capacidade de transferir para situações diferentes da sala de aula e fora dela sua funcionalidad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s conteúdos devem estabelecer vínculos entre as novas aprendizagens de sala de aula e as que já se encontram presentes na estrutura cognitiva dos alun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s conteúdos devem ter um enfoque profundo da realidade, que favoreça a sua compreensão até então obstacularizada pela memorização ou repetição de informaçõe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modelo teórico deve responder o movimento argumentativo do “para que ensinar” e o “como se aprende”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s concepções de aprendizagem devem prioritariamente assegurar a singularidade de cada aluno, priorizando as experiências vividas por el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currículo precisa ser flexível e adaptado para atender a singularidade do alu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Quando são explicitadas as formas que os conhecimentos prévios são buscados; da apresentação do conteúdo, mostrando seus elementos nucleares, relacionando-os aos que os alunos sabem e vive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Quando são criadas situações de aprendizagens em que os alunos possam relacionar suas experiências aos conteúdos trabalhad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Quando na análise do plano de ensino do professor confronta-se com o diário no qual deverá ser aferida a avaliação diagnóstica que foi realizada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Em seguida, voltando para o plano de ensino, deve-se indagar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s conteúdos levantados para o desenvolvimento das capacidades foram elencados a partir da avaliação diagnóstic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s atividades planejadas pelo professor para trabalhar os conteúdos consideram sua natureza divers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16" name="CaixaDeTexto 4"/>
          <p:cNvSpPr/>
          <p:nvPr/>
        </p:nvSpPr>
        <p:spPr>
          <a:xfrm>
            <a:off x="7840800" y="142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Grup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2920" y="500040"/>
          <a:ext cx="8786880" cy="6095880"/>
        </p:xfrm>
        <a:graphic>
          <a:graphicData uri="http://schemas.openxmlformats.org/drawingml/2006/table">
            <a:tbl>
              <a:tblPr/>
              <a:tblGrid>
                <a:gridCol w="1909800"/>
                <a:gridCol w="2205000"/>
                <a:gridCol w="2475000"/>
                <a:gridCol w="219708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. Qual modelo de aprendizagem está sendo priorizado na sua escola? Indique elementos que justifiquem sua respos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. Que elementos, no planejamento do professor, permitem a você identificar qual a concepção de aprendizagem por ele abordad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. O que caracteriza uma prática educativa voltada para o desenvolvimento da aprendizagem significativa dos conteúdos abordado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. Na análise dos planos de ensino, como você percebe que a proposta apresentada ajudará os alunos a estabelecer vínculos substanciais e não-arbitrários entre os novos conteúdos e os conhecimentos prévio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724280">
                <a:tc>
                  <a:txBody>
                    <a:bodyPr lIns="68760" rIns="68760" tIns="0" bIns="0" anchor="t">
                      <a:noAutofit/>
                    </a:bodyPr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maioria apresenta uma proposta pautada pelo modelo de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prendizagem mecânic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tabLst>
                          <a:tab algn="l" pos="0"/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Elementos que justificam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Não há uma preocupação com a contextualização na aprendizagem dos conteúdos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preocupação maior é com a quantidade de conteúdos a ser trabalhada e não com a qualidade da aprendizagem proporcionada ao alun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enfoque dado aos conteúdos é superfici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ssociados a uma aprendizagem significativa: desenvolvimento de projetos; planos com ênfase nas capacidades; planos que consideram as hipóteses de leitura e escrita; planejamento de atividades de pesquisa; planejamento coletivo; uso de rotinas, priorizando as diferentes modalidades organizativas dos conteúd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ssociados a uma aprendizagem mecânica: planejamento estritamente pautado no livro didático; estrutura do plano baseado em listas de atividades e conteúdos; enfoque na memorização de fórmulas, datas, fatos, etc.; planejamento sem diagnóstico; planos que desconsideram a heterogeneidade da turma, ou seja, a singularidade de cada aluno; situações didáticas pouco criativas, que enfatizam a memorização em detrimento da reflexã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6840" indent="-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Uma prática qu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Leva em consideração a natureza e a relevância dos conteúdos escolares e sua significatividade para a vida real dos educand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Valoriza os conhecimentos prévios como ancorados para construção de novos conheciment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Considera a realidade sócio-econômica e cultural do alun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Considera a motivação para a aprendizagem e a auto-estima dos alun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Nas situações de aprendizagem e avaliação desafiam os alunos de forma coerente e progressiv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Seja uma proposta curricular aberta, dinâmica e criativa, viva, em sintonia com a sociedade do conhecimento globalizad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presenta um currículo que considere os pilares da educaçã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Considera o conteúdo em suas diferentes naturezas: factual, conceitual, procedimental e atitudina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Represente um processo de ensino e aprendizagem que se faça legítimo e que faça sentido para o educand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6840" indent="-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Quand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Há coerência entre a metodologia, a natureza dos conteúdos, a organização dos mesmos e as situações de aprendizagem proposta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avaliação leva a reflexão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tempo destinado ao trabalho do conteúdo é adequado para proporcionar uma aprendizagem significativ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São consideradas as capacidades reais dos alunos e os seus conhecimentos prévi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18" name="CaixaDeTexto 4"/>
          <p:cNvSpPr/>
          <p:nvPr/>
        </p:nvSpPr>
        <p:spPr>
          <a:xfrm>
            <a:off x="7839360" y="71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Grup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Rounded MT Bold"/>
              </a:rPr>
              <a:t>Trabalho em duplas/t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840" y="1285920"/>
            <a:ext cx="850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Com base na distribuição do trabalho, feita pelo(a) formador(a), relacione a realidade vivenciada em seu contexto escolar com os aspectos apresentados no texto “Concepção de aprendizagem e enfoque globalizado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Complexidade do processo de aprendiz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Atividade mental e conflito cogn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O que o sei e o que penso: auto-reflexão e metacogn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Aprender a apr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Sentido e significado: atitude favorável e motiv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O conceito que temos de nós mesmos (auto-conceito) e a estima que temos por nós (auto-esti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As características da tarefa proposta: saber o que se pretende e sentir que aquilo atende a uma necess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O conhecimento sobre a própria aprendiz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A avaliação que se fará do trabalho rea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O interesse do conteúdo de aprendiz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0:39:07Z</dcterms:created>
  <dc:creator>Gisa e Ronald</dc:creator>
  <dc:description/>
  <dc:language>en-US</dc:language>
  <cp:lastModifiedBy>fernando</cp:lastModifiedBy>
  <dcterms:modified xsi:type="dcterms:W3CDTF">2009-11-10T23:56:10Z</dcterms:modified>
  <cp:revision>46</cp:revision>
  <dc:subject/>
  <dc:title>Slide 1</dc:title>
</cp:coreProperties>
</file>