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735600" cy="987120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655">
                <a:moveTo>
                  <a:pt x="5" y="0"/>
                </a:moveTo>
                <a:arcTo wR="5" hR="5" stAng="16200000" swAng="-5400000"/>
                <a:lnTo>
                  <a:pt x="0" y="31650"/>
                </a:lnTo>
                <a:arcTo wR="5" hR="5" stAng="10800000" swAng="-5400000"/>
                <a:lnTo>
                  <a:pt x="21595" y="316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3814560" y="-360"/>
            <a:ext cx="29178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Futura Std Book"/>
              </a:rPr>
              <a:t>Click to move the slide</a:t>
            </a:r>
            <a:endParaRPr b="1" lang="en-US" sz="2200" spc="-1" strike="noStrike">
              <a:solidFill>
                <a:srgbClr val="660066"/>
              </a:solidFill>
              <a:latin typeface="Futura Std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73200" y="4687920"/>
            <a:ext cx="538776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-36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381456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096E87F-563B-480F-BBCE-2D5D8293FE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9374040"/>
            <a:ext cx="2919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14920" y="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33480" y="777960"/>
            <a:ext cx="4870440" cy="365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672840" y="4687560"/>
            <a:ext cx="5389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79000" y="169560"/>
            <a:ext cx="7696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660066"/>
              </a:solidFill>
              <a:latin typeface="Futura Std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1160" y="914400"/>
            <a:ext cx="759312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181160" y="2209680"/>
            <a:ext cx="759312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9000" y="169560"/>
            <a:ext cx="7696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660066"/>
              </a:solidFill>
              <a:latin typeface="Futura Std 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1160" y="914400"/>
            <a:ext cx="370512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72040" y="914400"/>
            <a:ext cx="370512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81160" y="2209680"/>
            <a:ext cx="370512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2040" y="2209680"/>
            <a:ext cx="370512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79000" y="169560"/>
            <a:ext cx="7696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660066"/>
              </a:solidFill>
              <a:latin typeface="Futura Std Boo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1160" y="914400"/>
            <a:ext cx="244476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48680" y="914400"/>
            <a:ext cx="244476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15840" y="914400"/>
            <a:ext cx="244476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181160" y="2209680"/>
            <a:ext cx="244476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748680" y="2209680"/>
            <a:ext cx="244476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15840" y="2209680"/>
            <a:ext cx="244476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9000" y="169560"/>
            <a:ext cx="7696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660066"/>
              </a:solidFill>
              <a:latin typeface="Futura Std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181160" y="914400"/>
            <a:ext cx="7593120" cy="24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9000" y="169560"/>
            <a:ext cx="7696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660066"/>
              </a:solidFill>
              <a:latin typeface="Futura Std 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1160" y="914400"/>
            <a:ext cx="759312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9000" y="169560"/>
            <a:ext cx="7696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660066"/>
              </a:solidFill>
              <a:latin typeface="Futura Std 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1160" y="914400"/>
            <a:ext cx="370512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72040" y="914400"/>
            <a:ext cx="370512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79000" y="169560"/>
            <a:ext cx="7696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660066"/>
              </a:solidFill>
              <a:latin typeface="Futura Std 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79000" y="169560"/>
            <a:ext cx="7696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9000" y="169560"/>
            <a:ext cx="7696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660066"/>
              </a:solidFill>
              <a:latin typeface="Futura Std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1160" y="914400"/>
            <a:ext cx="370512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72040" y="914400"/>
            <a:ext cx="370512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81160" y="2209680"/>
            <a:ext cx="370512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9000" y="169560"/>
            <a:ext cx="7696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660066"/>
              </a:solidFill>
              <a:latin typeface="Futura Std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1160" y="914400"/>
            <a:ext cx="370512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72040" y="914400"/>
            <a:ext cx="370512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72040" y="2209680"/>
            <a:ext cx="370512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9000" y="169560"/>
            <a:ext cx="7696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660066"/>
              </a:solidFill>
              <a:latin typeface="Futura Std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1160" y="914400"/>
            <a:ext cx="370512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72040" y="914400"/>
            <a:ext cx="370512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81160" y="2209680"/>
            <a:ext cx="759312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9000" y="169560"/>
            <a:ext cx="7696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Futura Std Book"/>
              </a:rPr>
              <a:t>Click to edit the title text format</a:t>
            </a:r>
            <a:endParaRPr b="1" lang="en-US" sz="2200" spc="-1" strike="noStrike">
              <a:solidFill>
                <a:srgbClr val="660066"/>
              </a:solidFill>
              <a:latin typeface="Futura Std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1160" y="914400"/>
            <a:ext cx="759312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Futura Std Book"/>
              </a:rPr>
              <a:t>Click to edit the outline text format</a:t>
            </a: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  <a:p>
            <a:pPr lvl="1" marL="341280" indent="-341280">
              <a:lnSpc>
                <a:spcPct val="94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&gt;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Futura Std Book"/>
              </a:rPr>
              <a:t>Second Outline Level</a:t>
            </a: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  <a:p>
            <a:pPr lvl="2" marL="341280" indent="-341280">
              <a:lnSpc>
                <a:spcPct val="94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Futura Std Book"/>
              </a:rPr>
              <a:t>Third Outline Level</a:t>
            </a: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  <a:p>
            <a:pPr lvl="3" marL="341280" indent="-341280">
              <a:lnSpc>
                <a:spcPct val="94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Futura Std Book"/>
              </a:rPr>
              <a:t>Fourth Outline Level</a:t>
            </a: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  <a:p>
            <a:pPr lvl="4" marL="341280" indent="-341280">
              <a:lnSpc>
                <a:spcPct val="94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Futura Std Book"/>
              </a:rPr>
              <a:t>Fifth Outline Level</a:t>
            </a: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  <a:p>
            <a:pPr lvl="5" marL="341280" indent="-341280">
              <a:lnSpc>
                <a:spcPct val="94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Futura Std Book"/>
              </a:rPr>
              <a:t>Sixth Outline Level</a:t>
            </a: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  <a:p>
            <a:pPr lvl="6" marL="341280" indent="-341280">
              <a:lnSpc>
                <a:spcPct val="94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Futura Std Book"/>
              </a:rPr>
              <a:t>Seventh Outline Level</a:t>
            </a: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</p:txBody>
      </p:sp>
      <p:sp>
        <p:nvSpPr>
          <p:cNvPr id="2" name=""/>
          <p:cNvSpPr/>
          <p:nvPr/>
        </p:nvSpPr>
        <p:spPr>
          <a:xfrm>
            <a:off x="4253040" y="6326280"/>
            <a:ext cx="4271760" cy="226800"/>
          </a:xfrm>
          <a:prstGeom prst="rect">
            <a:avLst/>
          </a:prstGeom>
          <a:solidFill>
            <a:srgbClr val="b50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Futura Std Book"/>
              </a:rPr>
              <a:t>	</a:t>
            </a:r>
            <a:r>
              <a:rPr b="0" lang="en-GB" sz="900" spc="-1" strike="noStrike">
                <a:solidFill>
                  <a:srgbClr val="ffffff"/>
                </a:solidFill>
                <a:latin typeface="Futura Std Book"/>
              </a:rPr>
              <a:t>                                        </a:t>
            </a:r>
            <a:r>
              <a:rPr b="0" lang="en-GB" sz="900" spc="-1" strike="noStrike">
                <a:solidFill>
                  <a:srgbClr val="ffffff"/>
                </a:solidFill>
                <a:latin typeface="Futura Std Book"/>
              </a:rPr>
              <a:t>Programme </a:t>
            </a:r>
            <a:r>
              <a:rPr b="1" lang="en-GB" sz="1000" spc="-1" strike="noStrike">
                <a:solidFill>
                  <a:srgbClr val="ffffff"/>
                </a:solidFill>
                <a:latin typeface="Futura Std Book"/>
              </a:rPr>
              <a:t>IEVP CT </a:t>
            </a:r>
            <a:r>
              <a:rPr b="1" lang="fr-FR" sz="1000" spc="-1" strike="noStrike">
                <a:solidFill>
                  <a:srgbClr val="ffffff"/>
                </a:solidFill>
                <a:latin typeface="Futura Std Book"/>
              </a:rPr>
              <a:t>Méditerrané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54480" y="6327720"/>
            <a:ext cx="1739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900" spc="-1" strike="noStrike">
                <a:solidFill>
                  <a:srgbClr val="ffffff"/>
                </a:solidFill>
                <a:latin typeface="Futura Std Book"/>
              </a:rPr>
              <a:t>Alghero</a:t>
            </a:r>
            <a:r>
              <a:rPr b="0" lang="fr-FR" sz="900" spc="-1" strike="noStrike">
                <a:solidFill>
                  <a:srgbClr val="ffffff"/>
                </a:solidFill>
                <a:latin typeface="Futura Std Book"/>
              </a:rPr>
              <a:t>, </a:t>
            </a:r>
            <a:r>
              <a:rPr b="0" lang="it-IT" sz="900" spc="-1" strike="noStrike">
                <a:solidFill>
                  <a:srgbClr val="ffffff"/>
                </a:solidFill>
                <a:latin typeface="Futura Std Book"/>
              </a:rPr>
              <a:t>19-20 mai 20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295360" y="6221520"/>
            <a:ext cx="508320" cy="3380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2755800" y="6188040"/>
            <a:ext cx="12826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8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Futura Std Book"/>
              </a:rPr>
              <a:t>REGION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Futura Std Book"/>
              </a:rPr>
              <a:t>AUTONOM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Futura Std Book"/>
              </a:rPr>
              <a:t>DELLA SARDEG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266840" y="609480"/>
            <a:ext cx="7620120" cy="1800"/>
          </a:xfrm>
          <a:prstGeom prst="line">
            <a:avLst/>
          </a:prstGeom>
          <a:ln w="15840">
            <a:solidFill>
              <a:srgbClr val="b50e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555040" y="6316560"/>
            <a:ext cx="431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DFDFB3-CC39-49B8-9820-0E397C5E61DF}" type="slidenum">
              <a:rPr b="1" lang="en-US" sz="1200" spc="-1" strike="noStrike">
                <a:solidFill>
                  <a:srgbClr val="cc0000"/>
                </a:solidFill>
                <a:latin typeface="Futura Std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741240" y="6210360"/>
            <a:ext cx="522360" cy="3412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222200" y="6207120"/>
            <a:ext cx="10051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Futura Std Book"/>
              </a:rPr>
              <a:t>UNION EUROPEEN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130800" y="318960"/>
            <a:ext cx="719280" cy="479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86080" y="882720"/>
            <a:ext cx="457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Futura Std Book"/>
              </a:rPr>
              <a:t>REGIONE AUTONOMA DELLA SARDEG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54864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1600" spc="-1" strike="noStrike">
                <a:solidFill>
                  <a:srgbClr val="660066"/>
                </a:solidFill>
                <a:latin typeface="Futura Std Book"/>
              </a:rPr>
              <a:t>Alghero, 19-20 Mai </a:t>
            </a:r>
            <a:r>
              <a:rPr b="1" i="1" lang="fr-FR" sz="1600" spc="-1" strike="noStrike">
                <a:solidFill>
                  <a:srgbClr val="660066"/>
                </a:solidFill>
                <a:latin typeface="Futura Std Book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255760"/>
            <a:ext cx="7621560" cy="13892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Futura Std Book"/>
              </a:rPr>
              <a:t>Le Programme IEVP CT Bassin Méditerrané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Futura Std Book"/>
              </a:rPr>
              <a:t>2007 –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017800" y="304920"/>
            <a:ext cx="761760" cy="496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5240" y="882720"/>
            <a:ext cx="457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Futura Std Book"/>
              </a:rPr>
              <a:t>UNION EUROPEEN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426708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660066"/>
                </a:solidFill>
                <a:latin typeface="Futura Std Book"/>
              </a:rPr>
              <a:t>Anna Ca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660066"/>
                </a:solidFill>
                <a:latin typeface="Futura Std Book"/>
              </a:rPr>
              <a:t>Région Autonome de la Sardai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1080" y="169560"/>
            <a:ext cx="76978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Futura Std Book"/>
                <a:ea typeface="Times New Roman"/>
              </a:rPr>
              <a:t> </a:t>
            </a:r>
            <a:endParaRPr b="1" lang="en-US" sz="2400" spc="-1" strike="noStrike">
              <a:solidFill>
                <a:srgbClr val="660066"/>
              </a:solidFill>
              <a:latin typeface="Futura Std Book"/>
            </a:endParaRPr>
          </a:p>
        </p:txBody>
      </p:sp>
      <p:sp>
        <p:nvSpPr>
          <p:cNvPr id="106" name=""/>
          <p:cNvSpPr/>
          <p:nvPr/>
        </p:nvSpPr>
        <p:spPr>
          <a:xfrm>
            <a:off x="858960" y="1138320"/>
            <a:ext cx="810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66840" y="609480"/>
            <a:ext cx="7620120" cy="1800"/>
          </a:xfrm>
          <a:prstGeom prst="line">
            <a:avLst/>
          </a:prstGeom>
          <a:ln w="15840">
            <a:solidFill>
              <a:srgbClr val="b50e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152280"/>
            <a:ext cx="687060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660066"/>
                </a:solidFill>
                <a:latin typeface="Futura Std Book"/>
              </a:rPr>
              <a:t>La stratégie du Programme</a:t>
            </a:r>
            <a:r>
              <a:rPr b="1" lang="it-IT" sz="2400" spc="-1" strike="noStrike">
                <a:solidFill>
                  <a:srgbClr val="660066"/>
                </a:solidFill>
                <a:latin typeface="Futura Std Book"/>
              </a:rPr>
              <a:t>: </a:t>
            </a:r>
            <a:r>
              <a:rPr b="1" lang="fr-FR" sz="2400" spc="-1" strike="noStrike">
                <a:solidFill>
                  <a:srgbClr val="660066"/>
                </a:solidFill>
                <a:latin typeface="Futura Std Book"/>
              </a:rPr>
              <a:t>les princi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24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e </a:t>
            </a:r>
            <a:r>
              <a:rPr b="1" lang="fr-B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èglement IEVP (article 4)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indique </a:t>
            </a:r>
            <a:r>
              <a:rPr b="1" lang="fr-B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es principes clés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orientant le processus de définition et la mise en œuvre du Programme:</a:t>
            </a:r>
            <a:endParaRPr b="1" lang="en-US" sz="1600" spc="-1" strike="noStrike">
              <a:solidFill>
                <a:srgbClr val="cc0000"/>
              </a:solidFill>
              <a:latin typeface="Futura Std Book"/>
            </a:endParaRPr>
          </a:p>
          <a:p>
            <a:pPr lvl="1" marL="571680" indent="-279720" algn="just">
              <a:lnSpc>
                <a:spcPct val="80000"/>
              </a:lnSpc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fr-BE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Bénéfices commu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720" algn="just">
              <a:lnSpc>
                <a:spcPct val="80000"/>
              </a:lnSpc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fr-BE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Parten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720" algn="just">
              <a:lnSpc>
                <a:spcPct val="80000"/>
              </a:lnSpc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fr-BE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Complémentari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720" algn="just">
              <a:lnSpc>
                <a:spcPct val="80000"/>
              </a:lnSpc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fr-BE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Cofinan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e dialogue entre les pays participants au Programme a permis d’identifier une série de principes qui complètent ceux prévus par le Règlement IEVP tels que:</a:t>
            </a:r>
            <a:endParaRPr b="1" lang="en-US" sz="1600" spc="-1" strike="noStrike">
              <a:solidFill>
                <a:srgbClr val="cc0000"/>
              </a:solidFill>
              <a:latin typeface="Futura Std Book"/>
            </a:endParaRPr>
          </a:p>
          <a:p>
            <a:pPr lvl="1" marL="571680" indent="-279720" algn="just">
              <a:lnSpc>
                <a:spcPct val="90000"/>
              </a:lnSpc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fr-BE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Appropriation commu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720" algn="just">
              <a:lnSpc>
                <a:spcPct val="90000"/>
              </a:lnSpc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fr-BE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Développement dur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720" algn="just">
              <a:lnSpc>
                <a:spcPct val="90000"/>
              </a:lnSpc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fr-BE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Égalité des chances, non-discrimination et respect des droits individu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720" algn="just">
              <a:lnSpc>
                <a:spcPct val="90000"/>
              </a:lnSpc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fr-BE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Dimension territoriale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du processus de développement et valorisation des  potentialités endogènes de la zone de coopé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720" algn="just">
              <a:lnSpc>
                <a:spcPct val="90000"/>
              </a:lnSpc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nforcement du niveau de </a:t>
            </a:r>
            <a:r>
              <a:rPr b="1" lang="fr-BE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compétitivité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720" algn="just">
              <a:lnSpc>
                <a:spcPct val="90000"/>
              </a:lnSpc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fr-BE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Intégration et coordination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avec les autres initiatives nationales et loc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1080" y="169560"/>
            <a:ext cx="76978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Futura Std Book"/>
                <a:ea typeface="Times New Roman"/>
              </a:rPr>
              <a:t> </a:t>
            </a:r>
            <a:endParaRPr b="1" lang="en-US" sz="2400" spc="-1" strike="noStrike">
              <a:solidFill>
                <a:srgbClr val="660066"/>
              </a:solidFill>
              <a:latin typeface="Futura Std Book"/>
            </a:endParaRPr>
          </a:p>
        </p:txBody>
      </p:sp>
      <p:sp>
        <p:nvSpPr>
          <p:cNvPr id="111" name=""/>
          <p:cNvSpPr/>
          <p:nvPr/>
        </p:nvSpPr>
        <p:spPr>
          <a:xfrm>
            <a:off x="1266840" y="609480"/>
            <a:ext cx="7620120" cy="1800"/>
          </a:xfrm>
          <a:prstGeom prst="line">
            <a:avLst/>
          </a:prstGeom>
          <a:ln w="15840">
            <a:solidFill>
              <a:srgbClr val="b50e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5480" y="203040"/>
            <a:ext cx="808992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Futura Std Book"/>
              </a:rPr>
              <a:t> </a:t>
            </a:r>
            <a:r>
              <a:rPr b="1" lang="en-GB" sz="2400" spc="-1" strike="noStrike">
                <a:solidFill>
                  <a:srgbClr val="660066"/>
                </a:solidFill>
                <a:latin typeface="Futura Std Book"/>
              </a:rPr>
              <a:t>Au</a:t>
            </a:r>
            <a:r>
              <a:rPr b="1" lang="fr-FR" sz="2400" spc="-1" strike="noStrike">
                <a:solidFill>
                  <a:srgbClr val="660066"/>
                </a:solidFill>
                <a:latin typeface="Futura Std Book"/>
              </a:rPr>
              <a:t>-delà des principes, un élément méthodolog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090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0" algn="ctr">
              <a:lnSpc>
                <a:spcPct val="120000"/>
              </a:lnSpc>
              <a:spcBef>
                <a:spcPts val="1701"/>
              </a:spcBef>
              <a:buNone/>
              <a:tabLst>
                <a:tab algn="l" pos="0"/>
                <a:tab algn="l" pos="37944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fr-FR" sz="1900" spc="-1" strike="noStrike">
                <a:solidFill>
                  <a:srgbClr val="cc0000"/>
                </a:solidFill>
                <a:latin typeface="Futura Std Book"/>
                <a:ea typeface="SimSun"/>
              </a:rPr>
              <a:t>Éviter la fragmentation et la dispersion des actions du Programme</a:t>
            </a:r>
            <a:endParaRPr b="1" lang="en-US" sz="1900" spc="-1" strike="noStrike">
              <a:solidFill>
                <a:srgbClr val="cc0000"/>
              </a:solidFill>
              <a:latin typeface="Futura Std Book"/>
            </a:endParaRPr>
          </a:p>
          <a:p>
            <a:pPr marL="379440" indent="0" algn="just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37944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Les pays participants ont décidé de concentrer les actions du Programme sur des secteurs et des domaines d’intervention qui: </a:t>
            </a: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  <a:p>
            <a:pPr marL="379440" indent="-379440" algn="just">
              <a:lnSpc>
                <a:spcPct val="95000"/>
              </a:lnSpc>
              <a:spcBef>
                <a:spcPts val="2251"/>
              </a:spcBef>
              <a:buClr>
                <a:srgbClr val="cc0000"/>
              </a:buClr>
              <a:buFont typeface="Wingdings" charset="2"/>
              <a:buChar char=""/>
              <a:tabLst>
                <a:tab algn="l" pos="37944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constituent des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défis commun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 et peuvent produire des résultats bénéficiant à l’ensemble de l’espace de coopération;</a:t>
            </a: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  <a:p>
            <a:pPr marL="379440" indent="-379440" algn="just">
              <a:lnSpc>
                <a:spcPct val="95000"/>
              </a:lnSpc>
              <a:spcBef>
                <a:spcPts val="2251"/>
              </a:spcBef>
              <a:buClr>
                <a:srgbClr val="cc0000"/>
              </a:buClr>
              <a:buFont typeface="Wingdings" charset="2"/>
              <a:buChar char=""/>
              <a:tabLst>
                <a:tab algn="l" pos="37944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sont en mesur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d’enrichir les territoires avec des éléments d’innovatio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 (technologique et/ou organisationnelle);</a:t>
            </a: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  <a:p>
            <a:pPr marL="379440" indent="-379440" algn="just">
              <a:lnSpc>
                <a:spcPct val="95000"/>
              </a:lnSpc>
              <a:spcBef>
                <a:spcPts val="2251"/>
              </a:spcBef>
              <a:buClr>
                <a:srgbClr val="cc0000"/>
              </a:buClr>
              <a:buFont typeface="Wingdings" charset="2"/>
              <a:buChar char=""/>
              <a:tabLst>
                <a:tab algn="l" pos="37944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mobilise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SimSun"/>
              </a:rPr>
              <a:t>nt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 les compétences d’acteur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 de différente nature (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publics et privé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) et de niveaux différents (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national et local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);</a:t>
            </a: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  <a:p>
            <a:pPr marL="379440" indent="-379440" algn="just">
              <a:lnSpc>
                <a:spcPct val="95000"/>
              </a:lnSpc>
              <a:spcBef>
                <a:spcPts val="2251"/>
              </a:spcBef>
              <a:buClr>
                <a:srgbClr val="cc0000"/>
              </a:buClr>
              <a:buFont typeface="Wingdings" charset="2"/>
              <a:buChar char=""/>
              <a:tabLst>
                <a:tab algn="l" pos="37944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peuvent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apporter une valeur ajoutée à d’autres programm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 et à d’autres initiatives en cours dans le bassin Méditerranée.</a:t>
            </a: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9000" y="169560"/>
            <a:ext cx="7696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Futura Std Book"/>
                <a:ea typeface="Times New Roman"/>
              </a:rPr>
              <a:t> </a:t>
            </a:r>
            <a:endParaRPr b="1" lang="en-US" sz="2400" spc="-1" strike="noStrike">
              <a:solidFill>
                <a:srgbClr val="660066"/>
              </a:solidFill>
              <a:latin typeface="Futura Std Book"/>
            </a:endParaRPr>
          </a:p>
        </p:txBody>
      </p:sp>
      <p:sp>
        <p:nvSpPr>
          <p:cNvPr id="115" name=""/>
          <p:cNvSpPr/>
          <p:nvPr/>
        </p:nvSpPr>
        <p:spPr>
          <a:xfrm>
            <a:off x="1266840" y="609480"/>
            <a:ext cx="7620120" cy="1800"/>
          </a:xfrm>
          <a:prstGeom prst="line">
            <a:avLst/>
          </a:prstGeom>
          <a:ln w="15840">
            <a:solidFill>
              <a:srgbClr val="b50e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68560" y="203040"/>
            <a:ext cx="777240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Futura Std Book"/>
              </a:rPr>
              <a:t>Le </a:t>
            </a:r>
            <a:r>
              <a:rPr b="1" lang="fr-FR" sz="2400" spc="-1" strike="noStrike">
                <a:solidFill>
                  <a:srgbClr val="660066"/>
                </a:solidFill>
                <a:latin typeface="Futura Std Book"/>
              </a:rPr>
              <a:t>cadre stratégique: priorités et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35080" y="880920"/>
            <a:ext cx="8673840" cy="50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1080" y="169560"/>
            <a:ext cx="76978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Futura Std Book"/>
                <a:ea typeface="Times New Roman"/>
              </a:rPr>
              <a:t> </a:t>
            </a:r>
            <a:endParaRPr b="1" lang="en-US" sz="3600" spc="-1" strike="noStrike">
              <a:solidFill>
                <a:srgbClr val="660066"/>
              </a:solidFill>
              <a:latin typeface="Futura Std Book"/>
            </a:endParaRPr>
          </a:p>
        </p:txBody>
      </p:sp>
      <p:sp>
        <p:nvSpPr>
          <p:cNvPr id="119" name=""/>
          <p:cNvSpPr/>
          <p:nvPr/>
        </p:nvSpPr>
        <p:spPr>
          <a:xfrm>
            <a:off x="1266840" y="609480"/>
            <a:ext cx="7620120" cy="1800"/>
          </a:xfrm>
          <a:prstGeom prst="line">
            <a:avLst/>
          </a:prstGeom>
          <a:ln w="15840">
            <a:solidFill>
              <a:srgbClr val="b50e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46320" y="152280"/>
            <a:ext cx="759276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660066"/>
                </a:solidFill>
                <a:latin typeface="Futura Std Book"/>
              </a:rPr>
              <a:t>A</a:t>
            </a:r>
            <a:r>
              <a:rPr b="1" lang="fr-FR" sz="2000" spc="-1" strike="noStrike">
                <a:solidFill>
                  <a:srgbClr val="660066"/>
                </a:solidFill>
                <a:latin typeface="Futura Std Book"/>
              </a:rPr>
              <a:t>ctions possibles </a:t>
            </a:r>
            <a:r>
              <a:rPr b="1" lang="it-IT" sz="2000" spc="-1" strike="noStrike">
                <a:solidFill>
                  <a:srgbClr val="660066"/>
                </a:solidFill>
                <a:latin typeface="Futura Std Book"/>
              </a:rPr>
              <a:t>sur la </a:t>
            </a:r>
            <a:r>
              <a:rPr b="1" lang="fr-BE" sz="2000" spc="-1" strike="noStrike">
                <a:solidFill>
                  <a:srgbClr val="660066"/>
                </a:solidFill>
                <a:latin typeface="Futura Std Book"/>
              </a:rPr>
              <a:t>gestion durable des zones </a:t>
            </a:r>
            <a:r>
              <a:rPr b="1" lang="it-IT" sz="2000" spc="-1" strike="noStrike">
                <a:solidFill>
                  <a:srgbClr val="660066"/>
                </a:solidFill>
                <a:latin typeface="Futura Std Book"/>
              </a:rPr>
              <a:t>c</a:t>
            </a:r>
            <a:r>
              <a:rPr b="1" lang="fr-FR" sz="2000" spc="-1" strike="noStrike">
                <a:solidFill>
                  <a:srgbClr val="660066"/>
                </a:solidFill>
                <a:latin typeface="Futura Std Book"/>
              </a:rPr>
              <a:t>ôtières 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92320" y="665280"/>
            <a:ext cx="77421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47640" y="765000"/>
            <a:ext cx="7345440" cy="52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Arial"/>
              <a:buChar char="•"/>
              <a:tabLst>
                <a:tab algn="l" pos="177840"/>
                <a:tab algn="l" pos="1255680"/>
                <a:tab algn="l" pos="2170080"/>
                <a:tab algn="l" pos="295920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Actions conjointes visant à promouvoir un 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tourisme durable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en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valorisant les atouts culturels et naturels existants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fr-CM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et en diversifiant l’off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spcBef>
                <a:spcPts val="2001"/>
              </a:spcBef>
              <a:buClr>
                <a:srgbClr val="cc0000"/>
              </a:buClr>
              <a:buFont typeface="Arial"/>
              <a:buChar char="•"/>
              <a:tabLst>
                <a:tab algn="l" pos="177840"/>
                <a:tab algn="l" pos="1255680"/>
                <a:tab algn="l" pos="2170080"/>
                <a:tab algn="l" pos="295920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Soutien au développement et renforcement des 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réseaux d’institutions en charge de la planification territoriale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au niveau loca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spcBef>
                <a:spcPts val="2001"/>
              </a:spcBef>
              <a:buClr>
                <a:srgbClr val="cc0000"/>
              </a:buClr>
              <a:buFont typeface="Arial"/>
              <a:buChar char="•"/>
              <a:tabLst>
                <a:tab algn="l" pos="177840"/>
                <a:tab algn="l" pos="1255680"/>
                <a:tab algn="l" pos="2170080"/>
                <a:tab algn="l" pos="295920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Actions conjointes visant à la 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réduction de la pollution de la mer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et à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l’adoption de systèmes de 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gestion environnementale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dans les zones portuaires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177840"/>
                <a:tab algn="l" pos="1255680"/>
                <a:tab algn="l" pos="2170080"/>
                <a:tab algn="l" pos="295920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éfinition de 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protocoles conjoints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pour faire face aux dommages causés par les navires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177840"/>
                <a:tab algn="l" pos="1255680"/>
                <a:tab algn="l" pos="2170080"/>
                <a:tab algn="l" pos="295920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change d’expériences en matière de 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gestion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des 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zones côtières</a:t>
            </a:r>
            <a:r>
              <a:rPr b="1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et portuaires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, de 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lutte contre la littoralisation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et la 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dégradation des plages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, de prévention et de 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réduction de la pollution des ressources naturelles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(eaux et sols)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177840"/>
                <a:tab algn="l" pos="1255680"/>
                <a:tab algn="l" pos="2170080"/>
                <a:tab algn="l" pos="295920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Soutien à la conservation et à la 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valorisation du patrimoine maritime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(flore, faune, sites archéologiques, etc.) à travers, notamment, l’adoption de systèmes conjoints transnationaux de gestion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177840"/>
                <a:tab algn="l" pos="1255680"/>
                <a:tab algn="l" pos="2170080"/>
                <a:tab algn="l" pos="295920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fr-BE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ion de la </a:t>
            </a:r>
            <a:r>
              <a:rPr b="1" lang="fr-BE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coordination des services de protection civile</a:t>
            </a:r>
            <a:r>
              <a:rPr b="0" lang="fr-BE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à l’echelle du Bassin et développment de procédures conjointes en cas de catastrophe maritim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177840"/>
                <a:tab algn="l" pos="1255680"/>
                <a:tab algn="l" pos="2170080"/>
                <a:tab algn="l" pos="295920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Adoption 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d’approches conjointes d’évaluation d’impact environnemental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pour les grandes villes de la Méditerrané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7400" y="789120"/>
            <a:ext cx="147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Mesure 1.</a:t>
            </a:r>
            <a:r>
              <a:rPr b="1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cc0000"/>
                </a:solidFill>
                <a:latin typeface="Wingdings"/>
                <a:ea typeface="Wingdings"/>
              </a:rPr>
              <a:t>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5800" y="149220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Mesure 1.</a:t>
            </a:r>
            <a:r>
              <a:rPr b="1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cc0000"/>
                </a:solidFill>
                <a:latin typeface="Wingdings"/>
                <a:ea typeface="Wingdings"/>
              </a:rPr>
              <a:t>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2209680"/>
            <a:ext cx="149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Mesure </a:t>
            </a:r>
            <a:r>
              <a:rPr b="1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cc0000"/>
                </a:solidFill>
                <a:latin typeface="Wingdings"/>
                <a:ea typeface="Wingdings"/>
              </a:rPr>
              <a:t>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71080" y="169560"/>
            <a:ext cx="76978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Futura Std Book"/>
                <a:ea typeface="Times New Roman"/>
              </a:rPr>
              <a:t> </a:t>
            </a:r>
            <a:endParaRPr b="1" lang="en-US" sz="2400" spc="-1" strike="noStrike">
              <a:solidFill>
                <a:srgbClr val="660066"/>
              </a:solidFill>
              <a:latin typeface="Futura Std Book"/>
            </a:endParaRPr>
          </a:p>
        </p:txBody>
      </p:sp>
      <p:sp>
        <p:nvSpPr>
          <p:cNvPr id="127" name=""/>
          <p:cNvSpPr/>
          <p:nvPr/>
        </p:nvSpPr>
        <p:spPr>
          <a:xfrm>
            <a:off x="1266840" y="609480"/>
            <a:ext cx="7620120" cy="1800"/>
          </a:xfrm>
          <a:prstGeom prst="line">
            <a:avLst/>
          </a:prstGeom>
          <a:ln w="15840">
            <a:solidFill>
              <a:srgbClr val="b50e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722160"/>
            <a:ext cx="7696080" cy="20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62"/>
              </a:spcBef>
              <a:spcAft>
                <a:spcPts val="125"/>
              </a:spcAft>
              <a:tabLst>
                <a:tab algn="l" pos="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Action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 se focalisant sur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des thématiques choisies par le Comité de Suivi Conjoint; c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SimSun"/>
              </a:rPr>
              <a:t>tt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 catégorie de projets doit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contribuer à la réalisation des objectifs du Programme tout en produisant des effets de levier qualitativement et quantitativement mesur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2"/>
              </a:spcBef>
              <a:spcAft>
                <a:spcPts val="125"/>
              </a:spcAft>
              <a:tabLst>
                <a:tab algn="l" pos="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  <a:ea typeface="SimSun"/>
              </a:rPr>
              <a:t>Environ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SimSun"/>
              </a:rPr>
              <a:t> 40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% du budget total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 du Programme est réservé au financement de projets stratégiques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SimSu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79200"/>
            <a:ext cx="79246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39"/>
              </a:spcBef>
              <a:spcAft>
                <a:spcPts val="275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660066"/>
                </a:solidFill>
                <a:latin typeface="Futura Std Book"/>
              </a:rPr>
              <a:t>1. Les types de projets: projets stratégiq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066680" y="2819520"/>
            <a:ext cx="7848720" cy="2139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971640" y="5334120"/>
            <a:ext cx="81723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BE" sz="1600" spc="-1" strike="noStrike">
                <a:solidFill>
                  <a:srgbClr val="cc0000"/>
                </a:solidFill>
                <a:latin typeface="Futura Std Book"/>
                <a:ea typeface="SimSun"/>
              </a:rPr>
              <a:t>DEUX APPELS À PROPOSITIONS PRÉVUS RESPECTIVEMENT EN 2009 ET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1080" y="169560"/>
            <a:ext cx="76978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Futura Std Book"/>
                <a:ea typeface="Times New Roman"/>
              </a:rPr>
              <a:t> </a:t>
            </a:r>
            <a:endParaRPr b="1" lang="en-US" sz="2400" spc="-1" strike="noStrike">
              <a:solidFill>
                <a:srgbClr val="660066"/>
              </a:solidFill>
              <a:latin typeface="Futura Std Book"/>
            </a:endParaRPr>
          </a:p>
        </p:txBody>
      </p:sp>
      <p:sp>
        <p:nvSpPr>
          <p:cNvPr id="133" name=""/>
          <p:cNvSpPr/>
          <p:nvPr/>
        </p:nvSpPr>
        <p:spPr>
          <a:xfrm>
            <a:off x="1266840" y="609480"/>
            <a:ext cx="7620120" cy="1800"/>
          </a:xfrm>
          <a:prstGeom prst="line">
            <a:avLst/>
          </a:prstGeom>
          <a:ln w="15840">
            <a:solidFill>
              <a:srgbClr val="b50e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847800"/>
            <a:ext cx="7696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488"/>
              </a:spcBef>
              <a:spcAft>
                <a:spcPts val="201"/>
              </a:spcAft>
              <a:tabLst>
                <a:tab algn="l" pos="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Initiés par des acteurs locaux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organisés en partenariats transnationaux répondant aux appels à propositions lancés dans le cadre du Programme.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79200"/>
            <a:ext cx="79246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39"/>
              </a:spcBef>
              <a:spcAft>
                <a:spcPts val="275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660066"/>
                </a:solidFill>
                <a:latin typeface="Futura Std Book"/>
              </a:rPr>
              <a:t>2. Les types de projets: projets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860400" y="1828800"/>
            <a:ext cx="8055000" cy="2017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914400" y="4038480"/>
            <a:ext cx="800100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50% du budget total alloué à la priorité 4 “Promotion du dialogue culturel et de la gouvernance locale”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pourra être consacré au financement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 projets ayant un seuil minimal de 200.000 €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9280" y="5516640"/>
            <a:ext cx="921708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BE" sz="1600" spc="-1" strike="noStrike">
                <a:solidFill>
                  <a:srgbClr val="cc0000"/>
                </a:solidFill>
                <a:latin typeface="Futura Std Book"/>
                <a:ea typeface="SimSun"/>
              </a:rPr>
              <a:t>TROIS APPELS À PROPOSITIONS PRÉVUS RESPECTIVEMENT FIN 2008, EN 2010 ET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1080" y="169560"/>
            <a:ext cx="76978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Futura Std Book"/>
                <a:ea typeface="Times New Roman"/>
              </a:rPr>
              <a:t> </a:t>
            </a:r>
            <a:endParaRPr b="1" lang="en-US" sz="2400" spc="-1" strike="noStrike">
              <a:solidFill>
                <a:srgbClr val="660066"/>
              </a:solidFill>
              <a:latin typeface="Futura Std Book"/>
            </a:endParaRPr>
          </a:p>
        </p:txBody>
      </p:sp>
      <p:sp>
        <p:nvSpPr>
          <p:cNvPr id="140" name=""/>
          <p:cNvSpPr/>
          <p:nvPr/>
        </p:nvSpPr>
        <p:spPr>
          <a:xfrm>
            <a:off x="1266840" y="609480"/>
            <a:ext cx="7620120" cy="1800"/>
          </a:xfrm>
          <a:prstGeom prst="line">
            <a:avLst/>
          </a:prstGeom>
          <a:ln w="15840">
            <a:solidFill>
              <a:srgbClr val="b50e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635040"/>
            <a:ext cx="8001000" cy="22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Futura Std Book"/>
                <a:ea typeface="SimSun"/>
              </a:rPr>
              <a:t>	</a:t>
            </a:r>
            <a:r>
              <a:rPr b="1" lang="fr-FR" sz="1600" spc="-1" strike="noStrike">
                <a:solidFill>
                  <a:srgbClr val="cc0000"/>
                </a:solidFill>
                <a:latin typeface="Futura Std Book"/>
                <a:ea typeface="SimSun"/>
              </a:rPr>
              <a:t>Structure organisationnelle qui assure la transparence et le partage des choix stratégiques dans la gestion du Program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789200" indent="-343080" algn="just">
              <a:lnSpc>
                <a:spcPct val="13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789200" indent="-343080" algn="just">
              <a:lnSpc>
                <a:spcPct val="130000"/>
              </a:lnSpc>
              <a:buClr>
                <a:srgbClr val="cc0000"/>
              </a:buClr>
              <a:buFont typeface="Futura Std Book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Futura Std Book"/>
                <a:ea typeface="SimSun"/>
              </a:rPr>
              <a:t>Comité de Suivi Conjoi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789200" indent="-343080" algn="just">
              <a:lnSpc>
                <a:spcPct val="130000"/>
              </a:lnSpc>
              <a:buClr>
                <a:srgbClr val="cc0000"/>
              </a:buClr>
              <a:buFont typeface="Futura Std Book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Futura Std Book"/>
                <a:ea typeface="SimSun"/>
              </a:rPr>
              <a:t>Comités de Sélection des Proje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789200" indent="-343080" algn="just">
              <a:lnSpc>
                <a:spcPct val="130000"/>
              </a:lnSpc>
              <a:buClr>
                <a:srgbClr val="cc0000"/>
              </a:buClr>
              <a:buFont typeface="Futura Std Book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Futura Std Book"/>
                <a:ea typeface="SimSun"/>
              </a:rPr>
              <a:t>Autorité de Gestion Commun</a:t>
            </a:r>
            <a:r>
              <a:rPr b="1" lang="it-IT" sz="1500" spc="-1" strike="noStrike">
                <a:solidFill>
                  <a:srgbClr val="000000"/>
                </a:solidFill>
                <a:latin typeface="Futura Std Book"/>
                <a:ea typeface="SimSun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789200" indent="-343080" algn="just">
              <a:lnSpc>
                <a:spcPct val="130000"/>
              </a:lnSpc>
              <a:buClr>
                <a:srgbClr val="cc0000"/>
              </a:buClr>
              <a:buFont typeface="Futura Std Book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Futura Std Book"/>
                <a:ea typeface="SimSun"/>
              </a:rPr>
              <a:t>Secrétariat Technique Conjoi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295280"/>
            <a:ext cx="1800" cy="3556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3124080"/>
            <a:ext cx="8686800" cy="26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ctr">
              <a:lnSpc>
                <a:spcPct val="130000"/>
              </a:lnSpc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Futura Std Book"/>
                <a:ea typeface="SimSun"/>
              </a:rPr>
              <a:t>	</a:t>
            </a:r>
            <a:r>
              <a:rPr b="1" lang="fr-FR" sz="1600" spc="-1" strike="noStrike">
                <a:solidFill>
                  <a:srgbClr val="cc0000"/>
                </a:solidFill>
                <a:latin typeface="Futura Std Book"/>
                <a:ea typeface="SimSun"/>
              </a:rPr>
              <a:t>Diffusion des opportunités offertes par le Programme et présence dans les territoir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30000"/>
              </a:lnSpc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55680" indent="-341280" algn="just">
              <a:lnSpc>
                <a:spcPct val="130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SimSun"/>
              </a:rPr>
              <a:t>une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SimSun"/>
              </a:rPr>
              <a:t> Antenne pour la Méditerranée orientale</a:t>
            </a:r>
            <a:r>
              <a:rPr b="1" lang="it-IT" sz="1500" spc="-1" strike="noStrike">
                <a:solidFill>
                  <a:srgbClr val="000000"/>
                </a:solidFill>
                <a:latin typeface="Arial"/>
                <a:ea typeface="SimSun"/>
              </a:rPr>
              <a:t> (Aqaba – JORDANIE)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SimSun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255680" indent="-341280" algn="just">
              <a:lnSpc>
                <a:spcPct val="100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SimSun"/>
              </a:rPr>
              <a:t>une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SimSun"/>
              </a:rPr>
              <a:t> Antenne pour la Méditerranée occidentale </a:t>
            </a:r>
            <a:r>
              <a:rPr b="1" lang="it-IT" sz="1500" spc="-1" strike="noStrike">
                <a:solidFill>
                  <a:srgbClr val="000000"/>
                </a:solidFill>
                <a:latin typeface="Arial"/>
                <a:ea typeface="SimSun"/>
              </a:rPr>
              <a:t>(Valencia – ESPAGNE)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SimSun"/>
              </a:rPr>
              <a:t>qui a aussi une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SimSun"/>
              </a:rPr>
              <a:t>fonction de 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SimSun"/>
              </a:rPr>
              <a:t>Bureau de Liaison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SimSun"/>
              </a:rPr>
              <a:t> assurant la coordination entre le Programme IEVP CT Med et le programme Méditerranée financé par les Fonds structurel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255680" indent="-341280" algn="just">
              <a:lnSpc>
                <a:spcPct val="100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SimSun"/>
              </a:rPr>
              <a:t>un 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SimSun"/>
              </a:rPr>
              <a:t>plan de communication pour faciliter la participation des acteurs locaux à travers l’utilisation des TIC e</a:t>
            </a:r>
            <a:r>
              <a:rPr b="1" lang="it-IT" sz="1500" spc="-1" strike="noStrike">
                <a:solidFill>
                  <a:srgbClr val="000000"/>
                </a:solidFill>
                <a:latin typeface="Arial"/>
                <a:ea typeface="SimSun"/>
              </a:rPr>
              <a:t>t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SimSun"/>
              </a:rPr>
              <a:t> des langues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SimSun"/>
              </a:rPr>
              <a:t>anglaise, française et arabe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95680" y="3581280"/>
            <a:ext cx="1800" cy="3682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867280" y="1752480"/>
            <a:ext cx="241560" cy="1079640"/>
          </a:xfrm>
          <a:custGeom>
            <a:avLst/>
            <a:gdLst>
              <a:gd name="textAreaLeft" fmla="*/ 0 w 241560"/>
              <a:gd name="textAreaRight" fmla="*/ 87120 w 24156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1752480"/>
            <a:ext cx="2548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99"/>
                </a:solidFill>
                <a:latin typeface="Futura Std Book"/>
                <a:ea typeface="SimSun"/>
              </a:rPr>
              <a:t>Équilibre et transparence entre les fonctions des stru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71480" y="152280"/>
            <a:ext cx="83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660066"/>
                </a:solidFill>
                <a:latin typeface="Futura Std Book"/>
              </a:rPr>
              <a:t>La</a:t>
            </a:r>
            <a:r>
              <a:rPr b="1" lang="fr-FR" sz="2400" spc="-1" strike="noStrike">
                <a:solidFill>
                  <a:srgbClr val="660066"/>
                </a:solidFill>
                <a:latin typeface="Futura Std Book"/>
              </a:rPr>
              <a:t> gestion</a:t>
            </a:r>
            <a:r>
              <a:rPr b="1" lang="it-IT" sz="2400" spc="-1" strike="noStrike">
                <a:solidFill>
                  <a:srgbClr val="660066"/>
                </a:solidFill>
                <a:latin typeface="Futura Std Book"/>
              </a:rPr>
              <a:t>:</a:t>
            </a:r>
            <a:r>
              <a:rPr b="1" lang="fr-FR" sz="2400" spc="-1" strike="noStrike">
                <a:solidFill>
                  <a:srgbClr val="660066"/>
                </a:solidFill>
                <a:latin typeface="Futura Std Book"/>
              </a:rPr>
              <a:t> partagée, transparente et communic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1080" y="169560"/>
            <a:ext cx="76978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Futura Std Book"/>
                <a:ea typeface="Times New Roman"/>
              </a:rPr>
              <a:t> </a:t>
            </a:r>
            <a:endParaRPr b="1" lang="en-US" sz="2400" spc="-1" strike="noStrike">
              <a:solidFill>
                <a:srgbClr val="660066"/>
              </a:solidFill>
              <a:latin typeface="Futura Std Book"/>
            </a:endParaRPr>
          </a:p>
        </p:txBody>
      </p:sp>
      <p:sp>
        <p:nvSpPr>
          <p:cNvPr id="149" name=""/>
          <p:cNvSpPr/>
          <p:nvPr/>
        </p:nvSpPr>
        <p:spPr>
          <a:xfrm>
            <a:off x="1266840" y="609480"/>
            <a:ext cx="7620120" cy="1800"/>
          </a:xfrm>
          <a:prstGeom prst="line">
            <a:avLst/>
          </a:prstGeom>
          <a:ln w="15840">
            <a:solidFill>
              <a:srgbClr val="b50e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31480" y="152280"/>
            <a:ext cx="29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660066"/>
                </a:solidFill>
                <a:latin typeface="Futura Std Book"/>
              </a:rPr>
              <a:t>Prochaines ét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03280" y="1268280"/>
            <a:ext cx="7239240" cy="15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82760" algn="just">
              <a:lnSpc>
                <a:spcPct val="94000"/>
              </a:lnSpc>
              <a:spcBef>
                <a:spcPts val="2500"/>
              </a:spcBef>
              <a:buClr>
                <a:srgbClr val="cc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BE" sz="2000" spc="-1" strike="noStrike">
                <a:solidFill>
                  <a:srgbClr val="cc0000"/>
                </a:solidFill>
                <a:latin typeface="Arial"/>
                <a:ea typeface="SimSun"/>
              </a:rPr>
              <a:t>Juin 2008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: adoption du Programme par la Commission 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européenne 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82760" algn="just">
              <a:lnSpc>
                <a:spcPct val="94000"/>
              </a:lnSpc>
              <a:spcBef>
                <a:spcPts val="2500"/>
              </a:spcBef>
              <a:buClr>
                <a:srgbClr val="cc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BE" sz="2000" spc="-1" strike="noStrike">
                <a:solidFill>
                  <a:srgbClr val="cc0000"/>
                </a:solidFill>
                <a:latin typeface="Arial"/>
                <a:ea typeface="SimSun"/>
              </a:rPr>
              <a:t>Second semestre 2008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: lancement du premier appel à 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propo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1080" y="169560"/>
            <a:ext cx="76978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Futura Std Book"/>
                <a:ea typeface="Times New Roman"/>
              </a:rPr>
              <a:t> </a:t>
            </a:r>
            <a:endParaRPr b="1" lang="en-US" sz="2400" spc="-1" strike="noStrike">
              <a:solidFill>
                <a:srgbClr val="660066"/>
              </a:solidFill>
              <a:latin typeface="Futura Std Book"/>
            </a:endParaRPr>
          </a:p>
        </p:txBody>
      </p:sp>
      <p:sp>
        <p:nvSpPr>
          <p:cNvPr id="153" name=""/>
          <p:cNvSpPr/>
          <p:nvPr/>
        </p:nvSpPr>
        <p:spPr>
          <a:xfrm>
            <a:off x="1266840" y="609480"/>
            <a:ext cx="7620120" cy="1800"/>
          </a:xfrm>
          <a:prstGeom prst="line">
            <a:avLst/>
          </a:prstGeom>
          <a:ln w="15840">
            <a:solidFill>
              <a:srgbClr val="b50e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85760" y="152280"/>
            <a:ext cx="40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660066"/>
                </a:solidFill>
                <a:latin typeface="Futura Std Book"/>
              </a:rPr>
              <a:t>Page web </a:t>
            </a:r>
            <a:r>
              <a:rPr b="1" lang="fr-FR" sz="2400" spc="-1" strike="noStrike">
                <a:solidFill>
                  <a:srgbClr val="660066"/>
                </a:solidFill>
                <a:latin typeface="Futura Std Book"/>
              </a:rPr>
              <a:t>du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63480" y="1600200"/>
            <a:ext cx="682092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utura Std Book"/>
              </a:rPr>
              <a:t>Plus d’informations disponibles à l’adresse suiva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cc0000"/>
                </a:solidFill>
                <a:latin typeface="Futura Std Book"/>
              </a:rPr>
              <a:t>http://www.regione.sardegna.it/speciali/enpicbc/fr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utura Std Book"/>
              </a:rPr>
              <a:t>Contactez-n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cc0000"/>
                </a:solidFill>
                <a:latin typeface="Futura Std Book"/>
              </a:rPr>
              <a:t>enpi.med@regione.sardegna.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907416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200" spc="-1" strike="noStrike">
                <a:solidFill>
                  <a:srgbClr val="660066"/>
                </a:solidFill>
                <a:latin typeface="Futura Std Book"/>
              </a:rPr>
              <a:t>L’IEVP: instrument financier unique de mise en oeuvre de la PEV</a:t>
            </a:r>
            <a:endParaRPr b="1" lang="en-US" sz="2200" spc="-1" strike="noStrike">
              <a:solidFill>
                <a:srgbClr val="660066"/>
              </a:solidFill>
              <a:latin typeface="Futura Std Book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1413000"/>
            <a:ext cx="8391600" cy="4588920"/>
            <a:chOff x="395280" y="1413000"/>
            <a:chExt cx="8391600" cy="4588920"/>
          </a:xfrm>
        </p:grpSpPr>
        <p:sp>
          <p:nvSpPr>
            <p:cNvPr id="63" name=""/>
            <p:cNvSpPr/>
            <p:nvPr/>
          </p:nvSpPr>
          <p:spPr>
            <a:xfrm>
              <a:off x="2843280" y="1413000"/>
              <a:ext cx="3609720" cy="11934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2800" spc="-1" strike="noStrike">
                  <a:solidFill>
                    <a:srgbClr val="cc0000"/>
                  </a:solidFill>
                  <a:latin typeface="Arial"/>
                </a:rPr>
                <a:t>IEV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(Instrument Europée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de Voisinage et de Partenaria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376360" y="2425680"/>
              <a:ext cx="990720" cy="12186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241960" y="2577960"/>
              <a:ext cx="1146240" cy="1091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3644640"/>
              <a:ext cx="3373560" cy="188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1800" spc="-1" strike="noStrike">
                  <a:solidFill>
                    <a:srgbClr val="cc0000"/>
                  </a:solidFill>
                  <a:latin typeface="Arial"/>
                </a:rPr>
                <a:t>Programmes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800" spc="-1" strike="noStrike">
                  <a:solidFill>
                    <a:srgbClr val="cc0000"/>
                  </a:solidFill>
                  <a:latin typeface="Arial"/>
                </a:rPr>
                <a:t>nationaux, régionaux et thématiques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Environ </a:t>
              </a:r>
              <a:r>
                <a:rPr b="1" lang="fr-FR" sz="1800" spc="-1" strike="noStrike">
                  <a:solidFill>
                    <a:srgbClr val="cc0000"/>
                  </a:solidFill>
                  <a:latin typeface="Arial"/>
                </a:rPr>
                <a:t>€ 10,6 milliards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Rubrique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4 du budget de l’UE)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correspondant à 95% des ressources IE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282920" y="3644640"/>
              <a:ext cx="4503960" cy="23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1800" spc="-1" strike="noStrike">
                  <a:solidFill>
                    <a:srgbClr val="cc0000"/>
                  </a:solidFill>
                  <a:latin typeface="Arial"/>
                </a:rPr>
                <a:t>Programmes de coopération transfrontalière (IEVP C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Environ</a:t>
              </a:r>
              <a:r>
                <a:rPr b="1" lang="fr-FR" sz="1800" spc="-1" strike="noStrike">
                  <a:solidFill>
                    <a:srgbClr val="cc0000"/>
                  </a:solidFill>
                  <a:latin typeface="Arial"/>
                </a:rPr>
                <a:t> un milliard d’euro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 dont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€ </a:t>
              </a:r>
              <a:r>
                <a:rPr b="1" lang="fr-FR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527 millions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 (Rubrique 4 du budget de l’UE) correspondant à 5% des ressources IE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fr-FR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€ 591 millions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 (ressources FEDE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399760" y="743040"/>
            <a:ext cx="460188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cc0000"/>
                </a:solidFill>
                <a:latin typeface="Futura Std Book"/>
              </a:rPr>
              <a:t>Politique Européenne de Voisin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00720" y="1052640"/>
            <a:ext cx="215640" cy="287280"/>
          </a:xfrm>
          <a:prstGeom prst="downArrow">
            <a:avLst>
              <a:gd name="adj1" fmla="val 50000"/>
              <a:gd name="adj2" fmla="val 33306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660066"/>
                </a:solidFill>
                <a:latin typeface="Futura Std Book"/>
              </a:rPr>
              <a:t>Les Programmes</a:t>
            </a:r>
            <a:r>
              <a:rPr b="1" lang="it-IT" sz="2400" spc="-1" strike="noStrike">
                <a:solidFill>
                  <a:srgbClr val="660066"/>
                </a:solidFill>
                <a:latin typeface="Futura Std Book"/>
              </a:rPr>
              <a:t> IEVP de </a:t>
            </a:r>
            <a:r>
              <a:rPr b="1" lang="fr-FR" sz="2400" spc="-1" strike="noStrike">
                <a:solidFill>
                  <a:srgbClr val="660066"/>
                </a:solidFill>
                <a:latin typeface="Futura Std Book"/>
              </a:rPr>
              <a:t>coopération</a:t>
            </a:r>
            <a:r>
              <a:rPr b="1" lang="it-IT" sz="2400" spc="-1" strike="noStrike">
                <a:solidFill>
                  <a:srgbClr val="660066"/>
                </a:solidFill>
                <a:latin typeface="Futura Std Book"/>
              </a:rPr>
              <a:t> </a:t>
            </a:r>
            <a:r>
              <a:rPr b="1" lang="fr-FR" sz="2400" spc="-1" strike="noStrike">
                <a:solidFill>
                  <a:srgbClr val="660066"/>
                </a:solidFill>
                <a:latin typeface="Futura Std Book"/>
              </a:rPr>
              <a:t>transfrontalière</a:t>
            </a:r>
            <a:endParaRPr b="1" lang="en-US" sz="2400" spc="-1" strike="noStrike">
              <a:solidFill>
                <a:srgbClr val="660066"/>
              </a:solidFill>
              <a:latin typeface="Futura Std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2640" y="837720"/>
            <a:ext cx="7605720" cy="38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Futura Std Book"/>
              </a:rPr>
              <a:t>LES TERRITOIRES ÉLIGIBLES</a:t>
            </a: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  <a:p>
            <a:pPr marL="343080" indent="-343080" algn="just">
              <a:lnSpc>
                <a:spcPct val="120000"/>
              </a:lnSpc>
              <a:spcBef>
                <a:spcPts val="1701"/>
              </a:spcBef>
              <a:buClr>
                <a:srgbClr val="cc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ont éligibles au financement IEVP CT les territoires situés le long de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frontières terrestres ou de bras de mer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’une importance significative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(NUTS III)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ou ceux donnant sur un bassin maritime commun aux États membres et aux pays partenaires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(NUTS II)</a:t>
            </a:r>
            <a:endParaRPr b="1" lang="en-US" sz="1700" spc="-1" strike="noStrike">
              <a:solidFill>
                <a:srgbClr val="cc0000"/>
              </a:solidFill>
              <a:latin typeface="Futura Std Book"/>
            </a:endParaRPr>
          </a:p>
          <a:p>
            <a:pPr marL="343080" indent="-343080" algn="just">
              <a:lnSpc>
                <a:spcPct val="120000"/>
              </a:lnSpc>
              <a:spcBef>
                <a:spcPts val="1701"/>
              </a:spcBef>
              <a:buClr>
                <a:srgbClr val="cc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es programmes IEVP de coopération transfrontalière peuvent être soit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bilatéraux/multilatéraux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(ils concernent les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frontières internes communes ou les détroits maritimes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) soit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multilatéraux de bassin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(ils concernent les régions appartenant à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un bassin maritime unique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1700" spc="-1" strike="noStrike">
              <a:solidFill>
                <a:srgbClr val="cc0000"/>
              </a:solidFill>
              <a:latin typeface="Futura Std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194760"/>
            <a:ext cx="883908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660066"/>
                </a:solidFill>
                <a:latin typeface="Futura Std Book"/>
              </a:rPr>
              <a:t>Les Programmes</a:t>
            </a:r>
            <a:r>
              <a:rPr b="1" lang="it-IT" sz="2400" spc="-1" strike="noStrike">
                <a:solidFill>
                  <a:srgbClr val="660066"/>
                </a:solidFill>
                <a:latin typeface="Futura Std Book"/>
              </a:rPr>
              <a:t> IEVP de </a:t>
            </a:r>
            <a:r>
              <a:rPr b="1" lang="fr-FR" sz="2400" spc="-1" strike="noStrike">
                <a:solidFill>
                  <a:srgbClr val="660066"/>
                </a:solidFill>
                <a:latin typeface="Futura Std Book"/>
              </a:rPr>
              <a:t>coopération</a:t>
            </a:r>
            <a:r>
              <a:rPr b="1" lang="it-IT" sz="2400" spc="-1" strike="noStrike">
                <a:solidFill>
                  <a:srgbClr val="660066"/>
                </a:solidFill>
                <a:latin typeface="Futura Std Book"/>
              </a:rPr>
              <a:t> </a:t>
            </a:r>
            <a:r>
              <a:rPr b="1" lang="fr-FR" sz="2400" spc="-1" strike="noStrike">
                <a:solidFill>
                  <a:srgbClr val="660066"/>
                </a:solidFill>
                <a:latin typeface="Futura Std Book"/>
              </a:rPr>
              <a:t>transfrontalière</a:t>
            </a:r>
            <a:endParaRPr b="1" lang="en-US" sz="2400" spc="-1" strike="noStrike">
              <a:solidFill>
                <a:srgbClr val="660066"/>
              </a:solidFill>
              <a:latin typeface="Futura Std Book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671400"/>
            <a:ext cx="77724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280520" y="165240"/>
            <a:ext cx="70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660066"/>
                </a:solidFill>
                <a:latin typeface="Futura Std Book"/>
              </a:rPr>
              <a:t>Les différents Programmes IEVP CT de Bas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7238880" cy="4572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rot="505200">
            <a:off x="1676160" y="3978000"/>
            <a:ext cx="5256000" cy="175248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24280" y="2895480"/>
            <a:ext cx="2438640" cy="144792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963000">
            <a:off x="3726000" y="966600"/>
            <a:ext cx="1752480" cy="259056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7091640" y="3640320"/>
            <a:ext cx="829440" cy="1875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43800" y="3048120"/>
            <a:ext cx="16765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Futura Std Book"/>
              </a:rPr>
              <a:t>Programme de la Mer No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86600" y="1143000"/>
            <a:ext cx="2057400" cy="8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ctr">
              <a:lnSpc>
                <a:spcPct val="105000"/>
              </a:lnSpc>
              <a:spcBef>
                <a:spcPts val="11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Futura Std Book"/>
                <a:ea typeface="Arial"/>
              </a:rPr>
              <a:t>Programme de la Mer Balt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549040" y="1564200"/>
            <a:ext cx="2311200" cy="452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1771200" y="5143680"/>
            <a:ext cx="549720" cy="5853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-228600" y="5791320"/>
            <a:ext cx="4495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76240" indent="-342720">
              <a:lnSpc>
                <a:spcPct val="105000"/>
              </a:lnSpc>
              <a:spcBef>
                <a:spcPts val="11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Futura Std Book"/>
                <a:ea typeface="Arial"/>
              </a:rPr>
              <a:t>Programme de la Mer Méditerrané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71080" y="169560"/>
            <a:ext cx="76978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Futura Std Book"/>
                <a:ea typeface="Times New Roman"/>
              </a:rPr>
              <a:t> </a:t>
            </a:r>
            <a:endParaRPr b="1" lang="en-US" sz="2400" spc="-1" strike="noStrike">
              <a:solidFill>
                <a:srgbClr val="660066"/>
              </a:solidFill>
              <a:latin typeface="Futura Std Book"/>
            </a:endParaRPr>
          </a:p>
        </p:txBody>
      </p:sp>
      <p:sp>
        <p:nvSpPr>
          <p:cNvPr id="86" name=""/>
          <p:cNvSpPr/>
          <p:nvPr/>
        </p:nvSpPr>
        <p:spPr>
          <a:xfrm>
            <a:off x="858960" y="1138320"/>
            <a:ext cx="810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66840" y="609480"/>
            <a:ext cx="7620120" cy="1800"/>
          </a:xfrm>
          <a:prstGeom prst="line">
            <a:avLst/>
          </a:prstGeom>
          <a:ln w="15840">
            <a:solidFill>
              <a:srgbClr val="b50e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65160" y="203040"/>
            <a:ext cx="817884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Futura Std Book"/>
              </a:rPr>
              <a:t>Le Programme </a:t>
            </a:r>
            <a:r>
              <a:rPr b="1" lang="it-IT" sz="2400" spc="-1" strike="noStrike">
                <a:solidFill>
                  <a:srgbClr val="660066"/>
                </a:solidFill>
                <a:latin typeface="Futura Std Book"/>
              </a:rPr>
              <a:t>IEVP CT</a:t>
            </a:r>
            <a:r>
              <a:rPr b="1" lang="fr-FR" sz="2400" spc="-1" strike="noStrike">
                <a:solidFill>
                  <a:srgbClr val="660066"/>
                </a:solidFill>
                <a:latin typeface="Futura Std Book"/>
              </a:rPr>
              <a:t> Bassin Méditerra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9320" y="787320"/>
            <a:ext cx="7162560" cy="53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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Futura Std Book"/>
              </a:rPr>
              <a:t>TERRITOIRES ÉLIGIBLES</a:t>
            </a:r>
            <a:endParaRPr b="1" lang="en-US" sz="1600" spc="-1" strike="noStrike">
              <a:solidFill>
                <a:srgbClr val="cc0000"/>
              </a:solidFill>
              <a:latin typeface="Futura Std Book"/>
            </a:endParaRPr>
          </a:p>
          <a:p>
            <a:pPr marL="3412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Futura Std Book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Futura Std Book"/>
              </a:rPr>
              <a:t>117 régions de 19 états différents </a:t>
            </a:r>
            <a:endParaRPr b="1" lang="en-US" sz="1600" spc="-1" strike="noStrike">
              <a:solidFill>
                <a:srgbClr val="cc0000"/>
              </a:solidFill>
              <a:latin typeface="Futura Std Book"/>
            </a:endParaRPr>
          </a:p>
          <a:p>
            <a:pPr marL="341280" indent="-3412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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Futura Std Book"/>
              </a:rPr>
              <a:t>POPULATION </a:t>
            </a:r>
            <a:endParaRPr b="1" lang="en-US" sz="1600" spc="-1" strike="noStrike">
              <a:solidFill>
                <a:srgbClr val="cc0000"/>
              </a:solidFill>
              <a:latin typeface="Futura Std Book"/>
            </a:endParaRPr>
          </a:p>
          <a:p>
            <a:pPr lvl="1" marL="557280" indent="-100080">
              <a:lnSpc>
                <a:spcPct val="125000"/>
              </a:lnSpc>
              <a:spcBef>
                <a:spcPts val="488"/>
              </a:spcBef>
              <a:buClr>
                <a:srgbClr val="cc0000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S PAYS DU BASSIN MÉDITERRANÉ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Futura Std Book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Futura Std Book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Futura Std Book"/>
              </a:rPr>
              <a:t>451 Mil. hab.</a:t>
            </a:r>
            <a:endParaRPr b="1" lang="en-US" sz="1600" spc="-1" strike="noStrike">
              <a:solidFill>
                <a:srgbClr val="cc0000"/>
              </a:solidFill>
              <a:latin typeface="Futura Std Book"/>
            </a:endParaRPr>
          </a:p>
          <a:p>
            <a:pPr lvl="1" marL="557280" indent="-100080">
              <a:lnSpc>
                <a:spcPct val="125000"/>
              </a:lnSpc>
              <a:spcBef>
                <a:spcPts val="488"/>
              </a:spcBef>
              <a:buClr>
                <a:srgbClr val="cc0000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S TERRITOIRES ÉLIGIB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Futura Std Book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Futura Std Book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Futura Std Book"/>
              </a:rPr>
              <a:t>14</a:t>
            </a:r>
            <a:r>
              <a:rPr b="1" lang="it-IT" sz="1600" spc="-1" strike="noStrike">
                <a:solidFill>
                  <a:srgbClr val="000000"/>
                </a:solidFill>
                <a:latin typeface="Futura Std Book"/>
              </a:rPr>
              <a:t>3</a:t>
            </a:r>
            <a:r>
              <a:rPr b="1" lang="fr-FR" sz="1600" spc="-1" strike="noStrike">
                <a:solidFill>
                  <a:srgbClr val="000000"/>
                </a:solidFill>
                <a:latin typeface="Futura Std Book"/>
              </a:rPr>
              <a:t> Mil. hab.</a:t>
            </a:r>
            <a:r>
              <a:rPr b="1" lang="it-IT" sz="1600" spc="-1" strike="noStrike">
                <a:solidFill>
                  <a:srgbClr val="000000"/>
                </a:solidFill>
                <a:latin typeface="Futura Std Book"/>
              </a:rPr>
              <a:t>*</a:t>
            </a:r>
            <a:endParaRPr b="1" lang="en-US" sz="1600" spc="-1" strike="noStrike">
              <a:solidFill>
                <a:srgbClr val="cc0000"/>
              </a:solidFill>
              <a:latin typeface="Futura Std Book"/>
            </a:endParaRPr>
          </a:p>
          <a:p>
            <a:pPr marL="341280" indent="-3412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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Futura Std Book"/>
              </a:rPr>
              <a:t>STRUCTURE DU PROGRAMME</a:t>
            </a:r>
            <a:endParaRPr b="1" lang="en-US" sz="1600" spc="-1" strike="noStrike">
              <a:solidFill>
                <a:srgbClr val="cc0000"/>
              </a:solidFill>
              <a:latin typeface="Futura Std Book"/>
            </a:endParaRPr>
          </a:p>
          <a:p>
            <a:pPr marL="3412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Futura Std Book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Futura Std Book"/>
              </a:rPr>
              <a:t>4 priorités articulées en 10 mesures</a:t>
            </a:r>
            <a:endParaRPr b="1" lang="en-US" sz="1600" spc="-1" strike="noStrike">
              <a:solidFill>
                <a:srgbClr val="cc0000"/>
              </a:solidFill>
              <a:latin typeface="Futura Std Book"/>
            </a:endParaRPr>
          </a:p>
          <a:p>
            <a:pPr marL="341280" indent="-3412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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Futura Std Book"/>
              </a:rPr>
              <a:t>BUDGET</a:t>
            </a:r>
            <a:endParaRPr b="1" lang="en-US" sz="1600" spc="-1" strike="noStrike">
              <a:solidFill>
                <a:srgbClr val="cc0000"/>
              </a:solidFill>
              <a:latin typeface="Futura Std Book"/>
            </a:endParaRPr>
          </a:p>
          <a:p>
            <a:pPr marL="3412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Futura Std Book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Futura Std Book"/>
              </a:rPr>
              <a:t>173,6 millions d’euro + 10% de cofinancement </a:t>
            </a:r>
            <a:endParaRPr b="1" lang="en-US" sz="1600" spc="-1" strike="noStrike">
              <a:solidFill>
                <a:srgbClr val="cc0000"/>
              </a:solidFill>
              <a:latin typeface="Futura Std Book"/>
            </a:endParaRPr>
          </a:p>
          <a:p>
            <a:pPr marL="341280" indent="-3412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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Futura Std Book"/>
              </a:rPr>
              <a:t>AUTORITÉ DE GESTION COMMUNE</a:t>
            </a:r>
            <a:endParaRPr b="1" lang="en-US" sz="1600" spc="-1" strike="noStrike">
              <a:solidFill>
                <a:srgbClr val="cc0000"/>
              </a:solidFill>
              <a:latin typeface="Futura Std Book"/>
            </a:endParaRPr>
          </a:p>
          <a:p>
            <a:pPr marL="3412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Futura Std Book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Futura Std Book"/>
              </a:rPr>
              <a:t>Regione Autonoma della Sardegna</a:t>
            </a:r>
            <a:endParaRPr b="1" lang="en-US" sz="1600" spc="-1" strike="noStrike">
              <a:solidFill>
                <a:srgbClr val="cc0000"/>
              </a:solidFill>
              <a:latin typeface="Futura Std Book"/>
            </a:endParaRPr>
          </a:p>
          <a:p>
            <a:pPr marL="3412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cc0000"/>
              </a:solidFill>
              <a:latin typeface="Futura Std Book"/>
            </a:endParaRPr>
          </a:p>
          <a:p>
            <a:pPr marL="3412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Futura Std Book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Futura Std Book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Futura Std Book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Futura Std Book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Futura Std Book"/>
              </a:rPr>
              <a:t>          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* Les territoires éligibles de la Turquie ne sont pas compris</a:t>
            </a:r>
            <a:r>
              <a:rPr b="0" lang="it-IT" sz="1100" spc="-1" strike="noStrike">
                <a:solidFill>
                  <a:srgbClr val="000000"/>
                </a:solidFill>
                <a:latin typeface="Futura Std Book"/>
              </a:rPr>
              <a:t>	</a:t>
            </a:r>
            <a:endParaRPr b="1" lang="en-US" sz="1100" spc="-1" strike="noStrike">
              <a:solidFill>
                <a:srgbClr val="cc0000"/>
              </a:solidFill>
              <a:latin typeface="Futura Std Boo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1080" y="169560"/>
            <a:ext cx="76978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Futura Std Book"/>
                <a:ea typeface="Times New Roman"/>
              </a:rPr>
              <a:t> </a:t>
            </a:r>
            <a:endParaRPr b="1" lang="en-US" sz="2400" spc="-1" strike="noStrike">
              <a:solidFill>
                <a:srgbClr val="660066"/>
              </a:solidFill>
              <a:latin typeface="Futura Std Book"/>
            </a:endParaRPr>
          </a:p>
        </p:txBody>
      </p:sp>
      <p:sp>
        <p:nvSpPr>
          <p:cNvPr id="91" name=""/>
          <p:cNvSpPr/>
          <p:nvPr/>
        </p:nvSpPr>
        <p:spPr>
          <a:xfrm>
            <a:off x="858960" y="1138320"/>
            <a:ext cx="810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66840" y="609480"/>
            <a:ext cx="7620120" cy="1800"/>
          </a:xfrm>
          <a:prstGeom prst="line">
            <a:avLst/>
          </a:prstGeom>
          <a:ln w="15840">
            <a:solidFill>
              <a:srgbClr val="b50e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82680" y="203040"/>
            <a:ext cx="731196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660066"/>
                </a:solidFill>
                <a:latin typeface="Futura Std Book"/>
              </a:rPr>
              <a:t>Territoires éligibles</a:t>
            </a:r>
            <a:r>
              <a:rPr b="1" lang="en-GB" sz="2400" spc="-1" strike="noStrike">
                <a:solidFill>
                  <a:srgbClr val="660066"/>
                </a:solidFill>
                <a:latin typeface="Futura Std Book"/>
              </a:rPr>
              <a:t>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65240" y="741240"/>
            <a:ext cx="7780320" cy="51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Espagne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Andalucia, Catalunia, Comunidad Valenciana, Murcia, Islas Baleares, Ceuta, Melil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Royaume Uni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Gibral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Portugal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Algar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France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rse, Languedoc-Roussillon, Provence-Alpes-C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ô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e d’Az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Italie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Basilicata, Calabria, Campania, Lazio, Liguria, Puglia, Sardegna, Sicilia, Tosc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Malte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out le territo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Grèce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Anatoliki Makedonia – Thranki, Kentriki Makedonia, Thessalia, Ipeiros, Ionia Nisia, Dytiki Ellada, Sterea Ellada, Peloponnisos, Attiki, Voreio Aigaio, Kitti, Notio Aiga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Chypre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out le territo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Turquie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Tekirdağ, Balikesir, Izmir, Aydin, Antalya, Adana, Hat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Maroc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riental, Taza-Al Hoceima-Taotunate, Tanger-Tetou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Algérie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lemcen, Aïn Témouchent, Oran, Mostaganem, Chlef, Tipaza, Alger, Boumerdès, Tizi Ouzou, Béjaïa, Jijel, Skikda, Annaba, El Tar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1080" y="169560"/>
            <a:ext cx="76978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Futura Std Book"/>
                <a:ea typeface="Times New Roman"/>
              </a:rPr>
              <a:t> </a:t>
            </a:r>
            <a:endParaRPr b="1" lang="en-US" sz="2400" spc="-1" strike="noStrike">
              <a:solidFill>
                <a:srgbClr val="660066"/>
              </a:solidFill>
              <a:latin typeface="Futura Std Book"/>
            </a:endParaRPr>
          </a:p>
        </p:txBody>
      </p:sp>
      <p:sp>
        <p:nvSpPr>
          <p:cNvPr id="96" name=""/>
          <p:cNvSpPr/>
          <p:nvPr/>
        </p:nvSpPr>
        <p:spPr>
          <a:xfrm>
            <a:off x="858960" y="1138320"/>
            <a:ext cx="810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66840" y="609480"/>
            <a:ext cx="7620120" cy="1800"/>
          </a:xfrm>
          <a:prstGeom prst="line">
            <a:avLst/>
          </a:prstGeom>
          <a:ln w="15840">
            <a:solidFill>
              <a:srgbClr val="b50e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82680" y="203040"/>
            <a:ext cx="731196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660066"/>
                </a:solidFill>
                <a:latin typeface="Futura Std Book"/>
              </a:rPr>
              <a:t>Territoires éligibles</a:t>
            </a:r>
            <a:r>
              <a:rPr b="1" lang="en-GB" sz="2400" spc="-1" strike="noStrike">
                <a:solidFill>
                  <a:srgbClr val="660066"/>
                </a:solidFill>
                <a:latin typeface="Futura Std Book"/>
              </a:rPr>
              <a:t>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92320" y="830160"/>
            <a:ext cx="760248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Tunisie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édenine, Gabès, Sfax, Mahdia, Monastir, Sousse, Nabeul, Ben Arous, Tunis, Ariana, Bizerte, Béja, Jendou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Égypte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arsa Matruh, Al Iskandanyah, Al Buhayrah, Kafr ash Shaykh, Ad Daqahliyah,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umyat, Ash Sharquiyah, Al Isma’illyah, Bur Sai’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4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Israël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Hadarom, Tel Aviv, Hamerkaz, Haifa, Hazaf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4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Liban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out le territo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4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Syrie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Latakia, Tartou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4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Jordanie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Irbid, Al-Balga, Madaba, Al-Karak, Al- Trafila, Al-Aqa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4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Autorité Palestinienne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out le territo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4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Libye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uquat Al Kharms, Al Zawia, Al Aziziyah, Tarabulus, Tarunah, Al Khons, Zeleitin, Misurata, Sawfajin, Surt, Ajdabiya, Banghazi, Al Fatah, Al Jabal, Al Akhdar, Damah, Tubruq</a:t>
            </a:r>
            <a:r>
              <a:rPr b="0" lang="it-IT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3333cc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1080" y="169560"/>
            <a:ext cx="76978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Futura Std Book"/>
                <a:ea typeface="Times New Roman"/>
              </a:rPr>
              <a:t> </a:t>
            </a:r>
            <a:endParaRPr b="1" lang="en-US" sz="2400" spc="-1" strike="noStrike">
              <a:solidFill>
                <a:srgbClr val="660066"/>
              </a:solidFill>
              <a:latin typeface="Futura Std Book"/>
            </a:endParaRPr>
          </a:p>
        </p:txBody>
      </p:sp>
      <p:sp>
        <p:nvSpPr>
          <p:cNvPr id="101" name=""/>
          <p:cNvSpPr/>
          <p:nvPr/>
        </p:nvSpPr>
        <p:spPr>
          <a:xfrm>
            <a:off x="1266840" y="609480"/>
            <a:ext cx="7620120" cy="1800"/>
          </a:xfrm>
          <a:prstGeom prst="line">
            <a:avLst/>
          </a:prstGeom>
          <a:ln w="15840">
            <a:solidFill>
              <a:srgbClr val="b50e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82680" y="203040"/>
            <a:ext cx="731196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660066"/>
                </a:solidFill>
                <a:latin typeface="Futura Std Book"/>
              </a:rPr>
              <a:t>Le contexte socio-économ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92320" y="665280"/>
            <a:ext cx="77421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689040"/>
            <a:ext cx="7677000" cy="51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just">
              <a:lnSpc>
                <a:spcPct val="10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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Hétérogénéité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des pays du bassin méditerranéen en termes de caractéristiques géographiques, économiques, culturelles, d’organisation sociale et de structures politiques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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Écart significatif de revenu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entre les deux rives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SimSun"/>
              </a:rPr>
              <a:t>du Bassin (en 2006, les pays méditerranéens de l’UE ont contribué à hauteur de 75% de l’ensemble du PIB méditerranéen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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En 2006, la zone de coopération a enregistré une 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tendance à la croissance économique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dans les Pays partenaires méditerranéens d’environ 5%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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Progression remarquable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du taux d’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accroissement des flux d’IDE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, en particulier dans les Pays partenaires méditerranée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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centrale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dans les trafics maritimes mondiaux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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Patrimoine environnemental et culturel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important mais vulnérable (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pressions dues aux tendances démographiques et aux activités économiques y compris le tourisme). Ce patrimoine est un atout important pour le touris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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Interdépendance énergétique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considérable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et opportunités d’intensification de l’exploitation des sources d’énergie renouvelab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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Accroissement rapide des flux migratoires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des pays méditerranéens vers les états membres de l’UE et des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phénomènes de migration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de transi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ddalenamameli</dc:creator>
  <dc:description/>
  <dc:language>en-US</dc:language>
  <cp:lastModifiedBy>PAP/RAC</cp:lastModifiedBy>
  <dcterms:modified xsi:type="dcterms:W3CDTF">2008-05-16T12:13:36Z</dcterms:modified>
  <cp:revision>140</cp:revision>
  <dc:subject/>
  <dc:title>Presentazione di PowerPoint</dc:title>
</cp:coreProperties>
</file>