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3844-176C-40DF-8EE3-C9F60D243A81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73B9-0EA5-4376-80EC-B2F6813CF0A1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D8DC-4E77-43E3-BE6D-A973567F4733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7EB5-FCA5-4CCB-BB7D-5E388FE8C7CB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8569-D6A8-47DE-8F3A-A2B31D7D2371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A152-0721-40C6-832F-83A57632DAB8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24EE-4A38-4E8B-8657-31AB54AADB63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3AC2-B9C5-47AB-9530-A13AC14816C5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0BE7-69C3-40D8-B674-674BF92A8DC6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9108-511F-416A-9490-56B67B2D7172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BB10-A526-4350-9169-AD8BA766697E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E87B-9159-47BE-B4C3-DB00121A13FC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E8B2-3B13-4D19-9B5F-27526CBFE2D6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A397-A21F-42F4-A9F0-4522B7A9F878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6F56-1886-4CD8-8146-D8FF88DCFEFF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0683-72FF-48DC-9937-A7EF00DB3B11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A2EE-65CA-4D21-BAAC-4444FE7C99D7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C430-4D5C-4DE3-891D-F16EDD892BDE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B490-AD40-440A-A0F8-7B5D1AD99906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B283-C18E-41AC-8839-E9EA420DF508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ECC1-1891-4D92-9217-9E998A5BF7CA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A35B-A4EB-49E6-B6DE-A13E8849DB9B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2C74-9B98-4312-B70C-A25AA4E561BE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89FD-3BAB-4CFD-8C45-042E901453E5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7770-C08A-4B88-BE4B-406821A87810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EC9F-C9FB-409F-84F8-5CC7FC482DB9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6240-1FD6-4EE5-BB3F-7F6A7A370F06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C5E5-419C-488E-AFE0-D71C4AB723B0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C87C-FC84-4A46-83D9-BD7C6D214E96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4EC5-E102-45A7-8DAA-7FF686AB72CD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3808-7FA2-4468-BD1E-74B6456F9335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AEBE-0268-4CBA-90F6-29B5AC5393F7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504C-6F98-4D6C-A4A5-A97111BF0F14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F4FF-63EC-4372-AF7A-B9CB465127F4}" type="slidenum">
              <a:rPr b="0" lang="id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C72-E9A6-4BE0-9F22-54BCE402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BB17-3EA3-4211-9EF0-078402D0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CCB-CAB3-40FD-A6A7-93140A19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5F4-BE01-42C3-A9C4-FBDA885A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85BE-13B0-4E2F-B890-37E4900F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2285-F832-4A83-8E6D-75CBDC1B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C1C9-D3F0-46AC-869C-31741FA9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8DC9-C505-4874-AB1A-E4734121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29F3-F71E-4C94-88A1-F3875F6E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D79C-3C50-4D1B-B3F8-B0E67B76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7685-CC14-4652-8DE1-61401591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7F3-B556-4967-A324-F3208F07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2CAA-D60A-49B5-953D-6BE55D54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254A-AE6B-46F8-9802-26692EF1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E80C-E2F9-4D69-8195-1EC632C7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5870-AAB1-4001-9282-A4AA2EB9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7001-8601-4B14-AC47-AE7AE2B5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DBDAE-5970-4594-B619-A3E9DF45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0BDB8-814C-4888-B36A-A46DDF89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7ED92-68A1-4957-B2DA-A11F81FD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56B31-C951-401F-855E-46472665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859EB-DA65-40BA-8869-DEE0D3D8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B98-9B4B-40DD-B97E-21E14F13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8FDCB-C8D5-448C-AC79-AF3D47ED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728A3-1776-4396-9BB7-8E220F69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CCF4D-E11D-4D05-BC4B-B13E3517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73C1B-289C-4021-97DA-2C8F8026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8C36F-47D9-47B6-A19D-6ED05351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FA971-5361-4A4B-B337-0648C50B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81958-38D0-4183-AF22-CA911D16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0F28C-7CFA-4D93-A309-2C4C36DE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A4C2E-6112-4D76-BF94-2644871B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6F5B5-420A-47D3-A9BC-557199E8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C23-AA8C-4471-9B8C-6DA6787B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F99B1-775B-4471-A77C-BA8799FE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7469A-07E0-4BED-9689-64A385DF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E483D-7EE0-4D5A-AAA1-FACD8457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D68E2-2057-4D12-87E1-B6E1031C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134D9-7C19-4F90-82C1-8043396A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8CD68-2704-4547-B430-24838573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B5EE7-0680-41C6-B29B-C3E3C55E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A046C-5804-4CCE-8B31-7CCA22FC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32E88-6AAF-466B-B83D-1F09F911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C9FA4-C4BF-449B-9B5F-C541298E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F23-A462-4CAD-8273-4B94410D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5F69B-72D5-401F-AFCB-7A93CC8A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40403-358D-41C2-965B-A00CDD0F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525B1-578C-4913-9A49-19607D46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D8EBB-1287-4ACB-876F-B87B910D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57B74-3E31-4158-8E30-40086CCB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3BE34-9041-4759-8466-A34F612E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1B0E7-E1A1-4B6D-A2F2-6F495452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8CA4A-82DA-4A19-B8DF-7BD9A8C5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C4DE0-37F7-4745-9E0D-E01C55AB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D7A5F-BDD3-40ED-969B-E66CC667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222-4652-48CB-AC7E-B028CF25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C2E75-8072-4EEB-AFC7-24E3FE6C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83407-2F83-408F-96B0-0984E00E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42882-84A2-4F50-AE87-24C99725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067B1-0EA9-4FE4-ACEF-CA59A801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86D4C-43D1-4AC7-ACFE-110E221C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E1B36-E1B6-4740-A64B-5F988D4E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CEA74-277B-4100-B23A-90DF1E9F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ABA0A-6328-492B-ACC3-D91A4219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93517-2BEA-4378-B9A7-38D41934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CBC41-8A0D-41B6-9AD7-446F684A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5EB-D021-40FA-BF6B-54785C4A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344D6-CAA9-452C-9BBE-DF7E3C51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703DB-6572-451D-8886-CA5B8425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675CF-3C0D-4EB6-A97F-C751BC6A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3F2C5-C6CE-4227-A3EE-7C4CD0A3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16272-0F65-4A87-BD7D-DFDAF2F8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84F7A-EC4C-41D8-B98F-EBE5D1B2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9C88F-01BD-47B7-B1DB-D9FC6450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A01C1-12BE-45C0-B0AE-2DD5E79B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86025-3D1A-4A6F-BD90-8C101AC8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F7184-2B04-4085-B5C6-B56B1953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523-2FEC-4E1E-AEF6-DC6EA28C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FCB79-A156-4D4C-BC61-85567966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D925E-D5C8-40E5-8F46-71E24396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5F65D-70F5-4818-A6DA-197F1DE1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CA600-9F5E-44EA-8A3B-E06E43F8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DFADB-3574-416D-B458-8F5B97A7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9D7-39D0-4F9D-ACCB-33C0D1FB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30E8-DAE6-4C7C-B317-93F72D3BDE4B}" type="slidenum">
              <a:rPr b="0" lang="id-ID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5702-F033-4528-AD31-DAA27DB74B5C}" type="slidenum">
              <a:rPr b="0" lang="id-ID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265A-5C41-4C4A-96BF-C251A4415293}" type="slidenum">
              <a:rPr b="0" lang="id-ID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9C23-91F8-49E6-826B-414DAC705C2D}" type="slidenum">
              <a:rPr b="0" lang="id-ID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4F18-FDC5-41DC-A312-52ADD121DFA6}" type="slidenum">
              <a:rPr b="0" lang="id-ID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AC38-7CF9-45D2-9C25-ACA08511BBA2}" type="slidenum">
              <a:rPr b="0" lang="id-ID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99680" y="1217520"/>
              <a:ext cx="45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64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99680" y="1282320"/>
              <a:ext cx="45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51960" y="1370160"/>
              <a:ext cx="46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64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51960" y="1434960"/>
              <a:ext cx="460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404560" y="1473120"/>
              <a:ext cx="45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64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404560" y="1537920"/>
              <a:ext cx="45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E2C6-98E2-4704-882F-14BDDFEBD188}" type="slidenum">
              <a:rPr b="0" lang="id-ID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Content Placeholder 2"/>
          <p:cNvSpPr/>
          <p:nvPr/>
        </p:nvSpPr>
        <p:spPr>
          <a:xfrm>
            <a:off x="5076720" y="4940280"/>
            <a:ext cx="28717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gency FB"/>
              </a:rPr>
              <a:t>ATELEKTA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gency FB"/>
              </a:rPr>
              <a:t>Arimbi,Sp.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Ilmu Penyakit Pa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FK UW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0" y="-27000"/>
            <a:ext cx="9109080" cy="7042320"/>
          </a:xfrm>
          <a:prstGeom prst="rect">
            <a:avLst/>
          </a:prstGeom>
          <a:ln w="0">
            <a:noFill/>
          </a:ln>
        </p:spPr>
      </p:pic>
      <p:sp>
        <p:nvSpPr>
          <p:cNvPr id="377" name="TextBox 1"/>
          <p:cNvSpPr/>
          <p:nvPr/>
        </p:nvSpPr>
        <p:spPr>
          <a:xfrm>
            <a:off x="5064120" y="509760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ATELEKTASIS  PA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ARIMBI,dr.Sp.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FK UW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85680" y="571320"/>
            <a:ext cx="407196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Pembagian  </a:t>
            </a:r>
            <a:r>
              <a:rPr b="0" lang="id-ID" sz="3200" spc="-1" strike="noStrike">
                <a:solidFill>
                  <a:srgbClr val="1deb31"/>
                </a:solidFill>
                <a:latin typeface="Agency FB"/>
              </a:rPr>
              <a:t>Atelektasis</a:t>
            </a: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………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00040" y="1356840"/>
            <a:ext cx="84297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1" marL="606600" indent="-23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2.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Atelektasis Kontraktil: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06600" indent="-23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erjadi akibat fibrosis pada dinding alveoli paru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alveoli mengkerut, sehingga 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tidak dapat terisi udara / kolap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06600" indent="-23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3.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Atelektasis Adhesive: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06600" indent="-23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erjadi akibat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hilangnya Surfaktan pada dinding alveoli,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06600" indent="-23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egangan permukaan alveoli hilang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alveoli kolap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06600" indent="-23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Mis:  - ARDS ( R</a:t>
            </a:r>
            <a:r>
              <a:rPr b="0" lang="el-GR" sz="3200" spc="-1" strike="noStrike">
                <a:solidFill>
                  <a:srgbClr val="ffffff"/>
                </a:solidFill>
                <a:latin typeface="Arial Narrow"/>
              </a:rPr>
              <a:t>ό</a:t>
            </a:r>
            <a:r>
              <a:rPr b="0" lang="id-ID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diffuse adhesive atelectasi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06600" indent="-234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        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- Emboli Paru  ( R</a:t>
            </a:r>
            <a:r>
              <a:rPr b="0" lang="el-GR" sz="3200" spc="-1" strike="noStrike">
                <a:solidFill>
                  <a:srgbClr val="ffffff"/>
                </a:solidFill>
                <a:latin typeface="Arial Narrow"/>
              </a:rPr>
              <a:t>ό</a:t>
            </a:r>
            <a:r>
              <a:rPr b="0" lang="id-ID" sz="3200" spc="-1" strike="noStrike">
                <a:solidFill>
                  <a:srgbClr val="ffffff"/>
                </a:solidFill>
                <a:latin typeface="Arial Narrow"/>
              </a:rPr>
              <a:t>: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late like atelectasi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500040" y="1889280"/>
            <a:ext cx="82868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  <a:ea typeface="Arial"/>
              </a:rPr>
              <a:t>4.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  <a:ea typeface="Arial"/>
              </a:rPr>
              <a:t>Atelektasis Relaksasi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b0f0"/>
                </a:solidFill>
                <a:latin typeface="Agency FB"/>
                <a:ea typeface="Arial"/>
              </a:rPr>
              <a:t> 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Terjadi akibat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  <a:ea typeface="Arial"/>
              </a:rPr>
              <a:t>tekanan negatif pada cav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  <a:ea typeface="Arial"/>
              </a:rPr>
              <a:t>	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  <a:ea typeface="Arial"/>
              </a:rPr>
              <a:t>pleura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 penekanan percabangan bronkh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alveoli kolaps ( mis: Pneumothoraks atau  Efus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  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pleura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  <a:ea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  <a:ea typeface="Arial"/>
              </a:rPr>
              <a:t>5. A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  <a:ea typeface="Arial"/>
              </a:rPr>
              <a:t>telektasis Bulat / Round Atelectasis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  <a:ea typeface="Arial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  <a:ea typeface="Arial"/>
              </a:rPr>
              <a:t>akibat penyakit pada pleura ( Asbestosi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85680" y="571320"/>
            <a:ext cx="407196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Pembagian  </a:t>
            </a:r>
            <a:r>
              <a:rPr b="0" lang="id-ID" sz="3200" spc="-1" strike="noStrike">
                <a:solidFill>
                  <a:srgbClr val="1deb31"/>
                </a:solidFill>
                <a:latin typeface="Agency FB"/>
              </a:rPr>
              <a:t>Atelektasis</a:t>
            </a: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………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785880" y="1572840"/>
            <a:ext cx="792936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6.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Atelektasis Lobus Medialis ( syndroma Lob.Medius ) 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atelektasis pada lobus medius Paru kanan , akibat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penekanan bronkus Lobus medius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oleh suatu tumor atau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embesaran kelenjar getah bening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aru-paru yang tersumbat dan mengkerut dapat mengalami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Infeksi ( pneumonia , bronkhiektasis) , atau terbentuk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jaringan parut/ fibrotik 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642760" y="642600"/>
            <a:ext cx="4000680" cy="571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Pembagian  </a:t>
            </a:r>
            <a:r>
              <a:rPr b="0" lang="id-ID" sz="3200" spc="-1" strike="noStrike">
                <a:solidFill>
                  <a:srgbClr val="1deb31"/>
                </a:solidFill>
                <a:latin typeface="Agency FB"/>
              </a:rPr>
              <a:t>Atelektasis</a:t>
            </a: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………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8000" y="2276640"/>
            <a:ext cx="867564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0816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7.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Atelektasis Percepata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0816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Biasanya terjadi pada</a:t>
            </a:r>
            <a:r>
              <a:rPr b="0" lang="id-ID" sz="3200" spc="-1" strike="noStrike">
                <a:solidFill>
                  <a:srgbClr val="007eea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pilot pesawat tempur.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Penerbangan dengan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0816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kecepatan tinggi ,maka terjadi menutup saluran nafas kecil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0816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mendadak 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menyebabkan alveoli menciut / mengempi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929040" cy="55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Pembagian  </a:t>
            </a:r>
            <a:r>
              <a:rPr b="0" lang="id-ID" sz="3200" spc="-1" strike="noStrike">
                <a:solidFill>
                  <a:srgbClr val="1deb31"/>
                </a:solidFill>
                <a:latin typeface="Agency FB"/>
              </a:rPr>
              <a:t>Atelektasis</a:t>
            </a: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………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28400" y="1643040"/>
            <a:ext cx="86439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4092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8.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Mikroatelektasis tersebar / terlokalisir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Akibat terganggu / hilangnya surfaktan pada jaringan paru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ada bayi prematur 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( Sindroma gawat pernafasan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ada Orang dewasa terjadi akibat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terapi oksigen yang berlebiha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infeksi berat dan luas ( sepsi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faktor lainnya yang merusak lapisan alveoli.</a:t>
            </a:r>
            <a:br>
              <a:rPr sz="3200"/>
            </a:b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28560" y="642600"/>
            <a:ext cx="4429080" cy="571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Pembagian  </a:t>
            </a:r>
            <a:r>
              <a:rPr b="0" lang="id-ID" sz="3200" spc="-1" strike="noStrike">
                <a:solidFill>
                  <a:srgbClr val="1deb31"/>
                </a:solidFill>
                <a:latin typeface="Agency FB"/>
              </a:rPr>
              <a:t>Atelektasis</a:t>
            </a: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………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83920"/>
            <a:ext cx="7772400" cy="772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deb31"/>
                </a:solidFill>
                <a:latin typeface="Agency FB"/>
              </a:rPr>
              <a:t>Pembagian  </a:t>
            </a: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Atelektasis</a:t>
            </a:r>
            <a:r>
              <a:rPr b="0" lang="en-US" sz="4000" spc="-1" strike="noStrike">
                <a:solidFill>
                  <a:srgbClr val="1deb31"/>
                </a:solidFill>
                <a:latin typeface="Agency FB"/>
              </a:rPr>
              <a:t>  (  berdasar  asalnya 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0920" y="1628640"/>
            <a:ext cx="8057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9200" indent="-291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1. Atelektasis neonatoru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Merupakan ekspansi yang tidak sempurna paru pada saat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lahir atau kolaps sebelum alveoli berkembang sempurn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Banyak terjadi pada bayi prematur, dimana pusat pernafasan dalam otak tidak matur dan gerakan pernafasan masih terbata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Faktor pencetus termasuk komplikasi persalinan yang menyebabkan hipoksia intrauteru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28880" y="428760"/>
            <a:ext cx="5371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deb31"/>
                </a:solidFill>
                <a:latin typeface="Agency FB"/>
              </a:rPr>
              <a:t>Atelektasis  Neonatoru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2571840" y="1500120"/>
            <a:ext cx="4786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000160" y="785520"/>
            <a:ext cx="5429520" cy="571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Pembagian  </a:t>
            </a:r>
            <a:r>
              <a:rPr b="0" lang="id-ID" sz="3200" spc="-1" strike="noStrike">
                <a:solidFill>
                  <a:srgbClr val="1deb31"/>
                </a:solidFill>
                <a:latin typeface="Agency FB"/>
              </a:rPr>
              <a:t>Atelektasis</a:t>
            </a: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 , asalnya………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856880"/>
            <a:ext cx="77724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2. Atelektasis acquired atau didap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- Terdapat pada orang dewasa, termasuk ganggua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intratoraks yang menyebabkan kolaps dari ruanga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udara, yang sebelumnya telah berkembang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00200" y="514440"/>
            <a:ext cx="458640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1deb31"/>
                </a:solidFill>
                <a:latin typeface="Agency FB"/>
              </a:rPr>
              <a:t>Gejala Klinis Atelektasis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285560" y="1999800"/>
            <a:ext cx="70009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Sesak napas s/d Sianosis (  O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2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menurun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akikardi ( kerja jantung memberat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anas tinggi ( akibat terjadinya infeksi pada daerah yang kolaps )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enurunan  kesadaran s/d syok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( atelektasis luas / Hipoksemia berat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057040" y="356760"/>
            <a:ext cx="5372280" cy="71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Pemeriksaan Fisik Atelektasi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785880" y="1714680"/>
            <a:ext cx="7858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3300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Inspeksi : Gerak napas tertinggal, ICS menyempit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    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( di sisi yang mengalami atelektasis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7a1ca"/>
                </a:solidFill>
                <a:latin typeface="Agency FB"/>
              </a:rPr>
              <a:t>Palpasi   : Gerak napas tertinggal, Fremitus raba menurun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7a1ca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7a1ca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7a1ca"/>
                </a:solidFill>
                <a:latin typeface="Agency FB"/>
              </a:rPr>
              <a:t>      </a:t>
            </a:r>
            <a:r>
              <a:rPr b="0" lang="id-ID" sz="3000" spc="-1" strike="noStrike">
                <a:solidFill>
                  <a:srgbClr val="f7a1ca"/>
                </a:solidFill>
                <a:latin typeface="Agency FB"/>
              </a:rPr>
              <a:t>ICS menyempit ( di sisi atelektasis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Perkusi  : Redup atau normal , bila terjadi emphysema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    kompensa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ta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( batas mediastinum bergeser k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   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sisi atelektasis ), letak diafragma  di sisi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   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atelektasis  meninggi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61b6ff"/>
                </a:solidFill>
                <a:latin typeface="Agency FB"/>
              </a:rPr>
              <a:t>Auskultasi : Suara napas &amp; Suara percakapan menuru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61b6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61b6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61b6ff"/>
                </a:solidFill>
                <a:latin typeface="Agency FB"/>
              </a:rPr>
              <a:t>         </a:t>
            </a:r>
            <a:r>
              <a:rPr b="0" lang="id-ID" sz="3000" spc="-1" strike="noStrike">
                <a:solidFill>
                  <a:srgbClr val="61b6ff"/>
                </a:solidFill>
                <a:latin typeface="Agency FB"/>
              </a:rPr>
              <a:t>( di sisi atelektasis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57240" y="657360"/>
            <a:ext cx="530064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400" spc="-1" strike="noStrike">
                <a:solidFill>
                  <a:srgbClr val="1deb31"/>
                </a:solidFill>
                <a:latin typeface="Agency FB"/>
              </a:rPr>
              <a:t>Definisi  Atelektasis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13880" y="2643120"/>
            <a:ext cx="792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40920" indent="-28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eb31"/>
                </a:solidFill>
                <a:latin typeface="Agency FB"/>
              </a:rPr>
              <a:t>Keadaan  alveoli paru sebagian / seluruhnya tidak terisi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1deb31"/>
                </a:solidFill>
                <a:latin typeface="Agency FB"/>
              </a:rPr>
              <a:t>udara / kolaps, akibat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hambatan aliran udara yang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melewati  bronkhus dan percabangannya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8840" y="799920"/>
            <a:ext cx="6229440" cy="771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  <a:ea typeface="Aharoni"/>
              </a:rPr>
              <a:t>Menegakkan Diagnose Atelektasi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1360" y="2571840"/>
            <a:ext cx="70722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33000" indent="-2775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Berdasar Gejala Klinis dan Pemeriksaan Fisi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Radiologi ( Foto Thoraks PA dan Lateral ) :</a:t>
            </a:r>
            <a:r>
              <a:rPr b="0" lang="id-ID" sz="3000" spc="-1" strike="noStrike">
                <a:solidFill>
                  <a:srgbClr val="61b6ff"/>
                </a:solidFill>
                <a:latin typeface="Agency FB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61b6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Tanda – tanda </a:t>
            </a:r>
            <a:r>
              <a:rPr b="0" lang="id-ID" sz="3000" spc="-1" strike="noStrike">
                <a:solidFill>
                  <a:srgbClr val="f273af"/>
                </a:solidFill>
                <a:latin typeface="Agency FB"/>
              </a:rPr>
              <a:t>“ Loss of Lung Volume</a:t>
            </a:r>
            <a:r>
              <a:rPr b="0" lang="id-ID" sz="3600" spc="-1" strike="noStrike">
                <a:solidFill>
                  <a:srgbClr val="f273af"/>
                </a:solidFill>
                <a:latin typeface="Agency FB"/>
              </a:rPr>
              <a:t> “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Bronkhoskopi dan bronkhografi / CT Scan 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273a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273af"/>
                </a:solidFill>
                <a:latin typeface="Agency FB"/>
              </a:rPr>
              <a:t>mengetahui lokasi obstruksi / sumbatan  bronkhu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43040" y="512280"/>
            <a:ext cx="5657760" cy="701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1deb31"/>
                </a:solidFill>
                <a:latin typeface="Agency FB"/>
              </a:rPr>
              <a:t>Signs Loss of Lung Volume </a:t>
            </a:r>
            <a:br>
              <a:rPr sz="4800"/>
            </a:b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57160" y="185724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1" marL="726120" indent="-385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gency FB"/>
              </a:rPr>
              <a:t>*Yaitu: hilangnya sebagian volume paru akibat atelektas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6120" indent="-385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gency FB"/>
              </a:rPr>
              <a:t>*Signs loss of lung volume ini dapat dilihat pada thoraks fot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6120" indent="-385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gency FB"/>
              </a:rPr>
              <a:t>* Ciri Signs loss of lung volume , adalah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6120" indent="-385560">
              <a:lnSpc>
                <a:spcPct val="10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Agency F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Pergeseran mediastinum: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Trakhea dan jantung bergeser ke sisi yang mengalami atelektasis 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6120" indent="-385560">
              <a:lnSpc>
                <a:spcPct val="10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Agency F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Elevasi diafragma: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 Diafragma terangkat ke atas pada sisi paru yang mengalami atelektasis 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6120" indent="-385560">
              <a:lnSpc>
                <a:spcPct val="10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Agency F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Drooping of shoulder: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bahu pada lengan yang alami atelektasis posisinya lebih rendah dibanding sisi seh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714680" y="428760"/>
            <a:ext cx="5929200" cy="714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Signs of Loss of Lung Volume ......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95280" y="1628640"/>
            <a:ext cx="864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73af"/>
                </a:solidFill>
                <a:latin typeface="Agency FB"/>
              </a:rPr>
              <a:t>4. </a:t>
            </a:r>
            <a:r>
              <a:rPr b="0" lang="id-ID" sz="2400" spc="-1" strike="noStrike">
                <a:solidFill>
                  <a:srgbClr val="f273af"/>
                </a:solidFill>
                <a:latin typeface="Agency FB"/>
              </a:rPr>
              <a:t>Penyempitan ICS :</a:t>
            </a:r>
            <a:r>
              <a:rPr b="0" lang="id-ID" sz="2400" spc="-1" strike="noStrike">
                <a:solidFill>
                  <a:srgbClr val="ffffff"/>
                </a:solidFill>
                <a:latin typeface="Agency FB"/>
              </a:rPr>
              <a:t>  ICS pada sisi yang mengalami nampak atelektasis menyempi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73af"/>
                </a:solidFill>
                <a:latin typeface="Agency FB"/>
              </a:rPr>
              <a:t>5. </a:t>
            </a:r>
            <a:r>
              <a:rPr b="0" lang="id-ID" sz="2400" spc="-1" strike="noStrike">
                <a:solidFill>
                  <a:srgbClr val="f273af"/>
                </a:solidFill>
                <a:latin typeface="Agency FB"/>
              </a:rPr>
              <a:t>Berpindahnya posisi Fisura Paru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69720" indent="-30816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gency FB"/>
              </a:rPr>
              <a:t>Diperlukan Foto Thorax ( sisi Lateral ) untuk mengetahui pergeseran posisi fisura oblique dan Transverse 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73af"/>
                </a:solidFill>
                <a:latin typeface="Agency FB"/>
              </a:rPr>
              <a:t>6. </a:t>
            </a:r>
            <a:r>
              <a:rPr b="0" lang="id-ID" sz="2400" spc="-1" strike="noStrike">
                <a:solidFill>
                  <a:srgbClr val="f273af"/>
                </a:solidFill>
                <a:latin typeface="Agency FB"/>
              </a:rPr>
              <a:t>Bergesernya Hilus Par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69720" indent="-30816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gency FB"/>
              </a:rPr>
              <a:t>Posisi normal:  posisi hilus paru kanan sedikit lebih rendah  dibanding hilus paru kiri. Posisi ini berubah bila terjadi  atelektasis pada satu lobus paru. 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273af"/>
                </a:solidFill>
                <a:latin typeface="Agency FB"/>
              </a:rPr>
              <a:t>7</a:t>
            </a:r>
            <a:r>
              <a:rPr b="0" lang="en-US" sz="2400" spc="-1" strike="noStrike">
                <a:solidFill>
                  <a:srgbClr val="f273af"/>
                </a:solidFill>
                <a:latin typeface="Agency FB"/>
              </a:rPr>
              <a:t>. </a:t>
            </a:r>
            <a:r>
              <a:rPr b="0" lang="id-ID" sz="2400" spc="-1" strike="noStrike">
                <a:solidFill>
                  <a:srgbClr val="f273af"/>
                </a:solidFill>
                <a:latin typeface="Agency FB"/>
              </a:rPr>
              <a:t>Hyperinflasi / Emphisema  Compensator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69720" indent="-30816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gency FB"/>
              </a:rPr>
              <a:t>Bagian paru yang tidak mengalami atelektasis, akan nampak lebih hitam dan terjadi dilatasi pembuluh dara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69720" indent="-308160">
              <a:lnSpc>
                <a:spcPct val="10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H:\foto dada\atelek adhesive_files\intro_data\310a.jpg"/>
          <p:cNvPicPr/>
          <p:nvPr/>
        </p:nvPicPr>
        <p:blipFill>
          <a:blip r:embed="rId1"/>
          <a:stretch/>
        </p:blipFill>
        <p:spPr>
          <a:xfrm>
            <a:off x="785880" y="428760"/>
            <a:ext cx="3643200" cy="4127400"/>
          </a:xfrm>
          <a:prstGeom prst="rect">
            <a:avLst/>
          </a:prstGeom>
          <a:ln w="28440">
            <a:solidFill>
              <a:srgbClr val="1deb31"/>
            </a:solidFill>
            <a:miter/>
          </a:ln>
        </p:spPr>
      </p:pic>
      <p:sp>
        <p:nvSpPr>
          <p:cNvPr id="421" name="Rectangle 2"/>
          <p:cNvSpPr/>
          <p:nvPr/>
        </p:nvSpPr>
        <p:spPr>
          <a:xfrm>
            <a:off x="857160" y="4873680"/>
            <a:ext cx="3143520" cy="1739880"/>
          </a:xfrm>
          <a:prstGeom prst="rect">
            <a:avLst/>
          </a:prstGeom>
          <a:noFill/>
          <a:ln w="9360">
            <a:solidFill>
              <a:srgbClr val="1de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1deb31"/>
                </a:solidFill>
                <a:latin typeface="Agency FB"/>
                <a:ea typeface="Times New Roman"/>
              </a:rPr>
              <a:t>Adhesive Atelecta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  <a:ea typeface="Times New Roman"/>
              </a:rPr>
              <a:t>Alveoli are kept open by the integrity of surfactant. When there is</a:t>
            </a:r>
            <a:r>
              <a:rPr b="1" lang="id-ID" sz="1800" spc="-1" strike="noStrike">
                <a:solidFill>
                  <a:srgbClr val="f273af"/>
                </a:solidFill>
                <a:latin typeface="Agency FB"/>
                <a:ea typeface="Times New Roman"/>
              </a:rPr>
              <a:t> loss of surfactant, alveoli collap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5" descr="H:\foto dada\atelek relaks_files\intro_data\112la.JPG"/>
          <p:cNvPicPr/>
          <p:nvPr/>
        </p:nvPicPr>
        <p:blipFill>
          <a:blip r:embed="rId2"/>
          <a:stretch/>
        </p:blipFill>
        <p:spPr>
          <a:xfrm>
            <a:off x="5000760" y="428760"/>
            <a:ext cx="3714480" cy="4000320"/>
          </a:xfrm>
          <a:prstGeom prst="rect">
            <a:avLst/>
          </a:prstGeom>
          <a:ln w="38160">
            <a:solidFill>
              <a:srgbClr val="1deb31"/>
            </a:solidFill>
            <a:miter/>
          </a:ln>
        </p:spPr>
      </p:pic>
      <p:sp>
        <p:nvSpPr>
          <p:cNvPr id="423" name="TextBox 6"/>
          <p:cNvSpPr/>
          <p:nvPr/>
        </p:nvSpPr>
        <p:spPr>
          <a:xfrm>
            <a:off x="4857840" y="4857840"/>
            <a:ext cx="4000320" cy="2288520"/>
          </a:xfrm>
          <a:prstGeom prst="rect">
            <a:avLst/>
          </a:prstGeom>
          <a:noFill/>
          <a:ln w="9360">
            <a:solidFill>
              <a:srgbClr val="1de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1deb31"/>
                </a:solidFill>
                <a:latin typeface="Agency FB"/>
              </a:rPr>
              <a:t>Relaxation Atelecta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The lung is held in apposition to the chest wall  because of negative pressure in the ple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When the negative pressure is lost, as in pneumothorax, the lung relaxes to its atelectatic posi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4" name="Straight Arrow Connector 6"/>
          <p:cNvCxnSpPr/>
          <p:nvPr/>
        </p:nvCxnSpPr>
        <p:spPr>
          <a:xfrm>
            <a:off x="5999760" y="1571760"/>
            <a:ext cx="214920" cy="3578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25" name="Straight Arrow Connector 8"/>
          <p:cNvCxnSpPr/>
          <p:nvPr/>
        </p:nvCxnSpPr>
        <p:spPr>
          <a:xfrm flipV="1">
            <a:off x="5500440" y="2571480"/>
            <a:ext cx="500760" cy="3578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H:\foto dada\atelek round_files\intro_data\402a.jpg"/>
          <p:cNvPicPr/>
          <p:nvPr/>
        </p:nvPicPr>
        <p:blipFill>
          <a:blip r:embed="rId1"/>
          <a:stretch/>
        </p:blipFill>
        <p:spPr>
          <a:xfrm>
            <a:off x="1071720" y="500040"/>
            <a:ext cx="3429000" cy="3857760"/>
          </a:xfrm>
          <a:prstGeom prst="rect">
            <a:avLst/>
          </a:prstGeom>
          <a:ln w="38160">
            <a:solidFill>
              <a:srgbClr val="1deb31"/>
            </a:solidFill>
            <a:miter/>
          </a:ln>
        </p:spPr>
      </p:pic>
      <p:sp>
        <p:nvSpPr>
          <p:cNvPr id="427" name="TextBox 4"/>
          <p:cNvSpPr/>
          <p:nvPr/>
        </p:nvSpPr>
        <p:spPr>
          <a:xfrm>
            <a:off x="928800" y="4716360"/>
            <a:ext cx="7572240" cy="2288520"/>
          </a:xfrm>
          <a:prstGeom prst="rect">
            <a:avLst/>
          </a:prstGeom>
          <a:noFill/>
          <a:ln w="9360">
            <a:solidFill>
              <a:srgbClr val="1de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0000"/>
                </a:solidFill>
                <a:latin typeface="Agency FB"/>
              </a:rPr>
              <a:t>Round Atelect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gency FB"/>
              </a:rPr>
              <a:t>Mass like density  Pleural based  Base of lungs ,  Blunting of costophrenic angle . Pleural thickening . Pulmonary vasculature curving into the dens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gency FB"/>
              </a:rPr>
              <a:t>Esophageal surgical clips ( Asbestosis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5" descr="H:\foto dada\atelek round_files\intro_data\402c.jpg"/>
          <p:cNvPicPr/>
          <p:nvPr/>
        </p:nvPicPr>
        <p:blipFill>
          <a:blip r:embed="rId2"/>
          <a:stretch/>
        </p:blipFill>
        <p:spPr>
          <a:xfrm>
            <a:off x="5059440" y="571680"/>
            <a:ext cx="3227400" cy="3786120"/>
          </a:xfrm>
          <a:prstGeom prst="rect">
            <a:avLst/>
          </a:prstGeom>
          <a:ln w="38160">
            <a:solidFill>
              <a:srgbClr val="1deb31"/>
            </a:solidFill>
            <a:miter/>
          </a:ln>
        </p:spPr>
      </p:pic>
      <p:cxnSp>
        <p:nvCxnSpPr>
          <p:cNvPr id="429" name="Straight Arrow Connector 5"/>
          <p:cNvCxnSpPr/>
          <p:nvPr/>
        </p:nvCxnSpPr>
        <p:spPr>
          <a:xfrm>
            <a:off x="3285000" y="2214720"/>
            <a:ext cx="143640" cy="4291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30" name="Straight Arrow Connector 6"/>
          <p:cNvCxnSpPr/>
          <p:nvPr/>
        </p:nvCxnSpPr>
        <p:spPr>
          <a:xfrm>
            <a:off x="7429680" y="1856880"/>
            <a:ext cx="143280" cy="4294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31" name="Straight Arrow Connector 7"/>
          <p:cNvCxnSpPr/>
          <p:nvPr/>
        </p:nvCxnSpPr>
        <p:spPr>
          <a:xfrm>
            <a:off x="6286680" y="2356920"/>
            <a:ext cx="143280" cy="4294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3" descr="H:\foto dada\atelek paru kanan 2_files\intro_data\95a.jpg"/>
          <p:cNvPicPr/>
          <p:nvPr/>
        </p:nvPicPr>
        <p:blipFill>
          <a:blip r:embed="rId1"/>
          <a:stretch/>
        </p:blipFill>
        <p:spPr>
          <a:xfrm>
            <a:off x="1143000" y="428760"/>
            <a:ext cx="3440160" cy="3643200"/>
          </a:xfrm>
          <a:prstGeom prst="rect">
            <a:avLst/>
          </a:prstGeom>
          <a:ln w="28440">
            <a:solidFill>
              <a:srgbClr val="1deb31"/>
            </a:solidFill>
            <a:miter/>
          </a:ln>
        </p:spPr>
      </p:pic>
      <p:sp>
        <p:nvSpPr>
          <p:cNvPr id="433" name="TextBox 4"/>
          <p:cNvSpPr/>
          <p:nvPr/>
        </p:nvSpPr>
        <p:spPr>
          <a:xfrm>
            <a:off x="1071720" y="4286160"/>
            <a:ext cx="3571560" cy="3111480"/>
          </a:xfrm>
          <a:prstGeom prst="rect">
            <a:avLst/>
          </a:prstGeom>
          <a:noFill/>
          <a:ln w="9360">
            <a:solidFill>
              <a:srgbClr val="1de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00"/>
                </a:solidFill>
                <a:latin typeface="Agency FB"/>
              </a:rPr>
              <a:t>Atelectasis Right Lung</a:t>
            </a:r>
            <a:br>
              <a:rPr sz="1800"/>
            </a:br>
            <a:r>
              <a:rPr b="1" lang="id-ID" sz="1800" spc="-1" strike="noStrike">
                <a:solidFill>
                  <a:srgbClr val="ffff00"/>
                </a:solidFill>
                <a:latin typeface="Agency FB"/>
              </a:rPr>
              <a:t>Open Bronchus Sign / Alveolar Atelectasis/ Cornified Lu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Homogenous density right hemithora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Mediastinal shift to rig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Right hemithorax small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Right heart and diaphragmatic silhouette are not identifi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5" descr="H:\foto dada\atelek paru kiri 2_files\intro_data\30a.jpg"/>
          <p:cNvPicPr/>
          <p:nvPr/>
        </p:nvPicPr>
        <p:blipFill>
          <a:blip r:embed="rId2"/>
          <a:stretch/>
        </p:blipFill>
        <p:spPr>
          <a:xfrm>
            <a:off x="5357880" y="501480"/>
            <a:ext cx="3440160" cy="3570480"/>
          </a:xfrm>
          <a:prstGeom prst="rect">
            <a:avLst/>
          </a:prstGeom>
          <a:ln w="28440">
            <a:solidFill>
              <a:srgbClr val="1deb31"/>
            </a:solidFill>
            <a:miter/>
          </a:ln>
        </p:spPr>
      </p:pic>
      <p:sp>
        <p:nvSpPr>
          <p:cNvPr id="435" name="TextBox 6"/>
          <p:cNvSpPr/>
          <p:nvPr/>
        </p:nvSpPr>
        <p:spPr>
          <a:xfrm>
            <a:off x="5286240" y="4429080"/>
            <a:ext cx="3500640" cy="2562840"/>
          </a:xfrm>
          <a:prstGeom prst="rect">
            <a:avLst/>
          </a:prstGeom>
          <a:noFill/>
          <a:ln w="9360">
            <a:solidFill>
              <a:srgbClr val="1de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00"/>
                </a:solidFill>
                <a:latin typeface="Agency FB"/>
              </a:rPr>
              <a:t>Atelectasis Left Lu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Homogenous density left hemithora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Mediastinal shift to the le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Left hemithorax small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Diaphragmatic and heart silhouette are not identifiable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6" name="Straight Arrow Connector 6"/>
          <p:cNvCxnSpPr/>
          <p:nvPr/>
        </p:nvCxnSpPr>
        <p:spPr>
          <a:xfrm>
            <a:off x="1571400" y="2857680"/>
            <a:ext cx="500760" cy="2160"/>
          </a:xfrm>
          <a:prstGeom prst="straightConnector1">
            <a:avLst/>
          </a:prstGeom>
          <a:ln w="38160">
            <a:solidFill>
              <a:srgbClr val="1deb31"/>
            </a:solidFill>
            <a:miter/>
            <a:tailEnd len="med" type="arrow" w="med"/>
          </a:ln>
        </p:spPr>
      </p:cxnSp>
      <p:cxnSp>
        <p:nvCxnSpPr>
          <p:cNvPr id="437" name="Straight Arrow Connector 7"/>
          <p:cNvCxnSpPr/>
          <p:nvPr/>
        </p:nvCxnSpPr>
        <p:spPr>
          <a:xfrm>
            <a:off x="1642680" y="2142720"/>
            <a:ext cx="500760" cy="2520"/>
          </a:xfrm>
          <a:prstGeom prst="straightConnector1">
            <a:avLst/>
          </a:prstGeom>
          <a:ln w="38160">
            <a:solidFill>
              <a:srgbClr val="1deb31"/>
            </a:solidFill>
            <a:miter/>
            <a:tailEnd len="med" type="arrow" w="med"/>
          </a:ln>
        </p:spPr>
      </p:cxnSp>
      <p:cxnSp>
        <p:nvCxnSpPr>
          <p:cNvPr id="438" name="Straight Arrow Connector 8"/>
          <p:cNvCxnSpPr/>
          <p:nvPr/>
        </p:nvCxnSpPr>
        <p:spPr>
          <a:xfrm>
            <a:off x="1794960" y="1571760"/>
            <a:ext cx="500760" cy="2160"/>
          </a:xfrm>
          <a:prstGeom prst="straightConnector1">
            <a:avLst/>
          </a:prstGeom>
          <a:ln w="38160">
            <a:solidFill>
              <a:srgbClr val="1deb31"/>
            </a:solidFill>
            <a:miter/>
            <a:tailEnd len="med" type="arrow" w="med"/>
          </a:ln>
        </p:spPr>
      </p:cxnSp>
      <p:cxnSp>
        <p:nvCxnSpPr>
          <p:cNvPr id="439" name="Straight Arrow Connector 9"/>
          <p:cNvCxnSpPr/>
          <p:nvPr/>
        </p:nvCxnSpPr>
        <p:spPr>
          <a:xfrm>
            <a:off x="6929280" y="1784520"/>
            <a:ext cx="501120" cy="2160"/>
          </a:xfrm>
          <a:prstGeom prst="straightConnector1">
            <a:avLst/>
          </a:prstGeom>
          <a:ln w="38160">
            <a:solidFill>
              <a:srgbClr val="1deb31"/>
            </a:solidFill>
            <a:miter/>
            <a:tailEnd len="med" type="arrow" w="med"/>
          </a:ln>
        </p:spPr>
      </p:cxnSp>
      <p:cxnSp>
        <p:nvCxnSpPr>
          <p:cNvPr id="440" name="Straight Arrow Connector 10"/>
          <p:cNvCxnSpPr/>
          <p:nvPr/>
        </p:nvCxnSpPr>
        <p:spPr>
          <a:xfrm>
            <a:off x="6929280" y="2712600"/>
            <a:ext cx="501120" cy="2520"/>
          </a:xfrm>
          <a:prstGeom prst="straightConnector1">
            <a:avLst/>
          </a:prstGeom>
          <a:ln w="38160">
            <a:solidFill>
              <a:srgbClr val="1deb31"/>
            </a:solidFill>
            <a:miter/>
            <a:tailEnd len="med" type="arrow" w="med"/>
          </a:ln>
        </p:spPr>
      </p:cxnSp>
      <p:cxnSp>
        <p:nvCxnSpPr>
          <p:cNvPr id="441" name="Straight Arrow Connector 11"/>
          <p:cNvCxnSpPr/>
          <p:nvPr/>
        </p:nvCxnSpPr>
        <p:spPr>
          <a:xfrm>
            <a:off x="7071840" y="2295000"/>
            <a:ext cx="500760" cy="2520"/>
          </a:xfrm>
          <a:prstGeom prst="straightConnector1">
            <a:avLst/>
          </a:prstGeom>
          <a:ln w="38160">
            <a:solidFill>
              <a:srgbClr val="1deb3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3" descr="H:\foto dada\atelek subsegmen_files\intro_data\181bl.jpg"/>
          <p:cNvPicPr/>
          <p:nvPr/>
        </p:nvPicPr>
        <p:blipFill>
          <a:blip r:embed="rId1"/>
          <a:stretch/>
        </p:blipFill>
        <p:spPr>
          <a:xfrm>
            <a:off x="857160" y="571680"/>
            <a:ext cx="3786120" cy="4429080"/>
          </a:xfrm>
          <a:prstGeom prst="rect">
            <a:avLst/>
          </a:prstGeom>
          <a:ln w="38160">
            <a:solidFill>
              <a:srgbClr val="1deb31"/>
            </a:solidFill>
            <a:miter/>
          </a:ln>
        </p:spPr>
      </p:pic>
      <p:sp>
        <p:nvSpPr>
          <p:cNvPr id="443" name="TextBox 4"/>
          <p:cNvSpPr/>
          <p:nvPr/>
        </p:nvSpPr>
        <p:spPr>
          <a:xfrm>
            <a:off x="2857680" y="5429160"/>
            <a:ext cx="4572000" cy="1557000"/>
          </a:xfrm>
          <a:prstGeom prst="rect">
            <a:avLst/>
          </a:prstGeom>
          <a:noFill/>
          <a:ln w="9360">
            <a:solidFill>
              <a:srgbClr val="1de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00"/>
                </a:solidFill>
                <a:latin typeface="Agency FB"/>
              </a:rPr>
              <a:t>Sub-segmental Atelecta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Agency FB"/>
              </a:rPr>
              <a:t>Also note the posterior mediastinal mass in the left apex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4" descr=""/>
          <p:cNvPicPr/>
          <p:nvPr/>
        </p:nvPicPr>
        <p:blipFill>
          <a:blip r:embed="rId2"/>
          <a:stretch/>
        </p:blipFill>
        <p:spPr>
          <a:xfrm>
            <a:off x="5114880" y="571680"/>
            <a:ext cx="3457800" cy="4429080"/>
          </a:xfrm>
          <a:prstGeom prst="rect">
            <a:avLst/>
          </a:prstGeom>
          <a:ln w="28440">
            <a:solidFill>
              <a:srgbClr val="1deb31"/>
            </a:solidFill>
            <a:miter/>
          </a:ln>
        </p:spPr>
      </p:pic>
      <p:cxnSp>
        <p:nvCxnSpPr>
          <p:cNvPr id="445" name="Straight Arrow Connector 5"/>
          <p:cNvCxnSpPr/>
          <p:nvPr/>
        </p:nvCxnSpPr>
        <p:spPr>
          <a:xfrm flipH="1">
            <a:off x="7786080" y="2714400"/>
            <a:ext cx="214920" cy="286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46" name="Straight Arrow Connector 7"/>
          <p:cNvCxnSpPr/>
          <p:nvPr/>
        </p:nvCxnSpPr>
        <p:spPr>
          <a:xfrm flipH="1">
            <a:off x="1642320" y="2786040"/>
            <a:ext cx="214920" cy="2865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4" descr="H:\foto dada\atelek RML_files\intro_data\44a.jpg"/>
          <p:cNvPicPr/>
          <p:nvPr/>
        </p:nvPicPr>
        <p:blipFill>
          <a:blip r:embed="rId1"/>
          <a:stretch/>
        </p:blipFill>
        <p:spPr>
          <a:xfrm>
            <a:off x="1000080" y="571680"/>
            <a:ext cx="3660840" cy="4071600"/>
          </a:xfrm>
          <a:prstGeom prst="rect">
            <a:avLst/>
          </a:prstGeom>
          <a:ln w="28440">
            <a:solidFill>
              <a:srgbClr val="1deb31"/>
            </a:solidFill>
            <a:miter/>
          </a:ln>
        </p:spPr>
      </p:pic>
      <p:pic>
        <p:nvPicPr>
          <p:cNvPr id="448" name="Picture 5" descr="H:\foto dada\atelek RML_files\intro_data\44c.jpg"/>
          <p:cNvPicPr/>
          <p:nvPr/>
        </p:nvPicPr>
        <p:blipFill>
          <a:blip r:embed="rId2"/>
          <a:stretch/>
        </p:blipFill>
        <p:spPr>
          <a:xfrm>
            <a:off x="5037120" y="571680"/>
            <a:ext cx="3463920" cy="4071600"/>
          </a:xfrm>
          <a:prstGeom prst="rect">
            <a:avLst/>
          </a:prstGeom>
          <a:ln w="28440">
            <a:solidFill>
              <a:srgbClr val="1deb31"/>
            </a:solidFill>
            <a:miter/>
          </a:ln>
        </p:spPr>
      </p:pic>
      <p:sp>
        <p:nvSpPr>
          <p:cNvPr id="449" name="TextBox 6"/>
          <p:cNvSpPr/>
          <p:nvPr/>
        </p:nvSpPr>
        <p:spPr>
          <a:xfrm>
            <a:off x="1857240" y="5000760"/>
            <a:ext cx="5857920" cy="2228400"/>
          </a:xfrm>
          <a:prstGeom prst="rect">
            <a:avLst/>
          </a:prstGeom>
          <a:noFill/>
          <a:ln w="9360">
            <a:solidFill>
              <a:srgbClr val="1de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ff00"/>
                </a:solidFill>
                <a:latin typeface="Agency FB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gency FB"/>
              </a:rPr>
              <a:t>ML Atelecta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Vague density in right lower lung field (almost a normal film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Dramatic RML atelectasis in lateral view, not evident in PA view. Movement of transverse fissu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Other findings include:</a:t>
            </a:r>
            <a:r>
              <a:rPr b="1" lang="id-ID" sz="2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Azygous lobe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0" name="Straight Arrow Connector 5"/>
          <p:cNvCxnSpPr/>
          <p:nvPr/>
        </p:nvCxnSpPr>
        <p:spPr>
          <a:xfrm>
            <a:off x="1856160" y="2357280"/>
            <a:ext cx="143640" cy="5011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51" name="Straight Arrow Connector 7"/>
          <p:cNvCxnSpPr/>
          <p:nvPr/>
        </p:nvCxnSpPr>
        <p:spPr>
          <a:xfrm flipH="1">
            <a:off x="7500240" y="1999800"/>
            <a:ext cx="214920" cy="5007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928800" y="428760"/>
            <a:ext cx="3976560" cy="4000320"/>
          </a:xfrm>
          <a:prstGeom prst="rect">
            <a:avLst/>
          </a:prstGeom>
          <a:ln w="28440">
            <a:solidFill>
              <a:srgbClr val="1deb31"/>
            </a:solidFill>
            <a:miter/>
          </a:ln>
        </p:spPr>
      </p:pic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5286240" y="514440"/>
            <a:ext cx="3500640" cy="3843360"/>
          </a:xfrm>
          <a:prstGeom prst="rect">
            <a:avLst/>
          </a:prstGeom>
          <a:ln w="28440">
            <a:solidFill>
              <a:srgbClr val="1deb31"/>
            </a:solidFill>
            <a:miter/>
          </a:ln>
        </p:spPr>
      </p:pic>
      <p:sp>
        <p:nvSpPr>
          <p:cNvPr id="454" name="TextBox 5"/>
          <p:cNvSpPr/>
          <p:nvPr/>
        </p:nvSpPr>
        <p:spPr>
          <a:xfrm>
            <a:off x="3500280" y="4857840"/>
            <a:ext cx="3429000" cy="2838240"/>
          </a:xfrm>
          <a:prstGeom prst="rect">
            <a:avLst/>
          </a:prstGeom>
          <a:noFill/>
          <a:ln w="9360">
            <a:solidFill>
              <a:srgbClr val="1de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gency FB"/>
              </a:rPr>
              <a:t>Atelectasis Right Upper Lo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Density in the right upper lung fie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Transverse fissure pulled u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Right hilum pulled u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Smaller right lu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Smaller right hemithora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5" name="Straight Arrow Connector 5"/>
          <p:cNvCxnSpPr/>
          <p:nvPr/>
        </p:nvCxnSpPr>
        <p:spPr>
          <a:xfrm flipV="1">
            <a:off x="1927800" y="1999800"/>
            <a:ext cx="214920" cy="3578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56" name="Straight Arrow Connector 7"/>
          <p:cNvCxnSpPr/>
          <p:nvPr/>
        </p:nvCxnSpPr>
        <p:spPr>
          <a:xfrm flipH="1">
            <a:off x="7000200" y="1570680"/>
            <a:ext cx="429480" cy="2149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57" name="Straight Arrow Connector 8"/>
          <p:cNvCxnSpPr/>
          <p:nvPr/>
        </p:nvCxnSpPr>
        <p:spPr>
          <a:xfrm flipV="1">
            <a:off x="5928840" y="1858680"/>
            <a:ext cx="358200" cy="2844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3786480" cy="4071960"/>
          </a:xfrm>
          <a:prstGeom prst="rect">
            <a:avLst/>
          </a:prstGeom>
          <a:ln w="28440">
            <a:solidFill>
              <a:srgbClr val="7fd13b"/>
            </a:solidFill>
            <a:miter/>
          </a:ln>
        </p:spPr>
      </p:pic>
      <p:pic>
        <p:nvPicPr>
          <p:cNvPr id="459" name="Picture 3" descr=""/>
          <p:cNvPicPr/>
          <p:nvPr/>
        </p:nvPicPr>
        <p:blipFill>
          <a:blip r:embed="rId2"/>
          <a:stretch/>
        </p:blipFill>
        <p:spPr>
          <a:xfrm>
            <a:off x="4857840" y="642960"/>
            <a:ext cx="3714840" cy="4071960"/>
          </a:xfrm>
          <a:prstGeom prst="rect">
            <a:avLst/>
          </a:prstGeom>
          <a:ln w="28440">
            <a:solidFill>
              <a:srgbClr val="7fd13b"/>
            </a:solidFill>
            <a:miter/>
          </a:ln>
        </p:spPr>
      </p:pic>
      <p:sp>
        <p:nvSpPr>
          <p:cNvPr id="460" name="TextBox 5"/>
          <p:cNvSpPr/>
          <p:nvPr/>
        </p:nvSpPr>
        <p:spPr>
          <a:xfrm>
            <a:off x="3214800" y="5032440"/>
            <a:ext cx="2786040" cy="3385800"/>
          </a:xfrm>
          <a:prstGeom prst="rect">
            <a:avLst/>
          </a:prstGeom>
          <a:noFill/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gency FB"/>
              </a:rPr>
              <a:t>Atelectasis Right Lower L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Density in right lower lung fiel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Indistinct right diaphrag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Right heart silhouette retain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Transverse fissure moved dow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Right hilum moved dow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5640" y="213840"/>
            <a:ext cx="4514760" cy="71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1deb31"/>
                </a:solidFill>
                <a:latin typeface="Agency FB"/>
              </a:rPr>
              <a:t>Patofisiologi Atelektasis 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0920" y="1557360"/>
            <a:ext cx="83581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Akibat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terjadinya 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hambatan aliran udara 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pada saluran napas, mak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alveoli  distal 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dari 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sumbatan menjadi kollaps / kempes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baik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sebagian /seluruhnya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2800" spc="-1" strike="noStrike">
                <a:solidFill>
                  <a:srgbClr val="1deb31"/>
                </a:solidFill>
                <a:latin typeface="Agency FB"/>
              </a:rPr>
              <a:t>sisa udara  yang terperangkap </a:t>
            </a:r>
            <a:r>
              <a:rPr b="0" lang="en-US" sz="2800" spc="-1" strike="noStrike">
                <a:solidFill>
                  <a:srgbClr val="1deb31"/>
                </a:solidFill>
                <a:latin typeface="Agency FB"/>
              </a:rPr>
              <a:t>akan di </a:t>
            </a:r>
            <a:r>
              <a:rPr b="0" lang="id-ID" sz="2800" spc="-1" strike="noStrike">
                <a:solidFill>
                  <a:srgbClr val="1deb31"/>
                </a:solidFill>
                <a:latin typeface="Agency FB"/>
              </a:rPr>
              <a:t>serap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eb31"/>
                </a:solidFill>
                <a:latin typeface="Agency FB"/>
              </a:rPr>
              <a:t>oleh  </a:t>
            </a:r>
            <a:r>
              <a:rPr b="0" lang="id-ID" sz="2800" spc="-1" strike="noStrike">
                <a:solidFill>
                  <a:srgbClr val="1deb31"/>
                </a:solidFill>
                <a:latin typeface="Agency FB"/>
              </a:rPr>
              <a:t>pembuluh </a:t>
            </a:r>
            <a:r>
              <a:rPr b="0" lang="en-US" sz="2800" spc="-1" strike="noStrike">
                <a:solidFill>
                  <a:srgbClr val="1deb31"/>
                </a:solidFill>
                <a:latin typeface="Agency FB"/>
              </a:rPr>
              <a:t> d</a:t>
            </a:r>
            <a:r>
              <a:rPr b="0" lang="id-ID" sz="2800" spc="-1" strike="noStrike">
                <a:solidFill>
                  <a:srgbClr val="1deb31"/>
                </a:solidFill>
                <a:latin typeface="Agency FB"/>
              </a:rPr>
              <a:t>arah </a:t>
            </a:r>
            <a:r>
              <a:rPr b="0" lang="en-US" sz="2800" spc="-1" strike="noStrike">
                <a:solidFill>
                  <a:srgbClr val="1deb31"/>
                </a:solidFill>
                <a:latin typeface="Agency FB"/>
              </a:rPr>
              <a:t> sekitar alveoli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73af"/>
                </a:solidFill>
                <a:latin typeface="Agency FB"/>
              </a:rPr>
              <a:t>Alv</a:t>
            </a: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eoli </a:t>
            </a:r>
            <a:r>
              <a:rPr b="0" lang="en-US" sz="2800" spc="-1" strike="noStrike">
                <a:solidFill>
                  <a:srgbClr val="f273af"/>
                </a:solidFill>
                <a:latin typeface="Agency FB"/>
              </a:rPr>
              <a:t>yang kolaps  akan </a:t>
            </a: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memadat </a:t>
            </a:r>
            <a:r>
              <a:rPr b="0" lang="id-ID" sz="2800" spc="-1" strike="noStrike">
                <a:solidFill>
                  <a:srgbClr val="f273af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 </a:t>
            </a:r>
            <a:r>
              <a:rPr b="0" lang="id-ID" sz="2800" spc="-1" strike="noStrike">
                <a:solidFill>
                  <a:srgbClr val="1deb31"/>
                </a:solidFill>
                <a:latin typeface="Agency FB"/>
              </a:rPr>
              <a:t>menjadi sumber </a:t>
            </a:r>
            <a:r>
              <a:rPr b="0" lang="en-US" sz="2800" spc="-1" strike="noStrike">
                <a:solidFill>
                  <a:srgbClr val="1deb31"/>
                </a:solidFill>
                <a:latin typeface="Agency FB"/>
              </a:rPr>
              <a:t>I</a:t>
            </a:r>
            <a:r>
              <a:rPr b="0" lang="id-ID" sz="2800" spc="-1" strike="noStrike">
                <a:solidFill>
                  <a:srgbClr val="1deb31"/>
                </a:solidFill>
                <a:latin typeface="Agency FB"/>
              </a:rPr>
              <a:t>nfeks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Perfusi darah ke paru akan kekurangan O</a:t>
            </a:r>
            <a:r>
              <a:rPr b="0" lang="id-ID" sz="2800" spc="-1" strike="noStrike" baseline="-25000">
                <a:solidFill>
                  <a:srgbClr val="f273af"/>
                </a:solidFill>
                <a:latin typeface="Agency FB"/>
              </a:rPr>
              <a:t>2  , </a:t>
            </a:r>
            <a:r>
              <a:rPr b="0" lang="en-US" sz="2800" spc="-1" strike="noStrike" baseline="-25000">
                <a:solidFill>
                  <a:srgbClr val="f273af"/>
                </a:solidFill>
                <a:latin typeface="Agency FB"/>
              </a:rPr>
              <a:t> </a:t>
            </a:r>
            <a:r>
              <a:rPr b="0" lang="en-US" sz="2000" spc="-1" strike="noStrike" baseline="-25000">
                <a:solidFill>
                  <a:srgbClr val="f273af"/>
                </a:solidFill>
                <a:latin typeface="Agency FB"/>
              </a:rPr>
              <a:t> </a:t>
            </a:r>
            <a:r>
              <a:rPr b="0" lang="id-ID" sz="2800" spc="-1" strike="noStrike">
                <a:solidFill>
                  <a:srgbClr val="f273af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 </a:t>
            </a:r>
            <a:r>
              <a:rPr b="0" lang="en-US" sz="2800" spc="-1" strike="noStrike">
                <a:solidFill>
                  <a:srgbClr val="1deb31"/>
                </a:solidFill>
                <a:latin typeface="Agency FB"/>
              </a:rPr>
              <a:t> Hy</a:t>
            </a:r>
            <a:r>
              <a:rPr b="0" lang="id-ID" sz="2800" spc="-1" strike="noStrike">
                <a:solidFill>
                  <a:srgbClr val="1deb31"/>
                </a:solidFill>
                <a:latin typeface="Agency FB"/>
              </a:rPr>
              <a:t>poksemi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73af"/>
                </a:solidFill>
                <a:latin typeface="Agency FB"/>
              </a:rPr>
              <a:t>T</a:t>
            </a: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ransudasi /ekstravasasi cairan ke parenkhim paru </a:t>
            </a:r>
            <a:r>
              <a:rPr b="0" lang="id-ID" sz="2800" spc="-1" strike="noStrike">
                <a:solidFill>
                  <a:srgbClr val="f273af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f273af"/>
                </a:solidFill>
                <a:latin typeface="Agency FB"/>
              </a:rPr>
              <a:t> </a:t>
            </a:r>
            <a:r>
              <a:rPr b="0" lang="en-US" sz="2800" spc="-1" strike="noStrike">
                <a:solidFill>
                  <a:srgbClr val="1deb31"/>
                </a:solidFill>
                <a:latin typeface="Agency FB"/>
              </a:rPr>
              <a:t>E</a:t>
            </a:r>
            <a:r>
              <a:rPr b="0" lang="id-ID" sz="2800" spc="-1" strike="noStrike">
                <a:solidFill>
                  <a:srgbClr val="1deb31"/>
                </a:solidFill>
                <a:latin typeface="Agency FB"/>
              </a:rPr>
              <a:t>dema paru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299880" indent="-24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H:\foto dada\atelek paru kanan_files\intro_data\73a.jpg"/>
          <p:cNvPicPr/>
          <p:nvPr/>
        </p:nvPicPr>
        <p:blipFill>
          <a:blip r:embed="rId1"/>
          <a:stretch/>
        </p:blipFill>
        <p:spPr>
          <a:xfrm>
            <a:off x="1000080" y="428760"/>
            <a:ext cx="3571920" cy="3929040"/>
          </a:xfrm>
          <a:prstGeom prst="rect">
            <a:avLst/>
          </a:prstGeom>
          <a:ln w="28440">
            <a:solidFill>
              <a:srgbClr val="7fd13b"/>
            </a:solidFill>
            <a:miter/>
          </a:ln>
        </p:spPr>
      </p:pic>
      <p:sp>
        <p:nvSpPr>
          <p:cNvPr id="462" name="TextBox 4"/>
          <p:cNvSpPr/>
          <p:nvPr/>
        </p:nvSpPr>
        <p:spPr>
          <a:xfrm>
            <a:off x="1000080" y="4714920"/>
            <a:ext cx="3571920" cy="2288520"/>
          </a:xfrm>
          <a:prstGeom prst="rect">
            <a:avLst/>
          </a:prstGeom>
          <a:noFill/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00"/>
                </a:solidFill>
                <a:latin typeface="Agency FB"/>
              </a:rPr>
              <a:t>Atelectasis Right Lu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Homogenous density right hemithora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Mediastinal shift to rig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Right hemithorax small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Right heart and diaphragmatic silhouette are not identifi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3" descr="H:\foto dada\atelek lll_files\intro_data\166al.jpg"/>
          <p:cNvPicPr/>
          <p:nvPr/>
        </p:nvPicPr>
        <p:blipFill>
          <a:blip r:embed="rId2"/>
          <a:stretch/>
        </p:blipFill>
        <p:spPr>
          <a:xfrm>
            <a:off x="5214960" y="500040"/>
            <a:ext cx="3379680" cy="3714840"/>
          </a:xfrm>
          <a:prstGeom prst="rect">
            <a:avLst/>
          </a:prstGeom>
          <a:ln w="28440">
            <a:solidFill>
              <a:srgbClr val="7fd13b"/>
            </a:solidFill>
            <a:miter/>
          </a:ln>
        </p:spPr>
      </p:pic>
      <p:sp>
        <p:nvSpPr>
          <p:cNvPr id="464" name="TextBox 7"/>
          <p:cNvSpPr/>
          <p:nvPr/>
        </p:nvSpPr>
        <p:spPr>
          <a:xfrm>
            <a:off x="5357880" y="4478400"/>
            <a:ext cx="3214800" cy="2837160"/>
          </a:xfrm>
          <a:prstGeom prst="rect">
            <a:avLst/>
          </a:prstGeom>
          <a:noFill/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00"/>
                </a:solidFill>
                <a:latin typeface="Agency FB"/>
              </a:rPr>
              <a:t>Atelectasis Left Lower Lobe</a:t>
            </a: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Double density over he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Inhomogenous cardiac dens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Triangular retrocardiac dens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Left hilum pulled dow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Other findings includ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gency FB"/>
              </a:rPr>
              <a:t>Pneumomediastin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5" name="Straight Arrow Connector 6"/>
          <p:cNvCxnSpPr/>
          <p:nvPr/>
        </p:nvCxnSpPr>
        <p:spPr>
          <a:xfrm flipH="1" flipV="1">
            <a:off x="3428640" y="1714320"/>
            <a:ext cx="35784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66" name="Straight Arrow Connector 7"/>
          <p:cNvCxnSpPr/>
          <p:nvPr/>
        </p:nvCxnSpPr>
        <p:spPr>
          <a:xfrm flipH="1" flipV="1">
            <a:off x="3285720" y="2355480"/>
            <a:ext cx="35784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67" name="Straight Arrow Connector 8"/>
          <p:cNvCxnSpPr/>
          <p:nvPr/>
        </p:nvCxnSpPr>
        <p:spPr>
          <a:xfrm flipH="1">
            <a:off x="3142800" y="3000240"/>
            <a:ext cx="357840" cy="70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68" name="Straight Arrow Connector 10"/>
          <p:cNvCxnSpPr/>
          <p:nvPr/>
        </p:nvCxnSpPr>
        <p:spPr>
          <a:xfrm flipH="1">
            <a:off x="7857720" y="3000240"/>
            <a:ext cx="357840" cy="70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69" name="Straight Arrow Connector 11"/>
          <p:cNvCxnSpPr/>
          <p:nvPr/>
        </p:nvCxnSpPr>
        <p:spPr>
          <a:xfrm flipH="1">
            <a:off x="7429320" y="2502000"/>
            <a:ext cx="357840" cy="70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70" name="Straight Arrow Connector 12"/>
          <p:cNvCxnSpPr/>
          <p:nvPr/>
        </p:nvCxnSpPr>
        <p:spPr>
          <a:xfrm>
            <a:off x="6072120" y="2499840"/>
            <a:ext cx="35784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71" name="Straight Arrow Connector 13"/>
          <p:cNvCxnSpPr/>
          <p:nvPr/>
        </p:nvCxnSpPr>
        <p:spPr>
          <a:xfrm>
            <a:off x="6357600" y="2999880"/>
            <a:ext cx="42948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4"/>
          <p:cNvSpPr/>
          <p:nvPr/>
        </p:nvSpPr>
        <p:spPr>
          <a:xfrm>
            <a:off x="4929120" y="4786200"/>
            <a:ext cx="3143160" cy="1800360"/>
          </a:xfrm>
          <a:prstGeom prst="rect">
            <a:avLst/>
          </a:prstGeom>
          <a:noFill/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Agency FB"/>
                <a:ea typeface="Times New Roman"/>
              </a:rPr>
              <a:t>ARDS is an example of</a:t>
            </a: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Times New Roman"/>
              </a:rPr>
              <a:t> </a:t>
            </a:r>
            <a:r>
              <a:rPr b="1" lang="id-ID" sz="2800" spc="-1" strike="noStrike">
                <a:solidFill>
                  <a:srgbClr val="ffff00"/>
                </a:solidFill>
                <a:latin typeface="Agency FB"/>
                <a:ea typeface="Times New Roman"/>
              </a:rPr>
              <a:t>Diffuse alveo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gency FB"/>
                <a:ea typeface="Times New Roman"/>
              </a:rPr>
              <a:t>atelec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785880" y="714240"/>
            <a:ext cx="3429000" cy="3643560"/>
          </a:xfrm>
          <a:prstGeom prst="rect">
            <a:avLst/>
          </a:prstGeom>
          <a:ln w="28440">
            <a:solidFill>
              <a:srgbClr val="7fd13b"/>
            </a:solidFill>
            <a:miter/>
          </a:ln>
        </p:spPr>
      </p:pic>
      <p:sp>
        <p:nvSpPr>
          <p:cNvPr id="474" name="TextBox 7"/>
          <p:cNvSpPr/>
          <p:nvPr/>
        </p:nvSpPr>
        <p:spPr>
          <a:xfrm>
            <a:off x="857160" y="5046840"/>
            <a:ext cx="3357720" cy="1800360"/>
          </a:xfrm>
          <a:prstGeom prst="rect">
            <a:avLst/>
          </a:prstGeom>
          <a:noFill/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Agency FB"/>
                <a:ea typeface="Times New Roman"/>
              </a:rPr>
              <a:t>Focal loss of surfactan is an example of </a:t>
            </a:r>
            <a:r>
              <a:rPr b="1" lang="id-ID" sz="2800" spc="-1" strike="noStrike">
                <a:solidFill>
                  <a:srgbClr val="ffff00"/>
                </a:solidFill>
                <a:latin typeface="Agency FB"/>
                <a:ea typeface="Times New Roman"/>
              </a:rPr>
              <a:t>Plate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4857840" y="642960"/>
            <a:ext cx="3143160" cy="3786120"/>
          </a:xfrm>
          <a:prstGeom prst="rect">
            <a:avLst/>
          </a:prstGeom>
          <a:ln w="38160">
            <a:solidFill>
              <a:srgbClr val="7fd13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56880" y="713880"/>
            <a:ext cx="5357880" cy="785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Faktor resiko atelektasis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857160" y="2569680"/>
            <a:ext cx="7786800" cy="25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6440" indent="-26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- Pembiusan ( anestesia ) dan pembedaha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- Tirah baring jangka panjang tanpa perubahan posisi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- Pernafasan dangka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- Penyakit paru-paru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856880" y="642600"/>
            <a:ext cx="5357880" cy="785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Tingkat keparahan atelektasis 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785600" y="2214360"/>
            <a:ext cx="5643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Keparahan atelektasis t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ergantung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Luasnya paru yang kolap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Keadaan paru kontralateralny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eb31"/>
                </a:solidFill>
                <a:latin typeface="Agency FB"/>
              </a:rPr>
              <a:t>Komplikasi pasca atelektasi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85600" y="642600"/>
            <a:ext cx="5357880" cy="785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Pencegahan -  Atelektasis  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99680" y="2214720"/>
            <a:ext cx="8472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87640" indent="-2397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Setelah menjalani pembedahan, penderita harus </a:t>
            </a:r>
            <a:r>
              <a:rPr b="0" lang="id-ID" sz="3200" spc="-1" strike="noStrike">
                <a:solidFill>
                  <a:srgbClr val="f7a1ca"/>
                </a:solidFill>
                <a:latin typeface="Agency FB"/>
              </a:rPr>
              <a:t>di latih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87640" indent="-23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7a1ca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7a1ca"/>
                </a:solidFill>
                <a:latin typeface="Agency FB"/>
              </a:rPr>
              <a:t>untuk  bernafas dalam, batuk teratur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dan</a:t>
            </a:r>
            <a:r>
              <a:rPr b="0" lang="id-ID" sz="3200" spc="-1" strike="noStrike">
                <a:solidFill>
                  <a:srgbClr val="f7a1ca"/>
                </a:solidFill>
                <a:latin typeface="Agency FB"/>
              </a:rPr>
              <a:t> kembali melakukan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87640" indent="-23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7a1ca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7a1ca"/>
                </a:solidFill>
                <a:latin typeface="Agency FB"/>
              </a:rPr>
              <a:t>aktivitas seperti biasa ( secepatnya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87640" indent="-2397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Meskipun perokok memiliki resiko lebih besar, tetapi resiko ini bisa diturunkan dengan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berhenti merokok dalam 6-8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87640" indent="-23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minggu sebelum pembedahan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87640" indent="-239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857240" y="728280"/>
            <a:ext cx="5429520" cy="700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Penanganan -   Atelektasis 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999720" y="2714400"/>
            <a:ext cx="73580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87640" indent="-23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ujuan penangananan adalah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menghilangkan sumbatan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87640" indent="-23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Bronkhus dan percabangannya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, sehingga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jaringa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87640" indent="-239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Alveoli  paru kembali  mengembang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71400" y="500040"/>
            <a:ext cx="5786280" cy="714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Penanganan -   Atelektasis ..............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42960" y="1499760"/>
            <a:ext cx="8143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95920" indent="-24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Berbaring pada sisi paru yang sehat, sehingga Paru yang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5920" indent="-24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atelektasis cepat kembali mengembang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5920" indent="-24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Menghilangkan penyumbatan 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5920" indent="-24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-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Dengan alat Bronkoskopi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5920" indent="-24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- 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Latihan menarik nafas dalam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5920" indent="-246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Merontokkan dahak, dengan Fisioterapi napas /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5920" indent="-24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Postural drainase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5920" indent="-24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-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Mengatasi sumbatan oleh  masa ( mengatasi Tumor nya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95920" indent="-24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071440" y="785880"/>
            <a:ext cx="5429160" cy="630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Penanganan -   Atelektasis .......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714240" y="2214720"/>
            <a:ext cx="804384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04200" indent="-2534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ada infeksi yang  bersifat menetap atau berulang, menyulitkan atau menyebabkan perdarahan, maka bagian paru-paru yang terkena mungkin perlu diangkat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04200" indent="-253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( segmentomi/ lobektomi / pneumektomi )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04200" indent="-253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-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emberian Antibiotik  ( tergantung penyebab infeksi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04200" indent="-253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Rectangle 3" descr=""/>
          <p:cNvPicPr/>
          <p:nvPr/>
        </p:nvPicPr>
        <p:blipFill>
          <a:blip r:embed="rId1"/>
          <a:stretch/>
        </p:blipFill>
        <p:spPr>
          <a:xfrm>
            <a:off x="1736640" y="2120760"/>
            <a:ext cx="577368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56920" y="714240"/>
            <a:ext cx="4357800" cy="857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Etiologi Atelektasi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142640" y="1999800"/>
            <a:ext cx="70722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24160" indent="-46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1.</a:t>
            </a: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Penyebab intrinsik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24160" indent="-46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- Sumbatan dalam lumen bronkhus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24160" indent="-46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2. </a:t>
            </a: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Penyebab Ekstrinsik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24160" indent="-46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enekanan bronkhus dari luar lumen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24160" indent="-46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-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ekanan Ekstra Pulmona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24160" indent="-46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aralisis gerakan pernapasa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24160" indent="-46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-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Hambatan gerakan pernapasa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713880" y="1855800"/>
            <a:ext cx="80154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gency FB"/>
              </a:rPr>
              <a:t>Penyebab  Instrinsik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Sumbatan dalam lumen bronkhus 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umor Bronkhus ( Ca-Bronkhogenik ),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B Endobronkhial, benda asing atau sekret kental 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57280" y="713880"/>
            <a:ext cx="4300560" cy="701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Etiologi Atelektasis ........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00040" y="1287000"/>
            <a:ext cx="8329680" cy="49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36960" indent="-28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gency FB"/>
              </a:rPr>
              <a:t>Penyebab Ekstrinsik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36960" indent="-28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1.</a:t>
            </a: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Penekanan bronkhus dari luar lumen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6960" indent="-28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umor  di luar lumen bronkhus atau kelenjar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sekitar bronkhus yang membesar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6960" indent="-28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2.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Tekanan Ekstra Pulmona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6960" indent="-28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neumothoraks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,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Efusi Pleura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dan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umor Mediastinum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6960" indent="-28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-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eninggian diafragma (ok: proses dari dalam cav. abd )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6960" indent="-28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- H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erniasi organ abdomen ke dalam rongga thorak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6960" indent="-28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6960" indent="-28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643120" y="571320"/>
            <a:ext cx="4300560" cy="701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Etiologi Atelektasis ........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68360" y="2205000"/>
            <a:ext cx="850104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3.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Paralisis gerakan pernapasan </a:t>
            </a:r>
            <a:r>
              <a:rPr b="0" lang="id-ID" sz="3200" spc="-1" strike="noStrike">
                <a:solidFill>
                  <a:srgbClr val="f273a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oliomielitis ( gangguan otot–otot bantu napa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Gangguan neurologis pernapasan ( inervasi otot napa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643120" y="571320"/>
            <a:ext cx="4300560" cy="701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Etiologi Atelektasis ........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826920" y="2276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73af"/>
                </a:solidFill>
                <a:latin typeface="Agency FB"/>
              </a:rPr>
              <a:t>4.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Hambatan gerakan pernapasan </a:t>
            </a:r>
            <a:r>
              <a:rPr b="0" lang="id-ID" sz="3200" spc="-1" strike="noStrike">
                <a:solidFill>
                  <a:srgbClr val="f273a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Kelainan Pleura atau Trauma thoraks 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 menahan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rasa sakit 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menurunkan gerakan paru 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hambatan   pengeluaran sekret 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atelektasi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357280" y="713880"/>
            <a:ext cx="4300560" cy="701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1deb31"/>
                </a:solidFill>
                <a:latin typeface="Agency FB"/>
              </a:rPr>
              <a:t>Etiologi Atelektasis ........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85920" y="785880"/>
            <a:ext cx="7215120" cy="714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eb31"/>
                </a:solidFill>
                <a:latin typeface="Agency FB"/>
              </a:rPr>
              <a:t>Pembagian  </a:t>
            </a:r>
            <a:r>
              <a:rPr b="0" lang="id-ID" sz="3600" spc="-1" strike="noStrike">
                <a:solidFill>
                  <a:srgbClr val="1deb31"/>
                </a:solidFill>
                <a:latin typeface="Agency FB"/>
              </a:rPr>
              <a:t>Atelektasis</a:t>
            </a:r>
            <a:r>
              <a:rPr b="0" lang="en-US" sz="3600" spc="-1" strike="noStrike">
                <a:solidFill>
                  <a:srgbClr val="1deb31"/>
                </a:solidFill>
                <a:latin typeface="Agency FB"/>
              </a:rPr>
              <a:t>  (  berdasar penyebab nya 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99680" y="192852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13800" indent="-23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1.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Atelektasis Absorbsi :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13800" indent="-23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erjadi akibat sumbatan jalan napas, sehingga secara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13800" indent="-23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bertahap udara dalam lumen bronkhus akan </a:t>
            </a:r>
            <a:r>
              <a:rPr b="0" lang="id-ID" sz="3200" spc="-1" strike="noStrike">
                <a:solidFill>
                  <a:srgbClr val="f273af"/>
                </a:solidFill>
                <a:latin typeface="Agency FB"/>
              </a:rPr>
              <a:t>di absorbsi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13800" indent="-23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oleh  pembuluh darah paru, akibatnya alveoli paru     menjadi kempes / kolaps, sehingga volume paru pada sisi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13800" indent="-23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yang tersumbat akan berkurang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13800" indent="-23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0:07:36Z</dcterms:created>
  <dc:creator>Intan</dc:creator>
  <dc:description/>
  <dc:language>en-US</dc:language>
  <cp:lastModifiedBy>Toshiba</cp:lastModifiedBy>
  <dcterms:modified xsi:type="dcterms:W3CDTF">2012-11-12T23:45:01Z</dcterms:modified>
  <cp:revision>410</cp:revision>
  <dc:subject/>
  <dc:title>ATELEKTASIS</dc:title>
</cp:coreProperties>
</file>