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4CD0-370B-442E-AC2C-05307BF86B89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39A4-EAAB-489A-821B-761C68C95D84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5DFA-7E3C-45C2-BC8E-65FCA602BEBA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EF25-DB83-4FCB-A532-953151814F56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2D39-9D0C-476B-A7F9-5B17B4777553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0E6E-4E84-49D4-B867-AA559D6CB348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A97B-6D00-407B-B66C-279C3E2FE30C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0DF8-12F3-4FB7-A190-B01E6DB4F3EB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5B2D-CC19-4AB9-8B9F-8D187B6EBF8E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8F09-F54F-47F0-99DE-F2FE773FF258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A3A5-E524-4966-A8A0-C260A0107BC7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2428-FBC5-45C8-98C3-3AAFEF36CBC9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723-BC26-40A0-9C3E-CE7EE7B77B94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3A12-C7B0-463C-924B-BD6410709DDC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F06E-B76B-4FD4-A5D3-462DD8AB8DFD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79A9-C081-47ED-9185-402C3CF79881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E6D9-294F-4E5B-9F6A-3FBF748F4375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5FD-CA89-47E1-99E6-1AD5653DDE7D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84A-7C8B-413B-81FB-D6E5AAA8EA08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936-DB1B-4966-9DEC-8723B50E88C6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6602-E707-41DA-8430-34F313818F35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6120-15E0-440F-AEF4-956509FEFC21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6F21-3CD7-4E1B-A388-74ECC5B0F93E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F003-462B-4D1A-919D-AE5B6882B87A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AEA3-60C2-4809-A457-0E5276D316FB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028E-AE71-4C3A-9C5D-AE7DA674A4EF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9EE1-3512-41F7-8175-28B7105C0DCE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1BB3-2A82-44B4-B3AF-55B14E82C4AC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023E-3B1D-469E-95FA-DFA76693D317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C565-C9C8-4145-86FC-C640773BFDDF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3804-1AC7-4C12-9EEC-5AEEC1878CCA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496A-0BF9-470E-8190-AE0A06D5AE60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5D73-EE1E-4517-A7F2-B1BDBE79A9B2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CE99-1281-47DC-8690-7B23CC40060B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5B8-2057-4B0F-9E72-1D1CC220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7CF-80A1-46F4-B011-E5F502BB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782-ECD0-462D-A00E-0C2B47E2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580-FBBA-4E7C-ADA1-718310A6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68C4-F1FF-41F5-9069-A9F438A9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1D07-5334-42B7-A6BA-6A486625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382F-834A-4D42-9248-416ABD36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87D5-724C-4EFE-914E-0E20DA22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1259-8D68-4449-A97A-0DB27B57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E32B-5D91-4F36-842D-8A94154A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E9D6-9145-4A91-99BC-FF458017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09B-2DC3-4784-9AE9-76553F4B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1791-D151-4DC4-A3CD-6A9A5A25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3ED7-D836-4103-8931-5BD1908C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AE5F-C944-4717-8928-D403DB7F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AA8E-E432-4665-97A4-5B0C8D8D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2E88-E8E4-4B49-9A4F-419060E2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9878-2CFC-43CE-8949-BBB5671E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E299-8A92-4925-A98E-730B58F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BEEA-ADDC-4A49-B71F-55D7AF77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B161-541C-46DB-BEE9-7FD1FCE6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0206A-DC79-4874-9901-598DEB0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9ED-5984-4463-AF47-2F39ADFF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D7CB-FF24-4D2B-B506-5CC6BC10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34AB-F0F0-457A-BC14-8E983482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1C01-DEAC-49C8-922C-D5A5E2BC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B0A4-C066-4CDD-A14F-1054E55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038A-F158-4080-87CA-C44BF218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F314-D7BE-474C-8B54-70995434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24CA-C9FD-458F-BFF2-2A0FECAF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B3164-1DC7-4DE1-BAFC-B1DE1E9D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6787-883B-4BF5-BACD-51D773ED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E3C2-B191-4017-BE3A-392C0024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C65-281C-4B0D-A6B6-F07E7CA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24CFD-1801-471B-B949-7339421D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A650-4D04-45EA-8AFA-FD27EB9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33BC-DADA-47B1-86C5-00EBDAC1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F5EA-02AD-48D7-BF2F-8B00742E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749B-0578-43A5-A521-84A5E8BB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8952-3930-4942-A49D-CC2A7A91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F2C3-25F4-42F4-85F1-F9FF36A3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13C1-C06A-4EA6-9A07-41E5E625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56134-4994-4D8F-9CEA-056DC856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FAEF-6D47-4D5D-9D7B-768DB5F6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27A-4805-4069-ACFF-B20FA479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28F2A-781A-4E72-95B4-306770B2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61617-19AD-48FD-B0CC-386E7A7F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15A90-7D28-4F4B-8E55-350B09FF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96C9D-BB2A-4DCE-8569-B66EFF46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1563-D7CB-4CC8-93EE-295B6234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E8134-1D03-4862-B91E-7A79BE5E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707D-BBB9-4862-BBE8-FE888C1C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400B-A096-422B-B724-8B522CC9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DFEC-2233-4D54-8131-B58E1AA9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1C705-A92E-4B1A-886A-A53A487C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947-146F-4CA6-8EFF-FEE1D985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0CC64-EBBF-4A37-A4FF-90DB9C1A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1FC65-8669-4127-80B6-BA59CF8B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E57F-B29A-4192-9088-E0986BB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C9D9-5503-4347-8247-E68AB748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9179-FC2B-45B7-BE24-8739ACB4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0BD2-30EB-4F2B-AA72-CCE5FA8C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A4DE0-3D65-490D-B896-B7167B9D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267BE-0CE8-4FEC-AFD1-25C21E2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2011D-5CBC-43E1-90D6-747F1D15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A2D2D-0A47-4670-97A7-77BF33F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4F2-0D4E-4332-8FB4-2EE0B2B1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3C104-239C-46C9-938C-5A8FD832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4B0C-90C6-4B24-9B84-B282B690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01633-4267-49B2-904C-15446E53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390A-591C-4D45-B5BF-AF379C4F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49AAE-B487-4099-B386-DDC756F9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339EC-CA81-4312-AF16-782F3FCD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B9C0F-0FC3-4DF0-9C92-36877976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ACCA0-046C-4104-97F6-3C4E6A5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8FD7-6C71-4B7C-B119-9285BB3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50042-77D9-4438-9526-5EA87ED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426-6592-490A-BC29-C450363D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7226B-B22C-47C8-87DB-9AFF419C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3586-92C9-41CC-A69E-E2CF293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C4A3A-0CB7-4BAC-8CAF-4CAFD767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B87B-2B95-4F17-96A2-1B1D17F3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661E1-49B3-4A9F-BD7D-09B21487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13E-4D37-468C-937D-BF98BCC0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836-A3A9-4BF4-B6C4-8909B18DD418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A58F-3F32-4465-B3F9-2A2FD20E0A1A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128A-8431-4DA0-8B04-588DE482A288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B2DB-65AB-4504-8366-170F0CD78975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990C-527D-4C13-ABA8-C43A0AC8CC23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59B9-0A18-4026-8227-6B981CED336C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99680" y="1217520"/>
              <a:ext cx="45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64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99680" y="1282320"/>
              <a:ext cx="45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51960" y="1370160"/>
              <a:ext cx="46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64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51960" y="1434960"/>
              <a:ext cx="46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404560" y="1473120"/>
              <a:ext cx="45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64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404560" y="1537920"/>
              <a:ext cx="45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B6E7-2519-4620-9338-235005A970A7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Content Placeholder 2"/>
          <p:cNvSpPr/>
          <p:nvPr/>
        </p:nvSpPr>
        <p:spPr>
          <a:xfrm>
            <a:off x="5076720" y="4940280"/>
            <a:ext cx="2871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ency FB"/>
              </a:rPr>
              <a:t>ATELEKTA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gency FB"/>
              </a:rPr>
              <a:t>Arimbi,Sp.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Ilmu Penyakit Pa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FK UW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09080" cy="70423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"/>
          <p:cNvSpPr/>
          <p:nvPr/>
        </p:nvSpPr>
        <p:spPr>
          <a:xfrm>
            <a:off x="5064120" y="50976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ATELEKTASIS  PA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ARIMBI,dr.Sp.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FK UW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85680" y="571320"/>
            <a:ext cx="407196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0040" y="1356840"/>
            <a:ext cx="8429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2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Kontraktil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rjadi akibat fibrosis pada dinding alveoli paru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alveoli mengkerut, sehingga 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tidak dapat terisi udara / kolap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3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Adhesive: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rjadi akibat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hilangnya Surfaktan pada dinding alveoli,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gangan permukaan alveoli hilang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alveoli kolap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is:  - ARDS ( R</a:t>
            </a:r>
            <a:r>
              <a:rPr b="0" lang="el-GR" sz="3200" spc="-1" strike="noStrike">
                <a:solidFill>
                  <a:srgbClr val="ffffff"/>
                </a:solidFill>
                <a:latin typeface="Arial Narrow"/>
              </a:rPr>
              <a:t>ό</a:t>
            </a:r>
            <a:r>
              <a:rPr b="0" lang="id-ID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diffuse adhesive atelectas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     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Emboli Paru  ( R</a:t>
            </a:r>
            <a:r>
              <a:rPr b="0" lang="el-GR" sz="3200" spc="-1" strike="noStrike">
                <a:solidFill>
                  <a:srgbClr val="ffffff"/>
                </a:solidFill>
                <a:latin typeface="Arial Narrow"/>
              </a:rPr>
              <a:t>ό</a:t>
            </a:r>
            <a:r>
              <a:rPr b="0" lang="id-ID" sz="32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late like atelectas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500040" y="1889280"/>
            <a:ext cx="8286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  <a:ea typeface="Arial"/>
              </a:rPr>
              <a:t>4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Arial"/>
              </a:rPr>
              <a:t>Atelektasis Relaksasi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b0f0"/>
                </a:solidFill>
                <a:latin typeface="Agency FB"/>
                <a:ea typeface="Arial"/>
              </a:rPr>
              <a:t>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Terjadi akibat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  <a:ea typeface="Arial"/>
              </a:rPr>
              <a:t>tekanan negatif pada ca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  <a:ea typeface="Arial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  <a:ea typeface="Arial"/>
              </a:rPr>
              <a:t>pleur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penekanan percabangan bronkh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alveoli kolaps ( mis: Pneumothoraks atau  Efu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pleura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  <a:ea typeface="Arial"/>
              </a:rPr>
              <a:t>5. A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Arial"/>
              </a:rPr>
              <a:t>telektasis Bulat / Round Atelectasis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  <a:ea typeface="Arial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akibat penyakit pada pleura ( Asbestosi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85680" y="571320"/>
            <a:ext cx="407196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785880" y="1572840"/>
            <a:ext cx="792936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6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Lobus Medialis ( syndroma Lob.Medius )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atelektasis pada lobus medius Paru kanan , akibat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enekanan bronkus Lobus medius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oleh suatu tumor atau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mbesaran kelenjar getah bening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ru-paru yang tersumbat dan mengkerut dapat mengalam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Infeksi ( pneumonia , bronkhiektasis) , atau terbentuk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jaringan parut/ fibrotik 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42760" y="642600"/>
            <a:ext cx="4000680" cy="571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000" y="2276640"/>
            <a:ext cx="86756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816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7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Percepat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816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Biasanya terjadi pada</a:t>
            </a:r>
            <a:r>
              <a:rPr b="0" lang="id-ID" sz="3200" spc="-1" strike="noStrike">
                <a:solidFill>
                  <a:srgbClr val="007eea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ilot pesawat tempur.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Penerbangan deng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816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kecepatan tinggi ,maka terjadi menutup saluran nafas keci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816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endadak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menyebabkan alveoli menciut / mengempi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929040" cy="55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400" y="1643040"/>
            <a:ext cx="8643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092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8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Mikroatelektasis tersebar / terlokalisir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Akibat terganggu / hilangnya surfaktan pada jaringan paru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da bayi prematur 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( Sindroma gawat pernafasan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da Orang dewasa terjadi akibat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terapi oksigen yang berlebih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infeksi berat dan luas ( seps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faktor lainnya yang merusak lapisan alveoli.</a:t>
            </a:r>
            <a:br>
              <a:rPr sz="3200"/>
            </a:b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28560" y="642600"/>
            <a:ext cx="4429080" cy="571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83920"/>
            <a:ext cx="7772400" cy="77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4000" spc="-1" strike="noStrike">
                <a:solidFill>
                  <a:srgbClr val="1deb31"/>
                </a:solidFill>
                <a:latin typeface="Agency FB"/>
              </a:rPr>
              <a:t>  (  berdasar  asalnya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0920" y="1628640"/>
            <a:ext cx="8057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1. Atelektasis neonatoru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Merupakan ekspansi yang tidak sempurna paru pada saa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lahir atau kolaps sebelum alveoli berkembang sempurn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Banyak terjadi pada bayi prematur, dimana pusat pernafasan dalam otak tidak matur dan gerakan pernafasan masih terbata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Faktor pencetus termasuk komplikasi persalinan yang menyebabkan hipoksia intrauteru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28880" y="428760"/>
            <a:ext cx="5371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deb31"/>
                </a:solidFill>
                <a:latin typeface="Agency FB"/>
              </a:rPr>
              <a:t>Atelektasis  Neonatoru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571840" y="1500120"/>
            <a:ext cx="4786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000160" y="785520"/>
            <a:ext cx="5429520" cy="571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 , asalnya………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856880"/>
            <a:ext cx="77724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2. Atelektasis acquired atau didap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- Terdapat pada orang dewasa, termasuk ganggua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intratoraks yang menyebabkan kolaps dari ruanga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udara, yang sebelumnya telah berkembang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00200" y="514440"/>
            <a:ext cx="45864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1deb31"/>
                </a:solidFill>
                <a:latin typeface="Agency FB"/>
              </a:rPr>
              <a:t>Gejala Klinis Atelektasis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285560" y="1999800"/>
            <a:ext cx="70009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esak napas s/d Sianosis (  O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2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enurun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akikardi ( kerja jantung memberat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nas tinggi ( akibat terjadinya infeksi pada daerah yang kolaps 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nurunan  kesadaran s/d syok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( atelektasis luas / Hipoksemia berat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057040" y="356760"/>
            <a:ext cx="5372280" cy="71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meriksaan Fisik Atelektas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85880" y="171468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Inspeksi : Gerak napas tertinggal, ICS menyempi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   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di sisi yang mengalami atelektasis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Palpasi   : Gerak napas tertinggal, Fremitus raba menurun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      </a:t>
            </a: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ICS menyempit ( di sisi atelektasis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rkusi  : Redup atau normal , bila terjadi emphysema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kompensa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t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( batas mediastinum bergeser k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sisi atelektasis ), letak diafragma  di sis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atelektasis  meninggi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Auskultasi : Suara napas &amp; Suara percakapan menuru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         </a:t>
            </a: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( di sisi atelektasis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657360"/>
            <a:ext cx="530064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400" spc="-1" strike="noStrike">
                <a:solidFill>
                  <a:srgbClr val="1deb31"/>
                </a:solidFill>
                <a:latin typeface="Agency FB"/>
              </a:rPr>
              <a:t>Definisi  Atelektasis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13880" y="2643120"/>
            <a:ext cx="792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092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Keadaan  alveoli paru sebagian / seluruhnya tidak teris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udara / kolaps, akibat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hambatan aliran udara y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elewati  bronkhus dan percabangannya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8840" y="799920"/>
            <a:ext cx="6229440" cy="77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  <a:ea typeface="Aharoni"/>
              </a:rPr>
              <a:t>Menegakkan Diagnose Atelektas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1360" y="2571840"/>
            <a:ext cx="70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Berdasar Gejala Klinis dan Pemeriksaan Fisi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Radiologi ( Foto Thoraks PA dan Lateral ) :</a:t>
            </a: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Tanda – tanda </a:t>
            </a:r>
            <a:r>
              <a:rPr b="0" lang="id-ID" sz="3000" spc="-1" strike="noStrike">
                <a:solidFill>
                  <a:srgbClr val="f273af"/>
                </a:solidFill>
                <a:latin typeface="Agency FB"/>
              </a:rPr>
              <a:t>“ Loss of Lung Volume</a:t>
            </a:r>
            <a:r>
              <a:rPr b="0" lang="id-ID" sz="3600" spc="-1" strike="noStrike">
                <a:solidFill>
                  <a:srgbClr val="f273af"/>
                </a:solidFill>
                <a:latin typeface="Agency FB"/>
              </a:rPr>
              <a:t> “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Bronkhoskopi dan bronkhografi / CT Scan 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273af"/>
                </a:solidFill>
                <a:latin typeface="Agency FB"/>
              </a:rPr>
              <a:t>mengetahui lokasi obstruksi / sumbatan  bronkhu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43040" y="512280"/>
            <a:ext cx="56577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1deb31"/>
                </a:solidFill>
                <a:latin typeface="Agency FB"/>
              </a:rPr>
              <a:t>Signs Loss of Lung Volume </a:t>
            </a:r>
            <a:br>
              <a:rPr sz="4800"/>
            </a:b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57160" y="185724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726120" indent="-385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*Yaitu: hilangnya sebagian volume paru akibat atelekta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*Signs loss of lung volume ini dapat dilihat pada thoraks fot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* Ciri Signs loss of lung volume , adala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Pergeseran mediastinum: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Trakhea dan jantung bergeser ke sisi yang mengalami atelektasis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Elevasi diafragma: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 Diafragma terangkat ke atas pada sisi paru yang mengalami atelektasis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Drooping of shoulder: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bahu pada lengan yang alami atelektasis posisinya lebih rendah dibanding sisi seh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14680" y="428760"/>
            <a:ext cx="5929200" cy="714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Signs of Loss of Lung Volume 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95280" y="1628640"/>
            <a:ext cx="864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73af"/>
                </a:solidFill>
                <a:latin typeface="Agency FB"/>
              </a:rPr>
              <a:t>4. </a:t>
            </a: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Penyempitan ICS :</a:t>
            </a: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  ICS pada sisi yang mengalami nampak atelektasis menyempi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73af"/>
                </a:solidFill>
                <a:latin typeface="Agency FB"/>
              </a:rPr>
              <a:t>5. </a:t>
            </a: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Berpindahnya posisi Fisura Paru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69720" indent="-30816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Diperlukan Foto Thorax ( sisi Lateral ) untuk mengetahui pergeseran posisi fisura oblique dan Transverse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73af"/>
                </a:solidFill>
                <a:latin typeface="Agency FB"/>
              </a:rPr>
              <a:t>6. </a:t>
            </a: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Bergesernya Hilus Par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69720" indent="-30816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Posisi normal:  posisi hilus paru kanan sedikit lebih rendah  dibanding hilus paru kiri. Posisi ini berubah bila terjadi  atelektasis pada satu lobus paru. 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7</a:t>
            </a:r>
            <a:r>
              <a:rPr b="0" lang="en-US" sz="2400" spc="-1" strike="noStrike">
                <a:solidFill>
                  <a:srgbClr val="f273af"/>
                </a:solidFill>
                <a:latin typeface="Agency FB"/>
              </a:rPr>
              <a:t>. </a:t>
            </a: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Hyperinflasi / Emphisema  Compensator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69720" indent="-30816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Bagian paru yang tidak mengalami atelektasis, akan nampak lebih hitam dan terjadi dilatasi pembuluh dara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69720" indent="-30816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H:\foto dada\atelek adhesive_files\intro_data\310a.jpg"/>
          <p:cNvPicPr/>
          <p:nvPr/>
        </p:nvPicPr>
        <p:blipFill>
          <a:blip r:embed="rId1"/>
          <a:stretch/>
        </p:blipFill>
        <p:spPr>
          <a:xfrm>
            <a:off x="785880" y="428760"/>
            <a:ext cx="3643200" cy="412740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21" name="Rectangle 2"/>
          <p:cNvSpPr/>
          <p:nvPr/>
        </p:nvSpPr>
        <p:spPr>
          <a:xfrm>
            <a:off x="857160" y="4873680"/>
            <a:ext cx="3143520" cy="173988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deb31"/>
                </a:solidFill>
                <a:latin typeface="Agency FB"/>
                <a:ea typeface="Times New Roman"/>
              </a:rPr>
              <a:t>Adhesive Atelecta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  <a:ea typeface="Times New Roman"/>
              </a:rPr>
              <a:t>Alveoli are kept open by the integrity of surfactant. When there is</a:t>
            </a:r>
            <a:r>
              <a:rPr b="1" lang="id-ID" sz="1800" spc="-1" strike="noStrike">
                <a:solidFill>
                  <a:srgbClr val="f273af"/>
                </a:solidFill>
                <a:latin typeface="Agency FB"/>
                <a:ea typeface="Times New Roman"/>
              </a:rPr>
              <a:t> loss of surfactant, alveoli collap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H:\foto dada\atelek relaks_files\intro_data\112la.JPG"/>
          <p:cNvPicPr/>
          <p:nvPr/>
        </p:nvPicPr>
        <p:blipFill>
          <a:blip r:embed="rId2"/>
          <a:stretch/>
        </p:blipFill>
        <p:spPr>
          <a:xfrm>
            <a:off x="5000760" y="428760"/>
            <a:ext cx="3714480" cy="4000320"/>
          </a:xfrm>
          <a:prstGeom prst="rect">
            <a:avLst/>
          </a:prstGeom>
          <a:ln w="38160">
            <a:solidFill>
              <a:srgbClr val="1deb31"/>
            </a:solidFill>
            <a:miter/>
          </a:ln>
        </p:spPr>
      </p:pic>
      <p:sp>
        <p:nvSpPr>
          <p:cNvPr id="423" name="TextBox 6"/>
          <p:cNvSpPr/>
          <p:nvPr/>
        </p:nvSpPr>
        <p:spPr>
          <a:xfrm>
            <a:off x="4857840" y="4857840"/>
            <a:ext cx="4000320" cy="228852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deb31"/>
                </a:solidFill>
                <a:latin typeface="Agency FB"/>
              </a:rPr>
              <a:t>Relaxation Atelecta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The lung is held in apposition to the chest wall  because of negative pressure in the ple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When the negative pressure is lost, as in pneumothorax, the lung relaxes to its atelectatic posi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4" name="Straight Arrow Connector 6"/>
          <p:cNvCxnSpPr/>
          <p:nvPr/>
        </p:nvCxnSpPr>
        <p:spPr>
          <a:xfrm>
            <a:off x="5999760" y="1571760"/>
            <a:ext cx="214920" cy="3578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25" name="Straight Arrow Connector 8"/>
          <p:cNvCxnSpPr/>
          <p:nvPr/>
        </p:nvCxnSpPr>
        <p:spPr>
          <a:xfrm flipV="1">
            <a:off x="5500440" y="2571480"/>
            <a:ext cx="500760" cy="3578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H:\foto dada\atelek round_files\intro_data\402a.jpg"/>
          <p:cNvPicPr/>
          <p:nvPr/>
        </p:nvPicPr>
        <p:blipFill>
          <a:blip r:embed="rId1"/>
          <a:stretch/>
        </p:blipFill>
        <p:spPr>
          <a:xfrm>
            <a:off x="1071720" y="500040"/>
            <a:ext cx="3429000" cy="3857760"/>
          </a:xfrm>
          <a:prstGeom prst="rect">
            <a:avLst/>
          </a:prstGeom>
          <a:ln w="38160">
            <a:solidFill>
              <a:srgbClr val="1deb31"/>
            </a:solidFill>
            <a:miter/>
          </a:ln>
        </p:spPr>
      </p:pic>
      <p:sp>
        <p:nvSpPr>
          <p:cNvPr id="427" name="TextBox 4"/>
          <p:cNvSpPr/>
          <p:nvPr/>
        </p:nvSpPr>
        <p:spPr>
          <a:xfrm>
            <a:off x="928800" y="4716360"/>
            <a:ext cx="7572240" cy="228852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Agency FB"/>
              </a:rPr>
              <a:t>Round Atelec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Mass like density  Pleural based  Base of lungs ,  Blunting of costophrenic angle . Pleural thickening . Pulmonary vasculature curving into the dens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Esophageal surgical clips ( Asbestosi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5" descr="H:\foto dada\atelek round_files\intro_data\402c.jpg"/>
          <p:cNvPicPr/>
          <p:nvPr/>
        </p:nvPicPr>
        <p:blipFill>
          <a:blip r:embed="rId2"/>
          <a:stretch/>
        </p:blipFill>
        <p:spPr>
          <a:xfrm>
            <a:off x="5059440" y="571680"/>
            <a:ext cx="3227400" cy="3786120"/>
          </a:xfrm>
          <a:prstGeom prst="rect">
            <a:avLst/>
          </a:prstGeom>
          <a:ln w="38160">
            <a:solidFill>
              <a:srgbClr val="1deb31"/>
            </a:solidFill>
            <a:miter/>
          </a:ln>
        </p:spPr>
      </p:pic>
      <p:cxnSp>
        <p:nvCxnSpPr>
          <p:cNvPr id="429" name="Straight Arrow Connector 5"/>
          <p:cNvCxnSpPr/>
          <p:nvPr/>
        </p:nvCxnSpPr>
        <p:spPr>
          <a:xfrm>
            <a:off x="3285000" y="2214720"/>
            <a:ext cx="143640" cy="429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30" name="Straight Arrow Connector 6"/>
          <p:cNvCxnSpPr/>
          <p:nvPr/>
        </p:nvCxnSpPr>
        <p:spPr>
          <a:xfrm>
            <a:off x="7429680" y="1856880"/>
            <a:ext cx="143280" cy="4294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31" name="Straight Arrow Connector 7"/>
          <p:cNvCxnSpPr/>
          <p:nvPr/>
        </p:nvCxnSpPr>
        <p:spPr>
          <a:xfrm>
            <a:off x="6286680" y="2356920"/>
            <a:ext cx="143280" cy="4294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H:\foto dada\atelek paru kanan 2_files\intro_data\95a.jpg"/>
          <p:cNvPicPr/>
          <p:nvPr/>
        </p:nvPicPr>
        <p:blipFill>
          <a:blip r:embed="rId1"/>
          <a:stretch/>
        </p:blipFill>
        <p:spPr>
          <a:xfrm>
            <a:off x="1143000" y="428760"/>
            <a:ext cx="3440160" cy="364320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33" name="TextBox 4"/>
          <p:cNvSpPr/>
          <p:nvPr/>
        </p:nvSpPr>
        <p:spPr>
          <a:xfrm>
            <a:off x="1071720" y="4286160"/>
            <a:ext cx="3571560" cy="311148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Atelectasis Right Lung</a:t>
            </a:r>
            <a:br>
              <a:rPr sz="1800"/>
            </a:b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Open Bronchus Sign / Alveolar Atelectasis/ Cornified Lu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Homogenous density right hemithora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Mediastinal shift to rig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Right hemithorax smal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Right heart and diaphragmatic silhouette are not identif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5" descr="H:\foto dada\atelek paru kiri 2_files\intro_data\30a.jpg"/>
          <p:cNvPicPr/>
          <p:nvPr/>
        </p:nvPicPr>
        <p:blipFill>
          <a:blip r:embed="rId2"/>
          <a:stretch/>
        </p:blipFill>
        <p:spPr>
          <a:xfrm>
            <a:off x="5357880" y="501480"/>
            <a:ext cx="3440160" cy="357048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35" name="TextBox 6"/>
          <p:cNvSpPr/>
          <p:nvPr/>
        </p:nvSpPr>
        <p:spPr>
          <a:xfrm>
            <a:off x="5286240" y="4429080"/>
            <a:ext cx="3500640" cy="256284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Atelectasis Left Lu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Homogenous density left hemithora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Mediastinal shift to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Left hemithorax smal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Diaphragmatic and heart silhouette are not identifiabl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6" name="Straight Arrow Connector 6"/>
          <p:cNvCxnSpPr/>
          <p:nvPr/>
        </p:nvCxnSpPr>
        <p:spPr>
          <a:xfrm>
            <a:off x="1571400" y="2857680"/>
            <a:ext cx="500760" cy="216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37" name="Straight Arrow Connector 7"/>
          <p:cNvCxnSpPr/>
          <p:nvPr/>
        </p:nvCxnSpPr>
        <p:spPr>
          <a:xfrm>
            <a:off x="1642680" y="2142720"/>
            <a:ext cx="500760" cy="252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38" name="Straight Arrow Connector 8"/>
          <p:cNvCxnSpPr/>
          <p:nvPr/>
        </p:nvCxnSpPr>
        <p:spPr>
          <a:xfrm>
            <a:off x="1794960" y="1571760"/>
            <a:ext cx="500760" cy="216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39" name="Straight Arrow Connector 9"/>
          <p:cNvCxnSpPr/>
          <p:nvPr/>
        </p:nvCxnSpPr>
        <p:spPr>
          <a:xfrm>
            <a:off x="6929280" y="1784520"/>
            <a:ext cx="501120" cy="216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40" name="Straight Arrow Connector 10"/>
          <p:cNvCxnSpPr/>
          <p:nvPr/>
        </p:nvCxnSpPr>
        <p:spPr>
          <a:xfrm>
            <a:off x="6929280" y="2712600"/>
            <a:ext cx="501120" cy="252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41" name="Straight Arrow Connector 11"/>
          <p:cNvCxnSpPr/>
          <p:nvPr/>
        </p:nvCxnSpPr>
        <p:spPr>
          <a:xfrm>
            <a:off x="7071840" y="2295000"/>
            <a:ext cx="500760" cy="252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H:\foto dada\atelek subsegmen_files\intro_data\181bl.jpg"/>
          <p:cNvPicPr/>
          <p:nvPr/>
        </p:nvPicPr>
        <p:blipFill>
          <a:blip r:embed="rId1"/>
          <a:stretch/>
        </p:blipFill>
        <p:spPr>
          <a:xfrm>
            <a:off x="857160" y="571680"/>
            <a:ext cx="3786120" cy="4429080"/>
          </a:xfrm>
          <a:prstGeom prst="rect">
            <a:avLst/>
          </a:prstGeom>
          <a:ln w="38160">
            <a:solidFill>
              <a:srgbClr val="1deb31"/>
            </a:solidFill>
            <a:miter/>
          </a:ln>
        </p:spPr>
      </p:pic>
      <p:sp>
        <p:nvSpPr>
          <p:cNvPr id="443" name="TextBox 4"/>
          <p:cNvSpPr/>
          <p:nvPr/>
        </p:nvSpPr>
        <p:spPr>
          <a:xfrm>
            <a:off x="2857680" y="5429160"/>
            <a:ext cx="4572000" cy="155700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00"/>
                </a:solidFill>
                <a:latin typeface="Agency FB"/>
              </a:rPr>
              <a:t>Sub-segmental Atelecta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Agency FB"/>
              </a:rPr>
              <a:t>Also note the posterior mediastinal mass in the left apex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2"/>
          <a:stretch/>
        </p:blipFill>
        <p:spPr>
          <a:xfrm>
            <a:off x="5114880" y="571680"/>
            <a:ext cx="3457800" cy="442908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cxnSp>
        <p:nvCxnSpPr>
          <p:cNvPr id="445" name="Straight Arrow Connector 5"/>
          <p:cNvCxnSpPr/>
          <p:nvPr/>
        </p:nvCxnSpPr>
        <p:spPr>
          <a:xfrm flipH="1">
            <a:off x="7786080" y="2714400"/>
            <a:ext cx="214920" cy="286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46" name="Straight Arrow Connector 7"/>
          <p:cNvCxnSpPr/>
          <p:nvPr/>
        </p:nvCxnSpPr>
        <p:spPr>
          <a:xfrm flipH="1">
            <a:off x="1642320" y="2786040"/>
            <a:ext cx="214920" cy="286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H:\foto dada\atelek RML_files\intro_data\44a.jpg"/>
          <p:cNvPicPr/>
          <p:nvPr/>
        </p:nvPicPr>
        <p:blipFill>
          <a:blip r:embed="rId1"/>
          <a:stretch/>
        </p:blipFill>
        <p:spPr>
          <a:xfrm>
            <a:off x="1000080" y="571680"/>
            <a:ext cx="3660840" cy="407160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pic>
        <p:nvPicPr>
          <p:cNvPr id="448" name="Picture 5" descr="H:\foto dada\atelek RML_files\intro_data\44c.jpg"/>
          <p:cNvPicPr/>
          <p:nvPr/>
        </p:nvPicPr>
        <p:blipFill>
          <a:blip r:embed="rId2"/>
          <a:stretch/>
        </p:blipFill>
        <p:spPr>
          <a:xfrm>
            <a:off x="5037120" y="571680"/>
            <a:ext cx="3463920" cy="407160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49" name="TextBox 6"/>
          <p:cNvSpPr/>
          <p:nvPr/>
        </p:nvSpPr>
        <p:spPr>
          <a:xfrm>
            <a:off x="1857240" y="5000760"/>
            <a:ext cx="5857920" cy="222840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00"/>
                </a:solidFill>
                <a:latin typeface="Agency FB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gency FB"/>
              </a:rPr>
              <a:t>ML Atelect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Vague density in right lower lung field (almost a normal film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Dramatic RML atelectasis in lateral view, not evident in PA view. Movement of transverse fiss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Other findings include:</a:t>
            </a:r>
            <a:r>
              <a:rPr b="1" lang="id-ID" sz="2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Azygous lobe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0" name="Straight Arrow Connector 5"/>
          <p:cNvCxnSpPr/>
          <p:nvPr/>
        </p:nvCxnSpPr>
        <p:spPr>
          <a:xfrm>
            <a:off x="1856160" y="2357280"/>
            <a:ext cx="143640" cy="501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51" name="Straight Arrow Connector 7"/>
          <p:cNvCxnSpPr/>
          <p:nvPr/>
        </p:nvCxnSpPr>
        <p:spPr>
          <a:xfrm flipH="1">
            <a:off x="7500240" y="1999800"/>
            <a:ext cx="214920" cy="500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3976560" cy="400032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5286240" y="514440"/>
            <a:ext cx="3500640" cy="384336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54" name="TextBox 5"/>
          <p:cNvSpPr/>
          <p:nvPr/>
        </p:nvSpPr>
        <p:spPr>
          <a:xfrm>
            <a:off x="3500280" y="4857840"/>
            <a:ext cx="3429000" cy="283824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gency FB"/>
              </a:rPr>
              <a:t>Atelectasis Right Upper L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Density in the right upper lung fie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Transverse fissure pulled u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Right hilum pulled u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Smaller right lu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Smaller right hemithora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Straight Arrow Connector 5"/>
          <p:cNvCxnSpPr/>
          <p:nvPr/>
        </p:nvCxnSpPr>
        <p:spPr>
          <a:xfrm flipV="1">
            <a:off x="1927800" y="1999800"/>
            <a:ext cx="214920" cy="3578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56" name="Straight Arrow Connector 7"/>
          <p:cNvCxnSpPr/>
          <p:nvPr/>
        </p:nvCxnSpPr>
        <p:spPr>
          <a:xfrm flipH="1">
            <a:off x="7000200" y="1570680"/>
            <a:ext cx="429480" cy="214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57" name="Straight Arrow Connector 8"/>
          <p:cNvCxnSpPr/>
          <p:nvPr/>
        </p:nvCxnSpPr>
        <p:spPr>
          <a:xfrm flipV="1">
            <a:off x="5928840" y="1858680"/>
            <a:ext cx="358200" cy="2844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3786480" cy="407196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4857840" y="642960"/>
            <a:ext cx="3714840" cy="407196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sp>
        <p:nvSpPr>
          <p:cNvPr id="460" name="TextBox 5"/>
          <p:cNvSpPr/>
          <p:nvPr/>
        </p:nvSpPr>
        <p:spPr>
          <a:xfrm>
            <a:off x="3214800" y="5032440"/>
            <a:ext cx="2786040" cy="338580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gency FB"/>
              </a:rPr>
              <a:t>Atelectasis Right Lower L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Density in right lower lung fie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Indistinct right diaphrag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Right heart silhouette retain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Transverse fissure moved d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Right hilum moved d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5640" y="213840"/>
            <a:ext cx="4514760" cy="71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1deb31"/>
                </a:solidFill>
                <a:latin typeface="Agency FB"/>
              </a:rPr>
              <a:t>Patofisiologi Atelektasis 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0920" y="1557360"/>
            <a:ext cx="83581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Akibat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terjadinya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hambatan aliran udara 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ada saluran napas, mak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alveoli  distal 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dari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sumbatan menjadi kollaps / kempes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baik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sebagian /seluruhnya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sisa udara  yang terperangkap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akan di 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serap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oleh  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pembuluh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 d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arah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 sekitar alveoli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73af"/>
                </a:solidFill>
                <a:latin typeface="Agency FB"/>
              </a:rPr>
              <a:t>Alv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eoli </a:t>
            </a:r>
            <a:r>
              <a:rPr b="0" lang="en-US" sz="2800" spc="-1" strike="noStrike">
                <a:solidFill>
                  <a:srgbClr val="f273af"/>
                </a:solidFill>
                <a:latin typeface="Agency FB"/>
              </a:rPr>
              <a:t>yang kolaps  akan 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memadat </a:t>
            </a:r>
            <a:r>
              <a:rPr b="0" lang="id-ID" sz="28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menjadi sumber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I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nfeks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Perfusi darah ke paru akan kekurangan O</a:t>
            </a:r>
            <a:r>
              <a:rPr b="0" lang="id-ID" sz="2800" spc="-1" strike="noStrike" baseline="-25000">
                <a:solidFill>
                  <a:srgbClr val="f273af"/>
                </a:solidFill>
                <a:latin typeface="Agency FB"/>
              </a:rPr>
              <a:t>2  , </a:t>
            </a:r>
            <a:r>
              <a:rPr b="0" lang="en-US" sz="2800" spc="-1" strike="noStrike" baseline="-25000">
                <a:solidFill>
                  <a:srgbClr val="f273af"/>
                </a:solidFill>
                <a:latin typeface="Agency FB"/>
              </a:rPr>
              <a:t> </a:t>
            </a:r>
            <a:r>
              <a:rPr b="0" lang="en-US" sz="2000" spc="-1" strike="noStrike" baseline="-25000">
                <a:solidFill>
                  <a:srgbClr val="f273a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 Hy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poksem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73af"/>
                </a:solidFill>
                <a:latin typeface="Agency FB"/>
              </a:rPr>
              <a:t>T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ransudasi /ekstravasasi cairan ke parenkhim paru </a:t>
            </a:r>
            <a:r>
              <a:rPr b="0" lang="id-ID" sz="28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E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dema paru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H:\foto dada\atelek paru kanan_files\intro_data\73a.jpg"/>
          <p:cNvPicPr/>
          <p:nvPr/>
        </p:nvPicPr>
        <p:blipFill>
          <a:blip r:embed="rId1"/>
          <a:stretch/>
        </p:blipFill>
        <p:spPr>
          <a:xfrm>
            <a:off x="1000080" y="428760"/>
            <a:ext cx="3571920" cy="392904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sp>
        <p:nvSpPr>
          <p:cNvPr id="462" name="TextBox 4"/>
          <p:cNvSpPr/>
          <p:nvPr/>
        </p:nvSpPr>
        <p:spPr>
          <a:xfrm>
            <a:off x="1000080" y="4714920"/>
            <a:ext cx="3571920" cy="228852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Atelectasis Right Lu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Homogenous density right hemithora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Mediastinal shift to rig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Right hemithorax smal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Right heart and diaphragmatic silhouette are not identif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3" descr="H:\foto dada\atelek lll_files\intro_data\166al.jpg"/>
          <p:cNvPicPr/>
          <p:nvPr/>
        </p:nvPicPr>
        <p:blipFill>
          <a:blip r:embed="rId2"/>
          <a:stretch/>
        </p:blipFill>
        <p:spPr>
          <a:xfrm>
            <a:off x="5214960" y="500040"/>
            <a:ext cx="3379680" cy="371484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sp>
        <p:nvSpPr>
          <p:cNvPr id="464" name="TextBox 7"/>
          <p:cNvSpPr/>
          <p:nvPr/>
        </p:nvSpPr>
        <p:spPr>
          <a:xfrm>
            <a:off x="5357880" y="4478400"/>
            <a:ext cx="3214800" cy="283716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Atelectasis Left Lower Lobe</a:t>
            </a: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Double density over he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Inhomogenous cardiac dens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Triangular retrocardiac dens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Left hilum pulled d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Other findings incl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Pneumomediastin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5" name="Straight Arrow Connector 6"/>
          <p:cNvCxnSpPr/>
          <p:nvPr/>
        </p:nvCxnSpPr>
        <p:spPr>
          <a:xfrm flipH="1" flipV="1">
            <a:off x="3428640" y="1714320"/>
            <a:ext cx="3578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66" name="Straight Arrow Connector 7"/>
          <p:cNvCxnSpPr/>
          <p:nvPr/>
        </p:nvCxnSpPr>
        <p:spPr>
          <a:xfrm flipH="1" flipV="1">
            <a:off x="3285720" y="2355480"/>
            <a:ext cx="3578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67" name="Straight Arrow Connector 8"/>
          <p:cNvCxnSpPr/>
          <p:nvPr/>
        </p:nvCxnSpPr>
        <p:spPr>
          <a:xfrm flipH="1">
            <a:off x="3142800" y="3000240"/>
            <a:ext cx="357840" cy="70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68" name="Straight Arrow Connector 10"/>
          <p:cNvCxnSpPr/>
          <p:nvPr/>
        </p:nvCxnSpPr>
        <p:spPr>
          <a:xfrm flipH="1">
            <a:off x="7857720" y="3000240"/>
            <a:ext cx="357840" cy="70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69" name="Straight Arrow Connector 11"/>
          <p:cNvCxnSpPr/>
          <p:nvPr/>
        </p:nvCxnSpPr>
        <p:spPr>
          <a:xfrm flipH="1">
            <a:off x="7429320" y="2502000"/>
            <a:ext cx="357840" cy="70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70" name="Straight Arrow Connector 12"/>
          <p:cNvCxnSpPr/>
          <p:nvPr/>
        </p:nvCxnSpPr>
        <p:spPr>
          <a:xfrm>
            <a:off x="6072120" y="2499840"/>
            <a:ext cx="3578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71" name="Straight Arrow Connector 13"/>
          <p:cNvCxnSpPr/>
          <p:nvPr/>
        </p:nvCxnSpPr>
        <p:spPr>
          <a:xfrm>
            <a:off x="6357600" y="2999880"/>
            <a:ext cx="42948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4"/>
          <p:cNvSpPr/>
          <p:nvPr/>
        </p:nvSpPr>
        <p:spPr>
          <a:xfrm>
            <a:off x="4929120" y="4786200"/>
            <a:ext cx="3143160" cy="180036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gency FB"/>
                <a:ea typeface="Times New Roman"/>
              </a:rPr>
              <a:t>ARDS is an example of</a:t>
            </a: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Times New Roman"/>
              </a:rPr>
              <a:t> </a:t>
            </a:r>
            <a:r>
              <a:rPr b="1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Diffuse alve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atelec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785880" y="714240"/>
            <a:ext cx="3429000" cy="364356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sp>
        <p:nvSpPr>
          <p:cNvPr id="474" name="TextBox 7"/>
          <p:cNvSpPr/>
          <p:nvPr/>
        </p:nvSpPr>
        <p:spPr>
          <a:xfrm>
            <a:off x="857160" y="5046840"/>
            <a:ext cx="3357720" cy="180036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gency FB"/>
                <a:ea typeface="Times New Roman"/>
              </a:rPr>
              <a:t>Focal loss of surfactan is an example of </a:t>
            </a:r>
            <a:r>
              <a:rPr b="1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Plate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4857840" y="642960"/>
            <a:ext cx="3143160" cy="3786120"/>
          </a:xfrm>
          <a:prstGeom prst="rect">
            <a:avLst/>
          </a:prstGeom>
          <a:ln w="3816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56880" y="713880"/>
            <a:ext cx="5357880" cy="78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Faktor resiko atelektasis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57160" y="2569680"/>
            <a:ext cx="7786800" cy="25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Pembiusan ( anestesia ) dan pembedah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Tirah baring jangka panjang tanpa perubahan posisi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Pernafasan dangk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Penyakit paru-paru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56880" y="642600"/>
            <a:ext cx="5357880" cy="78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Tingkat keparahan atelektasis 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785600" y="2214360"/>
            <a:ext cx="5643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Keparahan atelektasis t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ergantung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Luasnya paru yang kolap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Keadaan paru kontralateralny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Komplikasi pasca atelektas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5357880" cy="78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ncegahan -  Atelektasis  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99680" y="2214720"/>
            <a:ext cx="8472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87640" indent="-239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etelah menjalani pembedahan, penderita harus </a:t>
            </a: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di latih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untuk  bernafas dalam, batuk teratur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dan</a:t>
            </a: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 kembali melakuk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aktivitas seperti biasa ( secepatnya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eskipun perokok memiliki resiko lebih besar, tetapi resiko ini bisa diturunkan dengan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berhenti merokok dalam 6-8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inggu sebelum pembedahan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57240" y="728280"/>
            <a:ext cx="5429520" cy="700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nanganan -   Atelektasis 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99720" y="2714400"/>
            <a:ext cx="73580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ujuan penangananan adalah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enghilangkan sumbat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Bronkhus dan percabanganny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, sehingga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jaring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lveoli  paru kembali  mengembang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71400" y="500040"/>
            <a:ext cx="5786280" cy="714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nanganan -   Atelektasis ..............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42960" y="1499760"/>
            <a:ext cx="8143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Berbaring pada sisi paru yang sehat, sehingga Paru y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cepat kembali mengembang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enghilangkan penyumbatan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Dengan alat Bronkoskopi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- 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Latihan menarik nafas dalam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erontokkan dahak, dengan Fisioterapi napas /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ostural drainase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-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engatasi sumbatan oleh  masa ( mengatasi Tumor nya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071440" y="785880"/>
            <a:ext cx="5429160" cy="63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nanganan -   Atelektasis 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714240" y="2214720"/>
            <a:ext cx="804384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04200" indent="-253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da infeksi yang  bersifat menetap atau berulang, menyulitkan atau menyebabkan perdarahan, maka bagian paru-paru yang terkena mungkin perlu diangkat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4200" indent="-253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( segmentomi/ lobektomi / pneumektomi 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4200" indent="-253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mberian Antibiotik  ( tergantung penyebab infeksi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4200" indent="-253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3" descr=""/>
          <p:cNvPicPr/>
          <p:nvPr/>
        </p:nvPicPr>
        <p:blipFill>
          <a:blip r:embed="rId1"/>
          <a:stretch/>
        </p:blipFill>
        <p:spPr>
          <a:xfrm>
            <a:off x="1736640" y="2120760"/>
            <a:ext cx="57736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56920" y="714240"/>
            <a:ext cx="4357800" cy="857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42640" y="199980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1.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Penyebab intrinsik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Sumbatan dalam lumen bronkhus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2. 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Penyebab Ekstrinsi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nekanan bronkhus dari luar lume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kanan Ekstra Pulmon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ralisis gerakan pernapas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Hambatan gerakan pernapas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713880" y="1855800"/>
            <a:ext cx="8015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gency FB"/>
              </a:rPr>
              <a:t>Penyebab  Instrinsi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Sumbatan dalam lumen bronkhus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umor Bronkhus ( Ca-Bronkhogenik ),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B Endobronkhial, benda asing atau sekret kental 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57280" y="713880"/>
            <a:ext cx="43005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 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00040" y="1287000"/>
            <a:ext cx="832968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gency FB"/>
              </a:rPr>
              <a:t>Penyebab Ekstrinsi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1.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enekanan bronkhus dari luar lume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umor  di luar lumen bronkhus atau kelenjar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ekitar bronkhus yang membesar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2.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Tekanan Ekstra Pulmon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neumothoraks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,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Efusi Pleura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dan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umor Mediastinum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ninggian diafragma (ok: proses dari dalam cav. abd )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H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erniasi organ abdomen ke dalam rongga thorak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643120" y="571320"/>
            <a:ext cx="43005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 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68360" y="2205000"/>
            <a:ext cx="850104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3.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aralisis gerakan pernapasan </a:t>
            </a:r>
            <a:r>
              <a:rPr b="0" lang="id-ID" sz="32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oliomielitis ( gangguan otot–otot bantu napa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Gangguan neurologis pernapasan ( inervasi otot napa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643120" y="571320"/>
            <a:ext cx="43005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 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826920" y="2276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4.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Hambatan gerakan pernapasan </a:t>
            </a:r>
            <a:r>
              <a:rPr b="0" lang="id-ID" sz="32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Kelainan Pleura atau Trauma thoraks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menah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rasa sakit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menurunkan gerakan paru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hambatan   pengeluaran sekret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atelektas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357280" y="713880"/>
            <a:ext cx="43005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 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7215120" cy="714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6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600" spc="-1" strike="noStrike">
                <a:solidFill>
                  <a:srgbClr val="1deb31"/>
                </a:solidFill>
                <a:latin typeface="Agency FB"/>
              </a:rPr>
              <a:t>  (  berdasar penyebab nya 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99680" y="192852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1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Absorbsi 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rjadi akibat sumbatan jalan napas, sehingga secar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bertahap udara dalam lumen bronkhus akan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di absorbs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oleh  pembuluh darah paru, akibatnya alveoli paru     menjadi kempes / kolaps, sehingga volume paru pada sis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yang tersumbat akan berkurang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0:07:36Z</dcterms:created>
  <dc:creator>Intan</dc:creator>
  <dc:description/>
  <dc:language>en-US</dc:language>
  <cp:lastModifiedBy>Toshiba</cp:lastModifiedBy>
  <dcterms:modified xsi:type="dcterms:W3CDTF">2012-11-12T23:45:01Z</dcterms:modified>
  <cp:revision>410</cp:revision>
  <dc:subject/>
  <dc:title>ATELEKTASIS</dc:title>
</cp:coreProperties>
</file>