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D228-7AC8-4F58-8742-C53DF8DBD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89AF-AFAC-4F17-9FF0-532E614D3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D4CF-B0F6-4573-9547-049484D44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B9E0-4C3B-4576-A6EB-32B51FD7C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147E-D463-43F3-9767-A25E682C1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0710-4040-4073-B3B5-8B95DA9F6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2619-33DC-4EFB-8DDE-825DE0E23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95D-D038-4A9F-8E15-F420FDB8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689-F242-4DE9-A330-76C6CF5B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C9CC-6BA4-4F5E-BBE8-2D9736E6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92D-C3B0-4CEA-AC2D-4E4E5D7E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07B-6E20-4900-B7BC-FEE45079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4A6-3334-4FC6-AE76-FC069037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8E1D-7348-42C1-AC35-0D2602DE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102-3FAB-418B-BBDE-940FF50C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8FDB-4B89-4993-95E1-BB3088E4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EBD-19BC-4FF6-94AA-850D0EC6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D9B3-33C0-4620-BFA3-CE67B859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6A4-CA9B-446B-81B2-825D39B9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4C5A-B97C-457B-A6D0-9922336829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01680" y="333360"/>
            <a:ext cx="85406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Century"/>
              </a:rPr>
              <a:t>PERILAKU INDIVIDU &amp; PERBEDAANNY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fektivitas Individu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fektivitas Kelompo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fektivitas Organisas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kus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ada 4 ciri utama individu yg mempengaruhi efektivitas organisasi : Persepsi, Sikap, Kepribadian &amp; Belaj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3"/>
          <p:cNvSpPr/>
          <p:nvPr/>
        </p:nvSpPr>
        <p:spPr>
          <a:xfrm>
            <a:off x="3581280" y="160020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6553080" y="205740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kutan Uta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g Memengaruhi Kepribad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3371760" y="3314880"/>
            <a:ext cx="251460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PRIBADIAN INDIVI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3809880" y="1638360"/>
            <a:ext cx="1600200" cy="952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kuatan kebuday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10"/>
          <p:cNvSpPr/>
          <p:nvPr/>
        </p:nvSpPr>
        <p:spPr>
          <a:xfrm>
            <a:off x="3676680" y="5867280"/>
            <a:ext cx="18669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kuatan hubungan kelu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ounded Rectangle 11"/>
          <p:cNvSpPr/>
          <p:nvPr/>
        </p:nvSpPr>
        <p:spPr>
          <a:xfrm>
            <a:off x="7315200" y="3676680"/>
            <a:ext cx="175248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elas sosial &amp; kekuatan laindr keanggotaan kelom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12"/>
          <p:cNvSpPr/>
          <p:nvPr/>
        </p:nvSpPr>
        <p:spPr>
          <a:xfrm>
            <a:off x="19080" y="3714840"/>
            <a:ext cx="1676520" cy="99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kuatan keturu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wn Arrow 13"/>
          <p:cNvSpPr/>
          <p:nvPr/>
        </p:nvSpPr>
        <p:spPr>
          <a:xfrm>
            <a:off x="4457880" y="2705040"/>
            <a:ext cx="304560" cy="53352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ight Arrow 14"/>
          <p:cNvSpPr/>
          <p:nvPr/>
        </p:nvSpPr>
        <p:spPr>
          <a:xfrm>
            <a:off x="2057400" y="4000680"/>
            <a:ext cx="838080" cy="3808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Arrow 15"/>
          <p:cNvSpPr/>
          <p:nvPr/>
        </p:nvSpPr>
        <p:spPr>
          <a:xfrm rot="10800000">
            <a:off x="6172200" y="4057200"/>
            <a:ext cx="838080" cy="38124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own Arrow 16"/>
          <p:cNvSpPr/>
          <p:nvPr/>
        </p:nvSpPr>
        <p:spPr>
          <a:xfrm flipV="1">
            <a:off x="4438800" y="514296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14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ORI KEPRIBAD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752120"/>
            <a:ext cx="91440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dekatan teori kepribadi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dekatan Ciri (Trait Approa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ori Psikodinamis (Psychodynamic Theor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ori Humanistis (Humanistic Theor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ndekatan Ciri (Trait Approach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ri didefinisikan sbg kecenderungan yg dpt diduga yg mengarahkan perilaku individu berbuat dengan cara yg konsisten &amp; khas (Allport, 1966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lemahan Pendekatan Cir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Trait Approac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4955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dak memberikan pengertian ttg perkembangan &amp; dinamika kepribad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dak dpt memprediksikan perilaku dlm berbagai macam situa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0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ori Psikodinami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Psychodynamic Theories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 merupakan bagian yg primitif &amp; tdk sadar dr kepribadian, gudang dr perangsang pokok. Id bekerja secara tdk rasional (tanpa mempertimbangkan apa yg diinginkan mungkin/dpt diterima dr segi moral. Id ingin mengerjakan apa yg dirasa bai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erego adalah gudang dr nilai individu, termasuk sikap moral masyarakat. Ia sesuai dg hati nurani mendorong untuk mengerjakan apa yang benar.  Superego seringkali bertentangan dg 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dangkan Ego bertugas sebagai wasit dr pertentangan  Id dan Superego. Ego bertugas untuk menentukan pilihan tindakan  yg memberi kepuasan hati tanpa mengakibatkan hal-hal yg tdk dikehendaki (Sigmund Freud, 196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ori Humanistis (Humanistic Theories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ekankan pd orangnya dan pentingnya perwujudan diri bagi kepribadian. Carl Rogers (1977) menasehatkan agar kita mendengarkan apa yang dikatakan orang ttg dirinya sendiri (people-centere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50920" y="260280"/>
            <a:ext cx="8540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BELAJ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Merupakan suatu proses terjadinya perubahan perilak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g relatif tetap sbg akibat dr prakt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enis belajar yg dipandang penting dlm mengembangkan &amp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merubah perilaku, yaitu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Classical Conditioning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Antara lonceng &amp; makanan bagi anjing (Pavlo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Operant Conditioning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Hadiah &amp; Hukuman sama efektifnya untuk memodifikasi perila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Observational Learning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omic Sans MS"/>
              </a:rPr>
              <a:t>Pemutaran video rekaman lawan untuk mengetahui kelemahannya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berapa Variabel Yg Mempengaruhi Perila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@ Kemampuan Fisik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@ Perseps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@ Kemampuan Menta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@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ka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@ Kepribadi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@ Belaj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@ Motivas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@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Keluarg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@ Kebuday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@ Klas sos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28600" y="1219320"/>
            <a:ext cx="22096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Vari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Fisiolog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934320" y="1219320"/>
            <a:ext cx="22096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Vari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sikolog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657600" y="990720"/>
            <a:ext cx="22096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erila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Indivi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581280" y="3733920"/>
            <a:ext cx="221004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Vari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ingku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2438280" y="18288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H="1">
            <a:off x="5943600" y="18288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 flipV="1">
            <a:off x="4572000" y="2209680"/>
            <a:ext cx="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-28800"/>
            <a:ext cx="80010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odel Perilaku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d-ID" sz="1800" spc="-1" strike="noStrike">
                <a:solidFill>
                  <a:srgbClr val="000000"/>
                </a:solidFill>
                <a:latin typeface="Comic Sans MS"/>
              </a:rPr>
              <a:t>Gibson, Ivancevich &amp; Donnel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198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533520" y="1095120"/>
            <a:ext cx="9677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ed Ba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80880" y="1541520"/>
            <a:ext cx="11430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eb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791320" y="1527120"/>
            <a:ext cx="15238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ust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onf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gelisa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133720" y="1600200"/>
            <a:ext cx="2286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riabel Fisiolo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riabel </a:t>
            </a:r>
            <a:r>
              <a:rPr b="0" lang="id-ID" sz="1800" spc="-1" strike="noStrike">
                <a:solidFill>
                  <a:srgbClr val="000000"/>
                </a:solidFill>
                <a:latin typeface="Comic Sans MS"/>
              </a:rPr>
              <a:t>Psi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lo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riabel </a:t>
            </a:r>
            <a:r>
              <a:rPr b="0" lang="id-ID" sz="1800" spc="-1" strike="noStrike">
                <a:solidFill>
                  <a:srgbClr val="000000"/>
                </a:solidFill>
                <a:latin typeface="Comic Sans MS"/>
              </a:rPr>
              <a:t>Lingkun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7937640" y="1555920"/>
            <a:ext cx="9144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uj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1530360" y="24382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9096480" y="2563920"/>
            <a:ext cx="0" cy="2666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 flipH="1" flipV="1">
            <a:off x="0" y="5293800"/>
            <a:ext cx="9075600" cy="39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"/>
          <p:cNvSpPr/>
          <p:nvPr/>
        </p:nvSpPr>
        <p:spPr>
          <a:xfrm flipV="1">
            <a:off x="0" y="2438280"/>
            <a:ext cx="0" cy="2895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0" y="243828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ight Arrow 14"/>
          <p:cNvSpPr/>
          <p:nvPr/>
        </p:nvSpPr>
        <p:spPr>
          <a:xfrm>
            <a:off x="4451400" y="1981080"/>
            <a:ext cx="1295280" cy="9144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l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7331040" y="245736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8839080" y="245412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Up Arrow 21"/>
          <p:cNvSpPr/>
          <p:nvPr/>
        </p:nvSpPr>
        <p:spPr>
          <a:xfrm>
            <a:off x="6372360" y="3441600"/>
            <a:ext cx="380880" cy="1741680"/>
          </a:xfrm>
          <a:prstGeom prst="upArrow">
            <a:avLst>
              <a:gd name="adj1" fmla="val 50000"/>
              <a:gd name="adj2" fmla="val 5004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Up Arrow 22"/>
          <p:cNvSpPr/>
          <p:nvPr/>
        </p:nvSpPr>
        <p:spPr>
          <a:xfrm>
            <a:off x="3124080" y="3429000"/>
            <a:ext cx="381240" cy="1739880"/>
          </a:xfrm>
          <a:prstGeom prst="upArrow">
            <a:avLst>
              <a:gd name="adj1" fmla="val 50000"/>
              <a:gd name="adj2" fmla="val 4994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50920" y="260280"/>
            <a:ext cx="8540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del tsb mengemukakan ttg 4 asumsi penting tentang Perilaku Individu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ilaku timbul karena sesuatu seba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ilaku diarahkan kepada tuju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ilaku yg terarah kepada tujuan dpt diganggu oleh frustasi, konflik &amp; kegelisah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ilaku timbul karena motivas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000000"/>
                </a:solidFill>
                <a:latin typeface="Comic Sans MS"/>
              </a:rPr>
              <a:t>PERSEP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omic Sans MS"/>
              </a:rPr>
              <a:t>Proses pemberian arti thd lingkungan oleh seorang individu (sebuah obyek punya banyak arti, tergantung pd pengetahuan &amp; pengalaman individ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ses Perseps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Gibson, Ivancevich &amp; Donnely, 1984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790640"/>
            <a:ext cx="9144000" cy="453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3"/>
          <p:cNvSpPr/>
          <p:nvPr/>
        </p:nvSpPr>
        <p:spPr>
          <a:xfrm>
            <a:off x="31680" y="2435400"/>
            <a:ext cx="175284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timulus (sistem imbalan gaji, arus pekerjaan, gaya persuasi supervis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ight Arrow 4"/>
          <p:cNvSpPr/>
          <p:nvPr/>
        </p:nvSpPr>
        <p:spPr>
          <a:xfrm>
            <a:off x="1832040" y="2590920"/>
            <a:ext cx="1447560" cy="99036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engamatan Stim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5"/>
          <p:cNvSpPr/>
          <p:nvPr/>
        </p:nvSpPr>
        <p:spPr>
          <a:xfrm>
            <a:off x="3317760" y="1900080"/>
            <a:ext cx="1752840" cy="23623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362320"/>
              <a:gd name="textAreaBottom" fmla="*/ 2277000 h 2362320"/>
            </a:gdLst>
            <a:ahLst/>
            <a:rect l="textAreaLeft" t="textAreaTop" r="textAreaRight" b="textAreaBottom"/>
            <a:pathLst>
              <a:path w="21600" h="29109">
                <a:moveTo>
                  <a:pt x="3600" y="0"/>
                </a:moveTo>
                <a:arcTo wR="3600" hR="3600" stAng="16200000" swAng="-5400000"/>
                <a:lnTo>
                  <a:pt x="0" y="25509"/>
                </a:lnTo>
                <a:arcTo wR="3600" hR="3600" stAng="10800000" swAng="-5400000"/>
                <a:lnTo>
                  <a:pt x="18000" y="29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aktor2 yg memengaruhi perseps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 Meni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Memilih-mili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Gambaran diri   sendi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. Situa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. Kebutu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. Em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7"/>
          <p:cNvSpPr/>
          <p:nvPr/>
        </p:nvSpPr>
        <p:spPr>
          <a:xfrm>
            <a:off x="5530680" y="271476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aluasi &amp; penafsiran kenyat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8"/>
          <p:cNvSpPr/>
          <p:nvPr/>
        </p:nvSpPr>
        <p:spPr>
          <a:xfrm>
            <a:off x="7327800" y="213372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erilaku tangg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9"/>
          <p:cNvSpPr/>
          <p:nvPr/>
        </p:nvSpPr>
        <p:spPr>
          <a:xfrm>
            <a:off x="7343640" y="3581280"/>
            <a:ext cx="12193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ikap yang terbent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ight Arrow 10"/>
          <p:cNvSpPr/>
          <p:nvPr/>
        </p:nvSpPr>
        <p:spPr>
          <a:xfrm>
            <a:off x="5118120" y="3048120"/>
            <a:ext cx="38088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Arrow 11"/>
          <p:cNvSpPr/>
          <p:nvPr/>
        </p:nvSpPr>
        <p:spPr>
          <a:xfrm rot="19530600">
            <a:off x="6729480" y="2481120"/>
            <a:ext cx="638280" cy="282600"/>
          </a:xfrm>
          <a:prstGeom prst="rightArrow">
            <a:avLst>
              <a:gd name="adj1" fmla="val 50000"/>
              <a:gd name="adj2" fmla="val 5033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ight Arrow 12"/>
          <p:cNvSpPr/>
          <p:nvPr/>
        </p:nvSpPr>
        <p:spPr>
          <a:xfrm rot="1365600">
            <a:off x="6735240" y="3618000"/>
            <a:ext cx="636840" cy="2840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9067680" y="2286000"/>
            <a:ext cx="76320" cy="3733920"/>
          </a:xfrm>
          <a:prstGeom prst="rect">
            <a:avLst/>
          </a:prstGeom>
          <a:solidFill>
            <a:srgbClr val="10253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 flipV="1">
            <a:off x="685800" y="6043680"/>
            <a:ext cx="8458200" cy="46080"/>
          </a:xfrm>
          <a:prstGeom prst="rect">
            <a:avLst/>
          </a:prstGeom>
          <a:solidFill>
            <a:srgbClr val="10253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Up Arrow 17"/>
          <p:cNvSpPr/>
          <p:nvPr/>
        </p:nvSpPr>
        <p:spPr>
          <a:xfrm>
            <a:off x="533520" y="3809880"/>
            <a:ext cx="171360" cy="2286000"/>
          </a:xfrm>
          <a:prstGeom prst="upArrow">
            <a:avLst>
              <a:gd name="adj1" fmla="val 50000"/>
              <a:gd name="adj2" fmla="val 50026"/>
            </a:avLst>
          </a:prstGeom>
          <a:solidFill>
            <a:srgbClr val="10253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5"/>
          <p:cNvSpPr/>
          <p:nvPr/>
        </p:nvSpPr>
        <p:spPr>
          <a:xfrm flipV="1">
            <a:off x="1219320" y="5559840"/>
            <a:ext cx="6781680" cy="795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6"/>
          <p:cNvSpPr/>
          <p:nvPr/>
        </p:nvSpPr>
        <p:spPr>
          <a:xfrm>
            <a:off x="7924680" y="4191120"/>
            <a:ext cx="76320" cy="137160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Up Arrow 27"/>
          <p:cNvSpPr/>
          <p:nvPr/>
        </p:nvSpPr>
        <p:spPr>
          <a:xfrm>
            <a:off x="1143000" y="3886200"/>
            <a:ext cx="152280" cy="1752480"/>
          </a:xfrm>
          <a:prstGeom prst="upArrow">
            <a:avLst>
              <a:gd name="adj1" fmla="val 50000"/>
              <a:gd name="adj2" fmla="val 50029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Up Arrow 28"/>
          <p:cNvSpPr/>
          <p:nvPr/>
        </p:nvSpPr>
        <p:spPr>
          <a:xfrm>
            <a:off x="2514600" y="3790800"/>
            <a:ext cx="152280" cy="175284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Up Arrow 29"/>
          <p:cNvSpPr/>
          <p:nvPr/>
        </p:nvSpPr>
        <p:spPr>
          <a:xfrm>
            <a:off x="2209680" y="3733920"/>
            <a:ext cx="152640" cy="2286000"/>
          </a:xfrm>
          <a:prstGeom prst="upArrow">
            <a:avLst>
              <a:gd name="adj1" fmla="val 50000"/>
              <a:gd name="adj2" fmla="val 49921"/>
            </a:avLst>
          </a:prstGeom>
          <a:solidFill>
            <a:srgbClr val="10253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Up Arrow 31"/>
          <p:cNvSpPr/>
          <p:nvPr/>
        </p:nvSpPr>
        <p:spPr>
          <a:xfrm>
            <a:off x="4305240" y="4324320"/>
            <a:ext cx="152640" cy="1219320"/>
          </a:xfrm>
          <a:prstGeom prst="upArrow">
            <a:avLst>
              <a:gd name="adj1" fmla="val 50000"/>
              <a:gd name="adj2" fmla="val 49926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Up Arrow 32"/>
          <p:cNvSpPr/>
          <p:nvPr/>
        </p:nvSpPr>
        <p:spPr>
          <a:xfrm>
            <a:off x="3886200" y="4343400"/>
            <a:ext cx="152280" cy="1676520"/>
          </a:xfrm>
          <a:prstGeom prst="upArrow">
            <a:avLst>
              <a:gd name="adj1" fmla="val 50000"/>
              <a:gd name="adj2" fmla="val 50052"/>
            </a:avLst>
          </a:prstGeom>
          <a:solidFill>
            <a:srgbClr val="10253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3"/>
          <p:cNvSpPr/>
          <p:nvPr/>
        </p:nvSpPr>
        <p:spPr>
          <a:xfrm>
            <a:off x="8610480" y="2286000"/>
            <a:ext cx="5335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K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upakan kesiap-siagaan mental, yang diorganisasi melalui pengalaman sehingga memengaruhi tanggapan seseorang thd orang, obyek dan situasi yg berhubungan denganny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3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GA KOMPONEN SIKAP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765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4"/>
          <p:cNvSpPr/>
          <p:nvPr/>
        </p:nvSpPr>
        <p:spPr>
          <a:xfrm>
            <a:off x="0" y="3276720"/>
            <a:ext cx="2482920" cy="1374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timulus: Variabel yg bebas (rancangan pekerjaan, gaya manajer, kebijakan perusahaan, teknologi, gaji, tunjang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2971800" y="3429000"/>
            <a:ext cx="121932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k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6"/>
          <p:cNvSpPr/>
          <p:nvPr/>
        </p:nvSpPr>
        <p:spPr>
          <a:xfrm>
            <a:off x="4419720" y="1676520"/>
            <a:ext cx="12189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f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7"/>
          <p:cNvSpPr/>
          <p:nvPr/>
        </p:nvSpPr>
        <p:spPr>
          <a:xfrm>
            <a:off x="4495680" y="3713040"/>
            <a:ext cx="12193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ogni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8"/>
          <p:cNvSpPr/>
          <p:nvPr/>
        </p:nvSpPr>
        <p:spPr>
          <a:xfrm>
            <a:off x="4495680" y="579132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eril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9"/>
          <p:cNvSpPr/>
          <p:nvPr/>
        </p:nvSpPr>
        <p:spPr>
          <a:xfrm>
            <a:off x="6064200" y="1600200"/>
            <a:ext cx="307980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anggapan emos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ernyataan senang &amp; tdk sen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12"/>
          <p:cNvSpPr/>
          <p:nvPr/>
        </p:nvSpPr>
        <p:spPr>
          <a:xfrm>
            <a:off x="6064200" y="3637080"/>
            <a:ext cx="30798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anggapan persep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ernyataan ttg kepercay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anggapan bertind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13"/>
          <p:cNvSpPr/>
          <p:nvPr/>
        </p:nvSpPr>
        <p:spPr>
          <a:xfrm>
            <a:off x="6064200" y="5638680"/>
            <a:ext cx="3079800" cy="79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ernyataan ttg peril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ight Arrow 14"/>
          <p:cNvSpPr/>
          <p:nvPr/>
        </p:nvSpPr>
        <p:spPr>
          <a:xfrm>
            <a:off x="2514600" y="39387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ight Arrow 15"/>
          <p:cNvSpPr/>
          <p:nvPr/>
        </p:nvSpPr>
        <p:spPr>
          <a:xfrm>
            <a:off x="4038480" y="3933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ight Arrow 16"/>
          <p:cNvSpPr/>
          <p:nvPr/>
        </p:nvSpPr>
        <p:spPr>
          <a:xfrm>
            <a:off x="5562720" y="3933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ight Arrow 17"/>
          <p:cNvSpPr/>
          <p:nvPr/>
        </p:nvSpPr>
        <p:spPr>
          <a:xfrm>
            <a:off x="5562720" y="59911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ight Arrow 18"/>
          <p:cNvSpPr/>
          <p:nvPr/>
        </p:nvSpPr>
        <p:spPr>
          <a:xfrm>
            <a:off x="5562720" y="18572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ight Arrow 19"/>
          <p:cNvSpPr/>
          <p:nvPr/>
        </p:nvSpPr>
        <p:spPr>
          <a:xfrm rot="18147000">
            <a:off x="3317400" y="2619000"/>
            <a:ext cx="1295640" cy="266760"/>
          </a:xfrm>
          <a:prstGeom prst="rightArrow">
            <a:avLst>
              <a:gd name="adj1" fmla="val 50000"/>
              <a:gd name="adj2" fmla="val 5722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ight Arrow 20"/>
          <p:cNvSpPr/>
          <p:nvPr/>
        </p:nvSpPr>
        <p:spPr>
          <a:xfrm rot="3447600">
            <a:off x="3318120" y="5207760"/>
            <a:ext cx="1295280" cy="268200"/>
          </a:xfrm>
          <a:prstGeom prst="rightArrow">
            <a:avLst>
              <a:gd name="adj1" fmla="val 50000"/>
              <a:gd name="adj2" fmla="val 5690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PRIBAD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omic Sans MS"/>
              </a:rPr>
              <a:t>Adalah serangkaian ciri yg relatif mantap, kecenderungan &amp; perangai yg sebagian besar dibentuk oleh faktor keturunan, sos-bud  lingkungan. Serangkaian variabel ini menentukan persamaan &amp; perbedaan dlm perilaku individ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alvatore R. Maddi, 1980)</a:t>
            </a:r>
            <a:r>
              <a:rPr b="0" lang="id-ID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06:36:52Z</dcterms:created>
  <dc:creator>sp4</dc:creator>
  <dc:description/>
  <dc:language>en-US</dc:language>
  <cp:lastModifiedBy>SERVER</cp:lastModifiedBy>
  <dcterms:modified xsi:type="dcterms:W3CDTF">2009-10-04T02:53:28Z</dcterms:modified>
  <cp:revision>58</cp:revision>
  <dc:subject/>
  <dc:title>Slide 1</dc:title>
</cp:coreProperties>
</file>