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FB3-D081-4F74-94A5-C325D282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EA4-F685-4D47-8287-B0484CE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112-5104-4830-BFBA-865AD627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B23-BC09-4BF0-BB08-995D3E63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342-6FBF-4C03-889A-4E13082D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266-E6FE-4ABF-85C5-12A3D597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1DB-4DC6-4140-97F9-A7FA67A0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D80-DF68-492F-9C06-B2D72704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ED5-D387-4927-8E05-DAA3E841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62F-03DB-4471-89DF-D96B0C0F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1A2-2B94-495B-9CA7-E8CA0FC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151-40C3-49AE-A738-BD28424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0966-2696-4ADA-8276-F315AA44E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8280" y="1165320"/>
            <a:ext cx="37260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22400" y="1062000"/>
            <a:ext cx="349740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36720" y="960480"/>
            <a:ext cx="3668760" cy="493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65520" y="960480"/>
            <a:ext cx="3611520" cy="493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03480" y="1547640"/>
            <a:ext cx="4937040" cy="37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668600"/>
            <a:ext cx="5040360" cy="352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6320" y="1062000"/>
            <a:ext cx="305136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7280" y="1062000"/>
            <a:ext cx="334944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169704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0160" y="1708200"/>
            <a:ext cx="5143680" cy="3440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2960" y="1062000"/>
            <a:ext cx="317808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00160" y="1662120"/>
            <a:ext cx="5143680" cy="3532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6520" y="1062000"/>
            <a:ext cx="345096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3:35:29Z</dcterms:created>
  <dc:creator>www.funnybytes.net</dc:creator>
  <dc:description/>
  <dc:language>en-US</dc:language>
  <cp:lastModifiedBy>Smets</cp:lastModifiedBy>
  <dcterms:modified xsi:type="dcterms:W3CDTF">2008-09-19T04:33:17Z</dcterms:modified>
  <cp:revision>6</cp:revision>
  <dc:subject/>
  <dc:title>PowerPoint Presentation</dc:title>
</cp:coreProperties>
</file>