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0B4-934A-409B-899B-56014CB6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237-491D-4196-AC6B-A888069D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E0C-D629-424B-9ECC-17ACBDDE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F10-B9EC-40CC-9C0A-1CD4B4DA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9F8-2775-4E18-816F-C27F60B1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904-A5B1-4C1A-85A7-39777893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3E6-C210-47AF-BA0F-022C54B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24E-F9DA-4958-8FE6-A9DC456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61D-0EB4-4EAC-8BB7-59B5D110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F86-7071-41F4-ACB8-B7C15CF8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600-25F8-4DC2-9F11-058B1791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5BE-A2C0-424C-8A28-D0EE2451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DDDE-BF6B-4FAD-A5F4-9A8E9DA62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8280" y="1165320"/>
            <a:ext cx="37260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22400" y="1062000"/>
            <a:ext cx="349740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36720" y="960480"/>
            <a:ext cx="3668760" cy="493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65520" y="960480"/>
            <a:ext cx="3611520" cy="493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03480" y="1547640"/>
            <a:ext cx="4937040" cy="37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668600"/>
            <a:ext cx="5040360" cy="352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6320" y="1062000"/>
            <a:ext cx="305136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7280" y="1062000"/>
            <a:ext cx="334944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169704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0160" y="1708200"/>
            <a:ext cx="5143680" cy="3440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2960" y="1062000"/>
            <a:ext cx="317808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00160" y="1662120"/>
            <a:ext cx="5143680" cy="3532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6520" y="1062000"/>
            <a:ext cx="345096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3:35:29Z</dcterms:created>
  <dc:creator>www.funnybytes.net</dc:creator>
  <dc:description/>
  <dc:language>en-US</dc:language>
  <cp:lastModifiedBy>Smets</cp:lastModifiedBy>
  <dcterms:modified xsi:type="dcterms:W3CDTF">2008-09-19T04:33:17Z</dcterms:modified>
  <cp:revision>6</cp:revision>
  <dc:subject/>
  <dc:title>PowerPoint Presentation</dc:title>
</cp:coreProperties>
</file>