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DC0EE-2163-43CB-9CBE-6666FA7E4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B88C1-2101-484E-BEF4-BD385787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BC3A4-41B9-4A81-8F99-E74093D20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D9287-8776-4784-8303-0A085A87C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BBE5-CBE7-4191-8C36-9ECED4A3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A82E-1123-436E-858E-810420E8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1025-309E-47D4-91DE-DBEB18894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C669-843E-42FB-A754-FADFD648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404F7-D67C-4676-AE45-72159A996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A138-1019-4571-9845-309FD7FA9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305E8-F715-4E35-9B5E-15581D18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0321-D606-4556-AF3B-26204D787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8E87-F154-4C6C-A92F-649AF7163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nemonia pada ana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3352680"/>
            <a:ext cx="403848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adaan Buk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152280"/>
            <a:ext cx="84582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ktor-faktor yang mempengaruh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nia yang terjadi pada bayi,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L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ak mendapat imunisasi,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ak mendapat ASI secara adeku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nutrisi,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siensi vitamin A,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janan polusi udara dan asap roko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3160" y="456840"/>
            <a:ext cx="830556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tuk Pnemonia berdasarkan temp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nemonia masyarakat (community-acquired pneumonia)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nemonia rumah sakit atau pneumonia nosokomi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ofisiolog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umnya mikroorganisme penyebab terhisap ke paru bagian perifer melalui saluran napas. Mula-mula terjadi edema akibat reaksi jaringan yang mempermudah proliferasi dan penyebaran kuman ke jaringan sekitarnya. Bagian paru yang terkena mengalami konsolidasi, yaitu terjadi serbukan sel PMN, fibrin, eritrosit, cairan edema dan ditemukan kuman dalam alveoli. Stadium ini disebut stadium hepatisasi merah. Selanjutnya, deposisi fibrin semakin bertambah, terdapat fibrin dan leukosit PMN di alveoli dan terjadi proses fagositosis yang cepat. Stadium ini disebut stadium hepatisasi kelabu. Kemudian, jumlah makrofag meningkat di alveoli, sel akan mengalami degenerasi, fibrin menipis, kuman dan debris menghilang. Stadium ini disebut stadium resolus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228600"/>
            <a:ext cx="8610480" cy="6324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ifestasi klinis dapat ditemukan : </a:t>
            </a:r>
            <a:endParaRPr b="0" lang="en-US" sz="32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jala infeksi umum: demam tinggi, sakit kepala, gelisah, malaise, penurunan nafsu makan, keluhan gastrointestinal seperti mual, muntah atau diare, kadang-kadang ditemukan gejala ekstra pulmonal </a:t>
            </a:r>
            <a:endParaRPr b="0" lang="en-US" sz="2400" spc="-1" strike="noStrike">
              <a:solidFill>
                <a:srgbClr val="000000"/>
              </a:solidFill>
              <a:latin typeface="Arial"/>
            </a:endParaRPr>
          </a:p>
          <a:p>
            <a:pPr lvl="1" marL="990720" indent="-533520" algn="just">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jala gangguan respirasi : batuk, sesak, retraksi dada, takipnu, napas cuping, </a:t>
            </a:r>
            <a:r>
              <a:rPr b="0" i="1" lang="en-US" sz="2400" spc="-1" strike="noStrike">
                <a:solidFill>
                  <a:srgbClr val="000000"/>
                </a:solidFill>
                <a:latin typeface="Arial"/>
              </a:rPr>
              <a:t>air hunger</a:t>
            </a:r>
            <a:r>
              <a:rPr b="0" lang="en-US" sz="2400" spc="-1" strike="noStrike">
                <a:solidFill>
                  <a:srgbClr val="000000"/>
                </a:solidFill>
                <a:latin typeface="Arial"/>
              </a:rPr>
              <a:t>, merintih dan sianosi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 pemeriksaan fisik dapat ditemukan: pekak perkusi, suara napas melemah dan ronki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eriksaan penunjang</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ah perifer lengkap</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ktif Protein (CRP)</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ji serologi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meriksaan mikrobiologi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to tora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alaksana</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gian besar pneumonia tidak perlu rawat inap. Cukup diberikan antibiotic Amoksilin 25mg/kg/hari dan penurun pana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monia yang memerlukan rawat inap; Pemberian antibiotik yang sesuai dan terapi suportif yaitu pemberian cairan intravena, terapi oksigen, koreksi gangguan asam-basa, gangguan keseimbangan elektrolit dan gula darah.</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mplikasi:</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iputi empiema torasis, perikarditis purulenta, pneumotoraks, atau infeksi ekstra pulmunal seperti meningitis purulen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23:17:38Z</dcterms:created>
  <dc:creator>user</dc:creator>
  <dc:description/>
  <dc:language>en-US</dc:language>
  <cp:lastModifiedBy>user</cp:lastModifiedBy>
  <dcterms:modified xsi:type="dcterms:W3CDTF">2008-11-30T23:35:17Z</dcterms:modified>
  <cp:revision>2</cp:revision>
  <dc:subject/>
  <dc:title>Pnemonia pada anak </dc:title>
</cp:coreProperties>
</file>