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869C-D86D-44C5-9C40-3FDBE47EE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A6E8-4784-4CB3-969B-041AE75F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6F44-29B2-40D4-AF08-BD7AF0D72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E04C-2624-45D3-BDE7-A93F8C28B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00C8-B868-4216-99E1-39CC0540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CEAD-31D1-4778-BD17-646578B2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B723-7D46-4A1F-A8C2-4508136E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26C0-493B-4B33-89A4-D7150750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4344-1E96-48D5-B2F6-E631E91C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ED9B-C033-4EF6-AC91-8F7C08D1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4F68-79F0-4676-A30C-E22B6CFC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BBEE-C345-4A7C-9981-5B3D49D5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D3E0-3D47-4D5A-B274-A9A92ED1D8A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29T01:12:57Z</dcterms:modified>
  <cp:revision>25</cp:revision>
  <dc:subject/>
  <dc:title>슬라이드 1</dc:title>
</cp:coreProperties>
</file>