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297-DA59-464D-B75A-89045252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F71-910D-4085-BF35-29712EE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AD8-BA70-41D0-A6BA-199EF074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D67-28C9-414D-9CA2-1B90DB2A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452-2A60-409E-A16D-8E1F11F0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F9D-1E29-4A7B-B5AE-6A58A02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8C2-6327-48D2-88B1-A234668C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00A-49E9-498C-A812-D413DA4E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071-C365-4142-A736-043A76FF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183-ED66-4A7A-86AC-15415E17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EE9-97B6-467D-81DF-E341A14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AB1-3EB6-4B98-AAC8-6DFD4F87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CC9E-270F-4CBD-A6AF-D63E6FECA2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9T01:12:57Z</dcterms:modified>
  <cp:revision>25</cp:revision>
  <dc:subject/>
  <dc:title>슬라이드 1</dc:title>
</cp:coreProperties>
</file>